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08A9-C35C-43FF-AD36-09563B88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EA31-131A-4FA1-8C41-9068631B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BB06-3FB7-415A-9848-9F0D1CCA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3FDC-FFC0-46E2-9117-C023DCCB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D20B-EBD4-4295-AB28-E35D0A11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7774-FAAC-41AC-86A9-09ED61F4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77AF-A880-49C8-B9D5-364CCF39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D4FA-CD21-4267-BDDD-72B6A426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CEC3-4AC9-4183-A1C0-21C8E921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BA29-0577-4E38-89FE-63A01FCB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9850-941D-4039-9A62-59DA2E48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E718-84E1-4FE4-BDB5-D009D9E8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6F50-0545-4BA6-A35A-E10601347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ystems of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12536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- set of alternatives (perhaps as functions of states of natur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- set of lotter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- set of attrib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68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ilateral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76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 of preferences over a set of elemen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50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arison reveals the order (relation) between pairs of elements. The comparison process checks all the entries in a ta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4370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 is ordered before y then (x,y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her (x,y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(x,y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re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265560" y="1633680"/>
          <a:ext cx="5460840" cy="1434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65560" y="1633680"/>
                    <a:ext cx="5460840" cy="14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0" y="566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implicity: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f (x,y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f (x,y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complement o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t is also a binary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1844640"/>
            <a:ext cx="280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92280"/>
            <a:ext cx="9144000" cy="63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X=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&gt;;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≯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X=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x=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y=(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&gt;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&gt;y  if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t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Times New Roman"/>
              </a:rPr>
              <a:t>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Times New Roman"/>
              </a:rPr>
              <a:t>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 if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≯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X=A: 4 possible statements and 3 binary rel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is better than y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 x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MS Mincho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;     (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MS Mincho"/>
              </a:rPr>
              <a:t>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S Mincho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MS Mincho"/>
              </a:rPr>
              <a:t>⊁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MS Minch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x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y, “x is not better than y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x is not worse than y” -  x≽</a:t>
            </a: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;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S Mincho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=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x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y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“x is worse than y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x is equivalent to y”    -  x~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x and y are incomparabl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binary order rel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3796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roperties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x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me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re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X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eflex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for all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rreflex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for all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mmet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ymmet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Comp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r connected):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or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for all x, 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1484280"/>
            <a:ext cx="4356000" cy="13816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metry implies irreflexivi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which is im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3710160"/>
          <a:ext cx="5251320" cy="3173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710160"/>
                    <a:ext cx="525132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859280" y="3860640"/>
            <a:ext cx="40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≽   define: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≻y: x≽y and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;                            x~y: x≽y and y≽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4210200"/>
            <a:ext cx="32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5951520"/>
          <a:ext cx="5292720" cy="1090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5951520"/>
                    <a:ext cx="5292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788000" y="5373720"/>
            <a:ext cx="4105080" cy="1557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≻ (and 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≽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ne:                                        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≽y: y⊁x;                                         x~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≽y and y≽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-324000" y="0"/>
          <a:ext cx="4569120" cy="1773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4000" y="0"/>
                    <a:ext cx="456912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576600" y="0"/>
          <a:ext cx="5567400" cy="1765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6600" y="0"/>
                    <a:ext cx="556740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0" y="1484280"/>
            <a:ext cx="9144000" cy="27504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sis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re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an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 every x,y,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and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gatively tran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 every x,y,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and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Acyc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 every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, 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221000"/>
            <a:ext cx="914400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vity and irreflexiv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ycli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ransitivity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y irreflexivity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516640"/>
            <a:ext cx="9144000" cy="13816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metry and negative transitiv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vi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and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and suppose that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. By asymmetry 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and by negative transitivity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which is a contradiction, hence 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22120" y="299880"/>
          <a:ext cx="6988320" cy="441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99880"/>
                    <a:ext cx="698832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0" y="299736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near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metric, transitive and comple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ak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metric  and negatively tran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Partial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metric and a tran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near ord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ak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Partial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656320" y="339840"/>
          <a:ext cx="5538600" cy="2944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56320" y="339840"/>
                    <a:ext cx="5538600" cy="29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0" y="6442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1577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Complete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ransitive and compl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Equivalence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flexive, symmetric and tran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21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vity is not sufficient to transform partial order to we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10:44:36Z</dcterms:created>
  <dc:creator>Moti Henig</dc:creator>
  <dc:description/>
  <dc:language>en-US</dc:language>
  <cp:lastModifiedBy>Henig</cp:lastModifiedBy>
  <dcterms:modified xsi:type="dcterms:W3CDTF">2004-11-02T14:32:50Z</dcterms:modified>
  <cp:revision>129</cp:revision>
  <dc:subject/>
  <dc:title>Slide 1</dc:title>
</cp:coreProperties>
</file>