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451-6A4C-4DA5-84C4-FCB37CE3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B44C-E3F0-4540-8278-86EE8D0E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8D81-BEB4-4CC0-BFC5-0D10C6C2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2B1C-C106-49AF-A935-EA1C41F3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41EB-9C4E-4600-AC3C-78F166C3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7CE8-A26A-43F5-A150-0757D724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F8D5-5927-46B4-95E2-9AC540B7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01C-C277-4FF8-A7F6-7AC41ACF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E08-9B40-4A88-9A92-3015D7B3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F2B7-D2B9-427B-A2AA-A4807C6C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64D-FC81-4768-819C-5EA32510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1C8-5A70-4644-B956-D48D97F7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7962-0215-4FD7-BA28-F6F817CE5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ystems of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12536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- set of alternatives (perhaps as functions of states of natur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- set of lotter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- set of attrib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68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lateral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6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 of preferences over a set of elemen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50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arison reveals the order (relation) between pairs of elements. The comparison process checks all the entries in a ta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4370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 is ordered before y then (x,y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 (x,y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(x,y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re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265560" y="1633680"/>
          <a:ext cx="5460840" cy="143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65560" y="1633680"/>
                    <a:ext cx="5460840" cy="14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0" y="566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implicity: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f (x,y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f (x,y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complement o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t is also a binary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844640"/>
            <a:ext cx="28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92280"/>
            <a:ext cx="9144000" cy="63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X=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&gt;;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≯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X=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x=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y=(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&gt;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&gt;y  if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t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Times New Roman"/>
              </a:rPr>
              <a:t>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Times New Roman"/>
              </a:rPr>
              <a:t>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 if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≯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X=A: 4 possible statements and 3 binary rel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is better than y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 x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MS Mincho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;     (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MS Mincho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MS Mincho"/>
              </a:rPr>
              <a:t>⊁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x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y, “x is not better than y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x is not worse than y” -  x≽</a:t>
            </a: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;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=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x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y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“x is worse than y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x is equivalent to y”    -  x~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x and y are incomparabl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binary order rel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796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roperties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x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me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re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X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flex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for all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rreflex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for all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mmet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ymmet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r connected):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or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for all x, 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1484280"/>
            <a:ext cx="4356000" cy="13816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y implies irreflexivi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which is im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3710160"/>
          <a:ext cx="5251320" cy="3173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710160"/>
                    <a:ext cx="525132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859280" y="3860640"/>
            <a:ext cx="40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≽   define: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≻y: x≽y and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;                            x~y: x≽y and y≽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4210200"/>
            <a:ext cx="32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5951520"/>
          <a:ext cx="5292720" cy="1090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5951520"/>
                    <a:ext cx="5292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788000" y="5373720"/>
            <a:ext cx="4105080" cy="1557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≻ (and 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≽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ne:                                        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≽y: y⊁x;                                         x~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≽y and y≽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-324000" y="0"/>
          <a:ext cx="4569120" cy="1773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4000" y="0"/>
                    <a:ext cx="456912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576600" y="0"/>
          <a:ext cx="5567400" cy="1765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6600" y="0"/>
                    <a:ext cx="556740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0" y="1484280"/>
            <a:ext cx="9144000" cy="27504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re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an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every x,y,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and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gatively tran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every x,y,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and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Acyc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every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221000"/>
            <a:ext cx="914400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vity and irreflexiv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ycli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ransitivity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y irreflexivity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516640"/>
            <a:ext cx="9144000" cy="13816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y and negative transitiv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vi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and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and suppose that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. By asymmetry 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and by negative transitivity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which is a contradiction, hence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22120" y="299880"/>
          <a:ext cx="6988320" cy="441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99880"/>
                    <a:ext cx="698832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0" y="299736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near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ic, transitive and comple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ak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ic  and negatively tran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Partial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ic and a tran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near ord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ak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Partial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656320" y="339840"/>
          <a:ext cx="5538600" cy="2944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56320" y="339840"/>
                    <a:ext cx="5538600" cy="29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0" y="6442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1577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Complete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ransitive and comp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Equivalence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lexive, symmetric and tran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21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vity is not sufficient to transform partial order to we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0:44:36Z</dcterms:created>
  <dc:creator>Moti Henig</dc:creator>
  <dc:description/>
  <dc:language>en-US</dc:language>
  <cp:lastModifiedBy>Henig</cp:lastModifiedBy>
  <dcterms:modified xsi:type="dcterms:W3CDTF">2004-11-02T14:32:50Z</dcterms:modified>
  <cp:revision>129</cp:revision>
  <dc:subject/>
  <dc:title>Slide 1</dc:title>
</cp:coreProperties>
</file>