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BD7-0AA3-4BE8-8676-80EBBB54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776-6F2E-41C5-ABD9-7C76CE8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839-BCF0-4605-9FD3-042A31CF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A22-C28D-417E-BDA7-D5FEA02D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1A0-6875-4760-B9A7-5A9E40D3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525-1006-404F-BC95-76BD9EA4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E7F-B57E-40C4-ABDB-30B5175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3C0-61CE-4E91-A757-847EE349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283-0DFE-44E6-B465-69514DA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CFF-FEF1-4A3D-A62D-9143310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E70-CC0B-4333-8085-1ABBC90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A77-C1FA-4122-B605-F7843DE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A554-D709-44A0-BE9B-D39F95A6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s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53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et of alternatives (perhaps as functions of states of nat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set of lotter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set of at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lateral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preferences over a set of el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rison reveals the order (relation) between pairs of elements. The comparison process checks all the entries in a t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43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 is ordered before y then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65560" y="1633680"/>
          <a:ext cx="5460840" cy="143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5560" y="1633680"/>
                    <a:ext cx="54608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lement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 is also a binary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84464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92280"/>
            <a:ext cx="914400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X=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≯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X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x=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y=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y  if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=A: 4 possible statements and 3 binary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better than 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⊁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 “x is not better than 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not worse than y” -  x≽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“x is worse than 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equivalent to y”    -  x~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and y are incompar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binary order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ropertie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x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connected)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,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84280"/>
            <a:ext cx="4356000" cy="13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implies irreflex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which is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710160"/>
          <a:ext cx="525132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10160"/>
                    <a:ext cx="52513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59280" y="386064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   define: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≻y: x≽y and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;                            x~y: x≽y and y≽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21020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5951520"/>
          <a:ext cx="5292720" cy="109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51520"/>
                    <a:ext cx="5292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88000" y="5373720"/>
            <a:ext cx="41050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≻ (an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:                                        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y: y⊁x;                                         x~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≽y and y≽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324000" y="0"/>
          <a:ext cx="456912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0"/>
                    <a:ext cx="45691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576600" y="0"/>
          <a:ext cx="5567400" cy="1765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6600" y="0"/>
                    <a:ext cx="556740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1484280"/>
            <a:ext cx="9144000" cy="2750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gatively 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21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and irreflex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ycl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ransitivit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y irreflexivity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and negative transit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nd suppose tha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 By asymmetry 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by negative transitivity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which is a contradiction, hence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2120" y="299880"/>
          <a:ext cx="698832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99880"/>
                    <a:ext cx="69883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29973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, transitive and compl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 and negatively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and a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56320" y="339840"/>
          <a:ext cx="5538600" cy="294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6320" y="339840"/>
                    <a:ext cx="55386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6442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5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Complet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itive and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Equivalenc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lexive, symmetric and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is not sufficient to transform partial order to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4:36Z</dcterms:created>
  <dc:creator>Moti Henig</dc:creator>
  <dc:description/>
  <dc:language>en-US</dc:language>
  <cp:lastModifiedBy>Henig</cp:lastModifiedBy>
  <dcterms:modified xsi:type="dcterms:W3CDTF">2004-11-02T14:32:50Z</dcterms:modified>
  <cp:revision>129</cp:revision>
  <dc:subject/>
  <dc:title>Slide 1</dc:title>
</cp:coreProperties>
</file>