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5E1-C5AB-4B9A-996A-6C25DF4F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4F6-32D8-4E78-9207-217D8844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998-BC6E-4A38-ABD7-D7DE80C9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E1CA-E3A1-40F0-9169-34668740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2A1-A0EC-4950-ADE7-D46E20AF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5BD-5D09-4848-899D-2D86B12E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78C-A422-43A7-AA56-246D3437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F4B-AED3-42F9-B523-88153B37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8B8-DD2F-45BE-8316-9B32F3A8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95F-EA8F-401E-B9FB-769D6D89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769-1689-4EDB-AB8E-183668BF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225-D4CE-41DC-BBE1-45A57463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F118-5769-4038-A9BC-DD6CDFB47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4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tersburg 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me is played by flipping a fair co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comes up tails, and the total number of flips, n, determines the prize, which equal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X be the prize. The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X=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/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V=E(X)=2/2+4/4+…+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=1+1+1+1...+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781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iel Bernoulli (1738): The marginal “utility” of money is decrea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37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429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bling: The ticket is more expensive than the expected prof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: Premium is higher than expected lo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4495680"/>
          <a:ext cx="7321680" cy="23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495680"/>
                    <a:ext cx="73216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12000" y="4653000"/>
            <a:ext cx="313200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is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r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amount which I am indifferent between it and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273480"/>
            <a:ext cx="9144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OREM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der assumptions 1-7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very lotte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={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,      (m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)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E(L)= 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...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s such that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=1,…,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9000"/>
            <a:ext cx="478800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0.8);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0.2)}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E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75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06920" y="189000"/>
          <a:ext cx="4537080" cy="280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6920" y="189000"/>
                    <a:ext cx="453708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50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tional Choice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von Neumann and Oskar Morgenstern, 194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theory for formulation of preferences and selection of alternatives under r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nal norms in determining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personal prefere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95520"/>
            <a:ext cx="914400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simpl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t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‑ A fini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 list of payoffs with their probabilities - L={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…;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3722760"/>
            <a:ext cx="36576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78016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 lott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lottery of lotter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={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35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cision tree is a compound lottery for every poli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3710160"/>
          <a:ext cx="6324480" cy="27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10160"/>
                    <a:ext cx="6324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flipH="1">
            <a:off x="-181440" y="2421000"/>
            <a:ext cx="9649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er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645000"/>
            <a:ext cx="9144000" cy="181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Representation of the preference order by a function which maps the lotteries into the real line, so that the order of the lotteries is determined by the numerical valu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,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&gt;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 A set of (all) lotteries with the binary relation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e w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600200"/>
            <a:ext cx="9144000" cy="2135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Full order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ording to the preferences binary rel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omplete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For every pair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                                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ransi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478480"/>
            <a:ext cx="9144000" cy="1432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Representation of the preference order by a function so that the value of a lottery is the values of the outcomes weighted by its probabilit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,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600200"/>
            <a:ext cx="914400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xistence 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very lottery L there exists a uniqu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57200"/>
            <a:ext cx="9144000" cy="1015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taint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tar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valence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ttery L, is a real number so tha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) ~ 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struct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of for the exist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“utility function”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10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962520"/>
            <a:ext cx="914400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R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c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rence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tery ‑ 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(M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; (m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,   0&lt;p&lt;1;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maximum possible rewar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- the minimum  possible rewar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334120"/>
            <a:ext cx="9144000" cy="157212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real function x(p), 0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p)~L(p):    x(p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L(p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(0)= m and x(1)= 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352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s the CME for every lottery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743200"/>
            <a:ext cx="9144000" cy="52560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 transi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   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&gt;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5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28600" y="1279440"/>
          <a:ext cx="419112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79440"/>
                    <a:ext cx="41911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724280" y="914400"/>
          <a:ext cx="4419720" cy="5943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914400"/>
                    <a:ext cx="4419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429000" y="2133720"/>
          <a:ext cx="914400" cy="2590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2133720"/>
                    <a:ext cx="9144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716360" y="981000"/>
          <a:ext cx="4427640" cy="5877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981000"/>
                    <a:ext cx="44276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0" y="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(p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{(100, p);(-100,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(0)= -100 and x(1)=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1572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mplete the construction we 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Continu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p) is continuous in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Monotoni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p) is increasing in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715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lottery can be described in terms of a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R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38280"/>
            <a:ext cx="370836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, CME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,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E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,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E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352680" y="1676520"/>
          <a:ext cx="579132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676520"/>
                    <a:ext cx="57913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0" y="5661000"/>
            <a:ext cx="9144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={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..,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such that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=1,…,n;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.e., 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~L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(M,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(m,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  L`={(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(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...,(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([(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, 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([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, 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2133720"/>
          <a:ext cx="350532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35053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Substit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~L`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267080" y="2286000"/>
          <a:ext cx="4267440" cy="45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286000"/>
                    <a:ext cx="4267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89154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`={([(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, 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([(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, 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   L``={(M,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...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; (m, 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...+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1052640"/>
          <a:ext cx="441936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52640"/>
                    <a:ext cx="441936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076720" y="1341360"/>
          <a:ext cx="3276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341360"/>
                    <a:ext cx="3276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724280" y="39337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Re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p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`~L``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445000"/>
            <a:ext cx="914400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 transitivity L~L``, 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E(L) = CME(L``) = 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...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7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0"/>
            <a:ext cx="883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0.2);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0.8)},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       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8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3505320"/>
          <a:ext cx="274320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05320"/>
                    <a:ext cx="27432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352680" y="2590920"/>
          <a:ext cx="3429000" cy="3352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590920"/>
                    <a:ext cx="34290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7315200" y="3581280"/>
          <a:ext cx="1828800" cy="20574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3581280"/>
                    <a:ext cx="1828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0" y="533520"/>
            <a:ext cx="9144000" cy="21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`={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0.2), ),(L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8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0.8)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([(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0.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([(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0.8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, 0.8)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”={(M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0.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0.2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8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0.8);(m,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0.2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8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0.8))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E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0.2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8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0.8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0.79)=2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2895480"/>
          <a:ext cx="5791320" cy="39625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895480"/>
                    <a:ext cx="57913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3T12:51:33Z</dcterms:created>
  <dc:creator>Moti Henig</dc:creator>
  <dc:description/>
  <dc:language>en-US</dc:language>
  <cp:lastModifiedBy>............</cp:lastModifiedBy>
  <dcterms:modified xsi:type="dcterms:W3CDTF">2004-10-18T23:54:19Z</dcterms:modified>
  <cp:revision>275</cp:revision>
  <dc:subject/>
  <dc:title>PowerPoint Presentation</dc:title>
</cp:coreProperties>
</file>