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7F3-9FA2-4A4F-9E8C-AC7CFACA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013-26DC-44C6-AEBA-E0F876C7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5B7-6F72-40FA-B94E-9CA3FDCC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825-2A10-4F40-8F17-2DBDD517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890-E0F5-4D96-963C-A905D41D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C4E-292E-426E-BC51-2210B9F0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810-2D17-4442-85EE-000CEADB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4E29-7E55-4590-ACE7-4BA529D9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172-AD23-455F-8D55-B0A615FD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2C7-EFF3-40EE-81CA-A9146E9C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FAC-3D3D-4126-8360-9879494C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DEDD-1B19-4A68-87D2-6452711C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F5F9-5584-4D4B-9D3A-855074562692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8080"/>
            <a:ext cx="9144000" cy="26845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ist of alternatives is well‑defin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e decision mak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 time dimens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 involvement of other decision mak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lear objective of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maximizing rew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343400"/>
            <a:ext cx="9144000" cy="21283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ahoma"/>
                <a:ea typeface="Times New Roman"/>
              </a:rPr>
              <a:t>Stat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problem with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  <a:ea typeface="Times New Roman"/>
              </a:rPr>
              <a:t>certain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ery alternative has 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certai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utc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eptu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blem of defining the best alternati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list may b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 bi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allow for a direct sort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Choic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 the following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1773360"/>
          <a:ext cx="8893080" cy="2857320"/>
        </p:xfrm>
        <a:graphic>
          <a:graphicData uri="http://schemas.openxmlformats.org/drawingml/2006/table">
            <a:tbl>
              <a:tblPr/>
              <a:tblGrid>
                <a:gridCol w="2262240"/>
                <a:gridCol w="1672920"/>
                <a:gridCol w="1459080"/>
                <a:gridCol w="2041560"/>
                <a:gridCol w="1457280"/>
              </a:tblGrid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 &amp; In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x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regret val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i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regr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gr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Adding an alternative may change the order between existing alterna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0920" y="1989000"/>
          <a:ext cx="6235560" cy="1992240"/>
        </p:xfrm>
        <a:graphic>
          <a:graphicData uri="http://schemas.openxmlformats.org/drawingml/2006/table">
            <a:tbl>
              <a:tblPr/>
              <a:tblGrid>
                <a:gridCol w="2274840"/>
                <a:gridCol w="1981080"/>
                <a:gridCol w="19796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i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0" y="878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an impresario who considers signing Madonna for a show in the national stadium. Depending of the weather you profits, in 1000s,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2670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ance against a bad weather costs 50,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32920" y="0"/>
            <a:ext cx="45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</a:rPr>
              <a:t>Stat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problem under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30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c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depend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of n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se realizations will be known only l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716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s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of natu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sjoint and exhaustiv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x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 -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co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ecessarily money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y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, 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-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func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9440" y="4049640"/>
          <a:ext cx="7875720" cy="2808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440" y="4049640"/>
                    <a:ext cx="7875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635280" y="3573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process 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mak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(true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ate of n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vea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utc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ttain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sense that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aken only o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590920"/>
            <a:ext cx="914400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min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lternative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  domin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lternative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 states of na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t least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3987720"/>
          <a:ext cx="7991280" cy="2033640"/>
        </p:xfrm>
        <a:graphic>
          <a:graphicData uri="http://schemas.openxmlformats.org/drawingml/2006/table">
            <a:tbl>
              <a:tblPr/>
              <a:tblGrid>
                <a:gridCol w="2212920"/>
                <a:gridCol w="1925640"/>
                <a:gridCol w="1927080"/>
                <a:gridCol w="1925640"/>
              </a:tblGrid>
              <a:tr h="65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 &amp; In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i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oice rules under uncertainty or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3352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making under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ertain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ies of states of nature are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not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ies of states of natur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si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421000"/>
            <a:ext cx="9144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p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Select the alternative whi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ximizes the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simple average re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ciple of insufficient r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.e. if we cannot tell which outcome is more likely, we ought to assign equal probabiliti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5360" y="4114800"/>
          <a:ext cx="8847360" cy="457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360" y="4114800"/>
                    <a:ext cx="8847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80880"/>
            <a:ext cx="9144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xi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f reward). Select the alternative which maximizes it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maximum possible re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]}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optimistic 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2120" y="2443320"/>
          <a:ext cx="8791560" cy="4964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443320"/>
                    <a:ext cx="879156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Maxi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f reward). Select the alternative which maximizes it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minimum possible re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min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]}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essimistic 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5360" y="1219320"/>
          <a:ext cx="8847360" cy="4952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360" y="1219320"/>
                    <a:ext cx="88473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0" y="5229360"/>
            <a:ext cx="9144000" cy="14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‑ 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Select the alternative which maximizes som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weighted average of its maximum and minimum possible rew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i="1" lang="he-IL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]+(1</a:t>
            </a:r>
            <a:r>
              <a:rPr b="0" i="1" lang="he-IL" sz="3600" spc="-1" strike="noStrike">
                <a:solidFill>
                  <a:srgbClr val="000000"/>
                </a:solidFill>
                <a:latin typeface="Symbol"/>
                <a:ea typeface="Symbol"/>
              </a:rPr>
              <a:t>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min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]}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nimum (maximum) Regr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                                                                 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ret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alternati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st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=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0" i="1" lang="he-IL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 the alternative which minimizes it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maximum possible regr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G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]}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-65160" y="2820960"/>
          <a:ext cx="9051840" cy="467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5160" y="2820960"/>
                    <a:ext cx="905184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209680" y="2362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2362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re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ar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descrip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les! but each of them mak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n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ever, they violate reasonabl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  <a:ea typeface="Arial"/>
              </a:rPr>
              <a:t>no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p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refining the states of nature may change the sel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9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‑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Adding a constant to each reward in a certain state of nature may change the order between the alterna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5360" y="3213000"/>
          <a:ext cx="8847360" cy="348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360" y="3213000"/>
                    <a:ext cx="884736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3:42:05Z</dcterms:created>
  <dc:creator>Moti Henig</dc:creator>
  <dc:description/>
  <dc:language>en-US</dc:language>
  <cp:lastModifiedBy>Henig</cp:lastModifiedBy>
  <dcterms:modified xsi:type="dcterms:W3CDTF">2004-10-14T20:07:39Z</dcterms:modified>
  <cp:revision>145</cp:revision>
  <dc:subject/>
  <dc:title>PowerPoint Presentation</dc:title>
</cp:coreProperties>
</file>