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2C4-ED73-46A6-B221-36348653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1E1-AEAB-48C0-9815-05B8E427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2E7-7946-4869-BD83-6CD87EB7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6A2-597B-4E7D-9FA9-64169C7C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966-FF76-4D42-B68D-F71BF0D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7F7-A4BD-40A2-999E-4676A72A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2C5-1092-4E1A-AF3B-E3A880D9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0A5-1233-4313-B768-3CBC2418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0C5-0944-4465-BD21-4593A696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3ED-3698-4C5A-BE11-894C1CD2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9F9-2037-4A1D-B151-14E71AB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28F-5BD3-41FD-879C-2EE19F0E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4D19-E72B-440C-BBA6-3F3B86842E8B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2684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st of alternatives is well‑defin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decision mak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time dimens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involvement of other decision mak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 objective of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maximizing rew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43400"/>
            <a:ext cx="9144000" cy="21283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ea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problem with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certain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ery alternative has 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erta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ut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ptu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 of defining the best altern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ist may b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 bi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allow for a direct sor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Choi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 the follow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773360"/>
          <a:ext cx="8893080" cy="2857320"/>
        </p:xfrm>
        <a:graphic>
          <a:graphicData uri="http://schemas.openxmlformats.org/drawingml/2006/table">
            <a:tbl>
              <a:tblPr/>
              <a:tblGrid>
                <a:gridCol w="2262240"/>
                <a:gridCol w="1672920"/>
                <a:gridCol w="1459080"/>
                <a:gridCol w="2041560"/>
                <a:gridCol w="14572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x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regret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eg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n alternative may change the order between existing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1989000"/>
          <a:ext cx="6235560" cy="1992240"/>
        </p:xfrm>
        <a:graphic>
          <a:graphicData uri="http://schemas.openxmlformats.org/drawingml/2006/table">
            <a:tbl>
              <a:tblPr/>
              <a:tblGrid>
                <a:gridCol w="2274840"/>
                <a:gridCol w="1981080"/>
                <a:gridCol w="1979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0" y="878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n impresario who considers signing Madonna for a show in the national stadium. Depending of the weather you profits, in 1000s,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67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against a bad weather costs 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2920" y="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blem under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pen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realizations will be known only l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joint and exhaustiv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x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ecessarily money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,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fun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9440" y="4049640"/>
          <a:ext cx="7875720" cy="28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4049640"/>
                    <a:ext cx="7875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635280" y="3573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proces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ak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(true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te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vea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tta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ense that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aken only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dom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states of n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t least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3987720"/>
          <a:ext cx="7991280" cy="2033640"/>
        </p:xfrm>
        <a:graphic>
          <a:graphicData uri="http://schemas.openxmlformats.org/drawingml/2006/table">
            <a:tbl>
              <a:tblPr/>
              <a:tblGrid>
                <a:gridCol w="2212920"/>
                <a:gridCol w="1925640"/>
                <a:gridCol w="1927080"/>
                <a:gridCol w="192564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uncertainty or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 under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2100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zes th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simple averag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 of insufficie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e. if we cannot tell which outcome is more likely, we ought to assign equal probabil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5360" y="4114800"/>
          <a:ext cx="884736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4114800"/>
                    <a:ext cx="884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x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pt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2120" y="2443320"/>
          <a:ext cx="8791560" cy="49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443320"/>
                    <a:ext cx="87915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xi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in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ess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5360" y="1219320"/>
          <a:ext cx="8847360" cy="49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1219320"/>
                    <a:ext cx="8847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5229360"/>
            <a:ext cx="914400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maximizes som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weighted average of its maximum and minimum possible re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+(1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min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 (maximum)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      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ret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alterna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st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 the alternative which min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5160" y="2820960"/>
          <a:ext cx="9051840" cy="467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5160" y="2820960"/>
                    <a:ext cx="9051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09680" y="2362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re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scrip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s! but each of them mak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they violate reasonabl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Arial"/>
              </a:rPr>
              <a:t>n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refining the states of nature may change the sel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 constant to each reward in a certain state of nature may change the order between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5360" y="3213000"/>
          <a:ext cx="8847360" cy="34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3213000"/>
                    <a:ext cx="88473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3:42:05Z</dcterms:created>
  <dc:creator>Moti Henig</dc:creator>
  <dc:description/>
  <dc:language>en-US</dc:language>
  <cp:lastModifiedBy>Henig</cp:lastModifiedBy>
  <dcterms:modified xsi:type="dcterms:W3CDTF">2004-10-14T20:07:39Z</dcterms:modified>
  <cp:revision>145</cp:revision>
  <dc:subject/>
  <dc:title>PowerPoint Presentation</dc:title>
</cp:coreProperties>
</file>