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72A-E702-4C1A-BBE9-7096CF67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BC8-9607-4013-AA8A-A54F0072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691-A223-4B5A-B1EA-2D369F0F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A91-D3EF-4248-9AB5-0756F25F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EC4-BEE0-4E0B-9B63-4FAD5DBD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6FB-763B-40B9-AAA3-C3B22875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70B-44B6-496A-A796-5A1063AF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C42-AD71-4F27-9CCA-38FC743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5ED-4CFD-4005-8A91-F71F330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B2C-CB3B-4176-B061-094C7EE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0E4-5941-499B-AD07-A7B17961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A28-E7A4-46F4-BFE4-6424065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A66-1144-4A5F-BEAD-A0A7E48B41E8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2684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of alternatives is well‑defin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decision mak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time dimens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involvement of other decision mak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objective of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maximizing rew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43400"/>
            <a:ext cx="9144000" cy="21283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ea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problem with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certain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ery alternative has 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erta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ptu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 of defining the best altern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ist may b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 b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allow for a direct sor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Cho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 the follow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773360"/>
          <a:ext cx="8893080" cy="2857320"/>
        </p:xfrm>
        <a:graphic>
          <a:graphicData uri="http://schemas.openxmlformats.org/drawingml/2006/table">
            <a:tbl>
              <a:tblPr/>
              <a:tblGrid>
                <a:gridCol w="2262240"/>
                <a:gridCol w="1672920"/>
                <a:gridCol w="1459080"/>
                <a:gridCol w="2041560"/>
                <a:gridCol w="14572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x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regret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eg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n alternative may change the order between existing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1989000"/>
          <a:ext cx="6235560" cy="1992240"/>
        </p:xfrm>
        <a:graphic>
          <a:graphicData uri="http://schemas.openxmlformats.org/drawingml/2006/table">
            <a:tbl>
              <a:tblPr/>
              <a:tblGrid>
                <a:gridCol w="2274840"/>
                <a:gridCol w="1981080"/>
                <a:gridCol w="1979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0" y="878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n impresario who considers signing Madonna for a show in the national stadium. Depending of the weather you profits, in 1000s,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against a bad weather costs 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2920" y="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blem unde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pen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realizations will be known only l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joint and exhaustiv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x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ecessarily money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,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fun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9440" y="4049640"/>
          <a:ext cx="7875720" cy="28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4049640"/>
                    <a:ext cx="7875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635280" y="357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proces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a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(true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te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vea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tta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nse th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aken only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do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states of n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3987720"/>
          <a:ext cx="7991280" cy="2033640"/>
        </p:xfrm>
        <a:graphic>
          <a:graphicData uri="http://schemas.openxmlformats.org/drawingml/2006/table">
            <a:tbl>
              <a:tblPr/>
              <a:tblGrid>
                <a:gridCol w="2212920"/>
                <a:gridCol w="1925640"/>
                <a:gridCol w="1927080"/>
                <a:gridCol w="192564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uncertainty or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 under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2100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s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simple averag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insufficie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e. if we cannot tell which outcome is more likely, we ought to assign equal probabil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5360" y="4114800"/>
          <a:ext cx="884736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4114800"/>
                    <a:ext cx="884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x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t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2120" y="2443320"/>
          <a:ext cx="8791560" cy="49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443320"/>
                    <a:ext cx="8791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in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ess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5360" y="1219320"/>
          <a:ext cx="8847360" cy="49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1219320"/>
                    <a:ext cx="8847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5229360"/>
            <a:ext cx="9144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maximizes so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weighted average of its maximum and minimum possible re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+(1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min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 (maximum)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ret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alterna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the alternative which min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5160" y="2820960"/>
          <a:ext cx="9051840" cy="46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5160" y="2820960"/>
                    <a:ext cx="9051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096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re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scrip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s! but each of them mak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y violate reasonabl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Arial"/>
              </a:rPr>
              <a:t>n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refining the states of nature may change the se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 constant to each reward in a certain state of nature may change the order between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5360" y="3213000"/>
          <a:ext cx="8847360" cy="34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3213000"/>
                    <a:ext cx="88473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3:42:05Z</dcterms:created>
  <dc:creator>Moti Henig</dc:creator>
  <dc:description/>
  <dc:language>en-US</dc:language>
  <cp:lastModifiedBy>Henig</cp:lastModifiedBy>
  <dcterms:modified xsi:type="dcterms:W3CDTF">2004-10-14T20:07:39Z</dcterms:modified>
  <cp:revision>145</cp:revision>
  <dc:subject/>
  <dc:title>PowerPoint Presentation</dc:title>
</cp:coreProperties>
</file>