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453-CA11-4091-81F7-2357971D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3AE-E8BD-4B24-8A67-C1F5AD5B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379-8CAD-4F97-955C-837E3066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15D-BCB9-4C13-A523-90EE92CD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8A6-6BEB-4B19-A7EA-17C5BB60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E69-531A-4173-8F1D-06BAD34C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04B-5850-47FE-AE86-D959646C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59D-EF9A-4A70-A658-A4C9849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6B2-A945-4553-82E9-8DFBB80D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038-BAF6-44A2-A0D9-15D2C5F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7FA-2419-4E46-AA12-5F004AA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4DE-C644-4E7D-9B04-CC5A3EF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77F-141C-443B-82E2-6C90951273ED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20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iven probabilities, the alternatives can be presented by distribution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e a random variable with a distribu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tochastic do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20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M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pect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tary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ue - criter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probability that state of n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s)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819160"/>
            <a:ext cx="5334120" cy="2015640"/>
            <a:chOff x="1295280" y="2819160"/>
            <a:chExt cx="5334120" cy="2015640"/>
          </a:xfrm>
        </p:grpSpPr>
        <p:sp>
          <p:nvSpPr>
            <p:cNvPr id="45" name=""/>
            <p:cNvSpPr/>
            <p:nvPr/>
          </p:nvSpPr>
          <p:spPr>
            <a:xfrm>
              <a:off x="4419720" y="347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3280" y="4365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2819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24280"/>
              <a:ext cx="420372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0200" y="4597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2819160"/>
              <a:ext cx="144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15000" y="4375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2924280"/>
              <a:ext cx="298476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3232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ffa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  80%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 1 urn - 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0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 2 urn  -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620640"/>
          <a:ext cx="4424400" cy="22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4424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952880" y="76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rn is selected 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573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(of guessing)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r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gu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97120"/>
          <a:ext cx="7236000" cy="354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97120"/>
                    <a:ext cx="72360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36360" y="5464080"/>
          <a:ext cx="7321320" cy="358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36360" y="5464080"/>
                    <a:ext cx="7321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value of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th E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Perfect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pper bound for any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someone is going to give you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 of nature. What is the maximum you would be willing to pay h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0200"/>
            <a:ext cx="914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WPI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h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42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PI=52–28=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P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ue of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=EVWP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WPI=0.8*40+0.2*100=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048120"/>
            <a:ext cx="2362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ynam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blem with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olvement of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monstrated in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e of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66680"/>
            <a:ext cx="9144000" cy="2128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es of na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haustive and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05520" y="3581280"/>
          <a:ext cx="350496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581280"/>
                    <a:ext cx="35049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505320"/>
          <a:ext cx="41911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53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55308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c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5637240" cy="697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7240" cy="69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335560" y="0"/>
            <a:ext cx="3808440" cy="6973920"/>
            <a:chOff x="5335560" y="0"/>
            <a:chExt cx="3808440" cy="6973920"/>
          </a:xfrm>
        </p:grpSpPr>
        <p:graphicFrame>
          <p:nvGraphicFramePr>
            <p:cNvPr id="83" name=""/>
            <p:cNvGraphicFramePr/>
            <p:nvPr/>
          </p:nvGraphicFramePr>
          <p:xfrm>
            <a:off x="5335560" y="0"/>
            <a:ext cx="860400" cy="69739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560" y="0"/>
                      <a:ext cx="860400" cy="69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248160" y="1058760"/>
              <a:ext cx="2895840" cy="1191240"/>
              <a:chOff x="6248160" y="1058760"/>
              <a:chExt cx="2895840" cy="1191240"/>
            </a:xfrm>
          </p:grpSpPr>
          <p:sp>
            <p:nvSpPr>
              <p:cNvPr id="86" name=""/>
              <p:cNvSpPr/>
              <p:nvPr/>
            </p:nvSpPr>
            <p:spPr>
              <a:xfrm>
                <a:off x="6934320" y="1058760"/>
                <a:ext cx="2209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l reward: Sum of rewards from start to 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248160" y="1676520"/>
                <a:ext cx="1523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715000" y="0"/>
            <a:ext cx="3177360" cy="533520"/>
            <a:chOff x="5715000" y="0"/>
            <a:chExt cx="3177360" cy="533520"/>
          </a:xfrm>
        </p:grpSpPr>
        <p:sp>
          <p:nvSpPr>
            <p:cNvPr id="89" name=""/>
            <p:cNvSpPr/>
            <p:nvPr/>
          </p:nvSpPr>
          <p:spPr>
            <a:xfrm>
              <a:off x="5715000" y="0"/>
              <a:ext cx="31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ing node - 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74120" y="304920"/>
              <a:ext cx="79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43640" y="242100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the tree” backwards from the leaves to the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71600" y="-27000"/>
          <a:ext cx="860400" cy="6985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0" y="-27000"/>
                    <a:ext cx="8604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623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node -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65760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 EM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hance nod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911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gives the maximal EMV at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066680"/>
            <a:ext cx="8610480" cy="4772880"/>
            <a:chOff x="533520" y="1066680"/>
            <a:chExt cx="8610480" cy="4772880"/>
          </a:xfrm>
        </p:grpSpPr>
        <p:grpSp>
          <p:nvGrpSpPr>
            <p:cNvPr id="98" name=""/>
            <p:cNvGrpSpPr/>
            <p:nvPr/>
          </p:nvGrpSpPr>
          <p:grpSpPr>
            <a:xfrm>
              <a:off x="533520" y="3581280"/>
              <a:ext cx="8610480" cy="2258280"/>
              <a:chOff x="533520" y="3581280"/>
              <a:chExt cx="8610480" cy="225828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464832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 Selecting an alternativ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 a decision no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066320" y="3843360"/>
                <a:ext cx="5791320" cy="12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066680" y="1066680"/>
              <a:ext cx="381240" cy="23623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1143000"/>
              <a:ext cx="1676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00720" y="2276640"/>
            <a:ext cx="2843280" cy="4248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484280"/>
          <a:ext cx="705636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7056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80360" y="141300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ree for purchasing on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rcha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one ball and identifying its color: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8;    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8640"/>
            <a:ext cx="85345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4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6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9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/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s’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81200" y="2971800"/>
                <a:ext cx="656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0" y="3733920"/>
          <a:ext cx="914400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914400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971800"/>
            <a:ext cx="8839080" cy="76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95680"/>
          <a:ext cx="9144000" cy="68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5410080"/>
          <a:ext cx="9144000" cy="76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533520"/>
          <a:ext cx="70056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700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6015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ptimal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cording to EM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523880"/>
            <a:ext cx="6095880" cy="1492920"/>
            <a:chOff x="3048120" y="1523880"/>
            <a:chExt cx="6095880" cy="1492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523880"/>
              <a:ext cx="1828800" cy="838080"/>
              <a:chOff x="3048120" y="1523880"/>
              <a:chExt cx="1828800" cy="838080"/>
            </a:xfrm>
          </p:grpSpPr>
          <p:sp>
            <p:nvSpPr>
              <p:cNvPr id="129" name=""/>
              <p:cNvSpPr/>
              <p:nvPr/>
            </p:nvSpPr>
            <p:spPr>
              <a:xfrm>
                <a:off x="3429000" y="2361960"/>
                <a:ext cx="14479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523880"/>
                <a:ext cx="304560" cy="762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38880" y="25066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3429000"/>
            <a:ext cx="6132240" cy="982800"/>
            <a:chOff x="3048120" y="3429000"/>
            <a:chExt cx="6132240" cy="982800"/>
          </a:xfrm>
        </p:grpSpPr>
        <p:sp>
          <p:nvSpPr>
            <p:cNvPr id="133" name=""/>
            <p:cNvSpPr/>
            <p:nvPr/>
          </p:nvSpPr>
          <p:spPr>
            <a:xfrm>
              <a:off x="7351560" y="3429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B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680" y="3649680"/>
              <a:ext cx="15242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48120" y="3573360"/>
              <a:ext cx="304560" cy="838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29718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ule which assigns an alternative for each realization of 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h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W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8=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back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20:08:22Z</dcterms:modified>
  <cp:revision>344</cp:revision>
  <dc:subject/>
  <dc:title>PowerPoint Presentation</dc:title>
</cp:coreProperties>
</file>