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E13-07D4-413B-96F9-CC31C96C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6D44-B0F6-4C12-9C15-62E7B231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5E60-C805-4027-A6F2-E9AB855B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C40-4B1C-4BF4-9AD7-ACB45E2C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7772-273E-4109-8BB8-435869DF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164-648B-4D5E-B2B3-96401924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572-73AE-4718-BE43-005E84C9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5A4F-A7CD-4188-ADE1-530ED490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731-12BB-46C0-BF92-3F16307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DA2-FD79-4E84-A417-3A62D2F0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E03-B28C-4257-BD10-649062C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00F1-0204-4B0A-B529-3DB09F53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EABF-A216-41B7-BC1B-FA5C6B3E943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hoice rules under 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9144000" cy="206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Given probabilities, the alternatives can be presented by distribution fun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be a random variable with a distribu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6699ff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tochastic domin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i="1" lang="en-US" sz="2400" spc="-1" strike="noStrike" baseline="-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724280"/>
            <a:ext cx="9144000" cy="20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he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M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-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xpected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etary </a:t>
            </a: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V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ue - criter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he probability that state of nat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occu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s)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MV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EMV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819160"/>
            <a:ext cx="5334120" cy="2015640"/>
            <a:chOff x="1295280" y="2819160"/>
            <a:chExt cx="5334120" cy="2015640"/>
          </a:xfrm>
        </p:grpSpPr>
        <p:sp>
          <p:nvSpPr>
            <p:cNvPr id="45" name=""/>
            <p:cNvSpPr/>
            <p:nvPr/>
          </p:nvSpPr>
          <p:spPr>
            <a:xfrm>
              <a:off x="4419720" y="347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66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3280" y="43657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95280" y="281952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7920" y="2924280"/>
              <a:ext cx="420372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00200" y="4597560"/>
              <a:ext cx="4114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600200" y="2819160"/>
              <a:ext cx="1440" cy="177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715000" y="4375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66880" y="2924280"/>
              <a:ext cx="2984760" cy="1673280"/>
            </a:xfrm>
            <a:custGeom>
              <a:avLst/>
              <a:gdLst/>
              <a:ahLst/>
              <a:rect l="l" t="t" r="r" b="b"/>
              <a:pathLst>
                <a:path w="2784" h="1392">
                  <a:moveTo>
                    <a:pt x="0" y="1392"/>
                  </a:moveTo>
                  <a:cubicBezTo>
                    <a:pt x="340" y="1376"/>
                    <a:pt x="680" y="1360"/>
                    <a:pt x="912" y="1248"/>
                  </a:cubicBezTo>
                  <a:cubicBezTo>
                    <a:pt x="1144" y="1136"/>
                    <a:pt x="1232" y="904"/>
                    <a:pt x="1392" y="720"/>
                  </a:cubicBezTo>
                  <a:cubicBezTo>
                    <a:pt x="1552" y="536"/>
                    <a:pt x="1640" y="264"/>
                    <a:pt x="1872" y="144"/>
                  </a:cubicBezTo>
                  <a:cubicBezTo>
                    <a:pt x="2104" y="24"/>
                    <a:pt x="2632" y="24"/>
                    <a:pt x="2784" y="0"/>
                  </a:cubicBezTo>
                </a:path>
              </a:pathLst>
            </a:custGeom>
            <a:noFill/>
            <a:ln w="93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76720" y="323208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ffa’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ample:  80%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ype 1 urn -   </a:t>
            </a:r>
            <a:r>
              <a:rPr b="0" lang="en-US" sz="24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0066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20%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 2 urn  - 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  <a:ea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620640"/>
          <a:ext cx="4424400" cy="2206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620640"/>
                    <a:ext cx="442440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952880" y="765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rn is selected random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2096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off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573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(of guessing)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ur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r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no guess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697120"/>
          <a:ext cx="7236000" cy="3540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97120"/>
                    <a:ext cx="723600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-36360" y="5464080"/>
          <a:ext cx="7321320" cy="35816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36360" y="5464080"/>
                    <a:ext cx="7321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value of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Times New Roman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ith E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144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</a:rPr>
              <a:t>Perfect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pper bound for any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se someone is going to give you the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ate of nature. What is the maximum you would be willing to pay hi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040200"/>
            <a:ext cx="91440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WPI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h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he-IL" sz="4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 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420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PI=52–28=2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648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VP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=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lue of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fect </a:t>
            </a:r>
            <a:r>
              <a:rPr b="0" lang="en-US" sz="2400" spc="-1" strike="noStrike">
                <a:solidFill>
                  <a:srgbClr val="ff0066"/>
                </a:solidFill>
                <a:latin typeface="Arial Unicode MS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formation=EVWP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M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886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VWPI=0.8*40+0.2*100=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3048120"/>
            <a:ext cx="2362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ax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{r</a:t>
            </a:r>
            <a:r>
              <a:rPr b="0" i="1" lang="en-US" sz="4000" spc="-1" strike="noStrike" baseline="-30000">
                <a:solidFill>
                  <a:srgbClr val="000000"/>
                </a:solidFill>
                <a:latin typeface="Arial Unicode MS"/>
                <a:ea typeface="Arial Unicode MS"/>
              </a:rPr>
              <a:t>sa</a:t>
            </a:r>
            <a:r>
              <a:rPr b="0" i="1" lang="en-US" sz="4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Dynam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problem with uncertain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olvement of the 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demonstrated in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e of decis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66680"/>
            <a:ext cx="9144000" cy="2128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ypes o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es of natur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ci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lternativ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oth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haustive and exclus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105520" y="3581280"/>
          <a:ext cx="3504960" cy="221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05520" y="3581280"/>
                    <a:ext cx="35049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3505320"/>
          <a:ext cx="4191120" cy="2361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505320"/>
                    <a:ext cx="4191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6553080" y="3276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c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5637240" cy="697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637240" cy="69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" name=""/>
          <p:cNvGrpSpPr/>
          <p:nvPr/>
        </p:nvGrpSpPr>
        <p:grpSpPr>
          <a:xfrm>
            <a:off x="5335560" y="0"/>
            <a:ext cx="3808440" cy="6973920"/>
            <a:chOff x="5335560" y="0"/>
            <a:chExt cx="3808440" cy="6973920"/>
          </a:xfrm>
        </p:grpSpPr>
        <p:graphicFrame>
          <p:nvGraphicFramePr>
            <p:cNvPr id="83" name=""/>
            <p:cNvGraphicFramePr/>
            <p:nvPr/>
          </p:nvGraphicFramePr>
          <p:xfrm>
            <a:off x="5335560" y="0"/>
            <a:ext cx="860400" cy="69739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335560" y="0"/>
                      <a:ext cx="860400" cy="697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5" name=""/>
            <p:cNvGrpSpPr/>
            <p:nvPr/>
          </p:nvGrpSpPr>
          <p:grpSpPr>
            <a:xfrm>
              <a:off x="6248160" y="1058760"/>
              <a:ext cx="2895840" cy="1191240"/>
              <a:chOff x="6248160" y="1058760"/>
              <a:chExt cx="2895840" cy="1191240"/>
            </a:xfrm>
          </p:grpSpPr>
          <p:sp>
            <p:nvSpPr>
              <p:cNvPr id="86" name=""/>
              <p:cNvSpPr/>
              <p:nvPr/>
            </p:nvSpPr>
            <p:spPr>
              <a:xfrm>
                <a:off x="6934320" y="1058760"/>
                <a:ext cx="22096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l reward: Sum of rewards from start to e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6248160" y="1676520"/>
                <a:ext cx="15238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5715000" y="0"/>
            <a:ext cx="3177360" cy="533520"/>
            <a:chOff x="5715000" y="0"/>
            <a:chExt cx="3177360" cy="533520"/>
          </a:xfrm>
        </p:grpSpPr>
        <p:sp>
          <p:nvSpPr>
            <p:cNvPr id="89" name=""/>
            <p:cNvSpPr/>
            <p:nvPr/>
          </p:nvSpPr>
          <p:spPr>
            <a:xfrm>
              <a:off x="5715000" y="0"/>
              <a:ext cx="317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ding node - lea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74120" y="304920"/>
              <a:ext cx="79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443640" y="2421000"/>
            <a:ext cx="27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the tree” backwards from the leaves to the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71600" y="-27000"/>
          <a:ext cx="860400" cy="698508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71600" y="-27000"/>
                    <a:ext cx="860400" cy="69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2362320"/>
            <a:ext cx="12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node -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88000" y="3657600"/>
            <a:ext cx="25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ompute EM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chance node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99112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e gives the maximal EMV at each n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1066680"/>
            <a:ext cx="8610480" cy="4772880"/>
            <a:chOff x="533520" y="1066680"/>
            <a:chExt cx="8610480" cy="4772880"/>
          </a:xfrm>
        </p:grpSpPr>
        <p:grpSp>
          <p:nvGrpSpPr>
            <p:cNvPr id="98" name=""/>
            <p:cNvGrpSpPr/>
            <p:nvPr/>
          </p:nvGrpSpPr>
          <p:grpSpPr>
            <a:xfrm>
              <a:off x="533520" y="3581280"/>
              <a:ext cx="8610480" cy="2258280"/>
              <a:chOff x="533520" y="3581280"/>
              <a:chExt cx="8610480" cy="2258280"/>
            </a:xfrm>
          </p:grpSpPr>
          <p:sp>
            <p:nvSpPr>
              <p:cNvPr id="99" name=""/>
              <p:cNvSpPr/>
              <p:nvPr/>
            </p:nvSpPr>
            <p:spPr>
              <a:xfrm>
                <a:off x="6553080" y="4648320"/>
                <a:ext cx="2590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 Selecting an alternativ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n a decision no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flipV="1">
                <a:off x="1066320" y="3843360"/>
                <a:ext cx="5791320" cy="12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35812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 flipV="1">
              <a:off x="1066680" y="1066680"/>
              <a:ext cx="381240" cy="23623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23880" y="1143000"/>
              <a:ext cx="16765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6300720" y="2276640"/>
            <a:ext cx="2843280" cy="4248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1484280"/>
          <a:ext cx="7056360" cy="5373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70563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380360" y="1413000"/>
            <a:ext cx="17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ree for purchasing one 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rchas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83664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one ball and identifying its color: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79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8;    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9810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628640"/>
            <a:ext cx="853452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?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?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=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4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3333cc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6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9/1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B| </a:t>
            </a:r>
            <a:r>
              <a:rPr b="0" lang="en-US" sz="2400" spc="-1" strike="noStrike">
                <a:solidFill>
                  <a:srgbClr val="ff66ff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30000">
                <a:solidFill>
                  <a:srgbClr val="ff66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/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2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es’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681200" y="2971800"/>
                <a:ext cx="65674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6" name=""/>
          <p:cNvGraphicFramePr/>
          <p:nvPr/>
        </p:nvGraphicFramePr>
        <p:xfrm>
          <a:off x="0" y="3733920"/>
          <a:ext cx="9144000" cy="685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733920"/>
                    <a:ext cx="9144000" cy="685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971800"/>
            <a:ext cx="8839080" cy="762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495680"/>
          <a:ext cx="9144000" cy="685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495680"/>
                    <a:ext cx="9144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0" y="5410080"/>
          <a:ext cx="9144000" cy="76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410080"/>
                    <a:ext cx="9144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urn has 10 ball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1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B,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4R;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n 2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B,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9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533520"/>
          <a:ext cx="7005600" cy="4952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70056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6015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ptimal poli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ccording to EMV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523880"/>
            <a:ext cx="6095880" cy="1492920"/>
            <a:chOff x="3048120" y="1523880"/>
            <a:chExt cx="6095880" cy="149292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523880"/>
              <a:ext cx="1828800" cy="838080"/>
              <a:chOff x="3048120" y="1523880"/>
              <a:chExt cx="1828800" cy="838080"/>
            </a:xfrm>
          </p:grpSpPr>
          <p:sp>
            <p:nvSpPr>
              <p:cNvPr id="129" name=""/>
              <p:cNvSpPr/>
              <p:nvPr/>
            </p:nvSpPr>
            <p:spPr>
              <a:xfrm>
                <a:off x="3429000" y="2361960"/>
                <a:ext cx="14479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523880"/>
                <a:ext cx="304560" cy="762120"/>
              </a:xfrm>
              <a:prstGeom prst="line">
                <a:avLst/>
              </a:prstGeom>
              <a:ln w="255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238880" y="250668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R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048120" y="3429000"/>
            <a:ext cx="6132240" cy="982800"/>
            <a:chOff x="3048120" y="3429000"/>
            <a:chExt cx="6132240" cy="982800"/>
          </a:xfrm>
        </p:grpSpPr>
        <p:sp>
          <p:nvSpPr>
            <p:cNvPr id="133" name=""/>
            <p:cNvSpPr/>
            <p:nvPr/>
          </p:nvSpPr>
          <p:spPr>
            <a:xfrm>
              <a:off x="7351560" y="3429000"/>
              <a:ext cx="1828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B then</a:t>
              </a: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352680" y="3649680"/>
              <a:ext cx="152424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48120" y="3573360"/>
              <a:ext cx="304560" cy="83844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0" y="0"/>
            <a:ext cx="29718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olic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ule which assigns an alternative for each realization of state of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722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WI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h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VI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pected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ue of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 ball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formation           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he-IL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W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V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35.2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8=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ding back the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3:14:39Z</dcterms:created>
  <dc:creator>Moti Henig</dc:creator>
  <dc:description/>
  <dc:language>en-US</dc:language>
  <cp:lastModifiedBy>Henig</cp:lastModifiedBy>
  <dcterms:modified xsi:type="dcterms:W3CDTF">2004-10-14T20:08:22Z</dcterms:modified>
  <cp:revision>344</cp:revision>
  <dc:subject/>
  <dc:title>PowerPoint Presentation</dc:title>
</cp:coreProperties>
</file>