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949-5276-4B10-8591-4F2D1464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CA3-3ABE-4116-87BD-E8758FA1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E23-9D28-4E08-8DC8-F136172B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8BE-29B4-4E78-BEE8-7BC79BD9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2A7-40D8-4FBC-ACB2-E3173519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EAB-502B-49C9-B88F-BF2BE55F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8E5-BDD3-4FC4-96B1-EFEAD41D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DDB-AD06-4014-8CD9-25B1C478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6DE-49A4-43F4-9195-9A8659ED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AE0-2C4D-4251-B5F5-64DB75B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289-AFF5-491B-90F5-A83A577C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D87-937C-4FF7-A6A3-7951FE3B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EEDF-D4A2-4BA2-A49A-1BFF46CBE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tion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haracterized by a set of probabilities: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p(m|s), m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t of messages; 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et of states of natu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m|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bability to get mess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state of na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V with information syste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Expected v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71640" y="4005360"/>
                <a:ext cx="510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46080" y="3213000"/>
                <a:ext cx="7034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54000" y="4797360"/>
                <a:ext cx="5130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PI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558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WI(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W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W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ol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85800"/>
            <a:ext cx="8915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ging a well costs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. Profits from oil (if found)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ig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o not 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ypes of rock:  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)=0.6,     p(B)=0.3,     p(C)=0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=0.1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=0.4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=0.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p(A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p(B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p(C)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  *  0.6 +  0.4  *  0.3   +  0.7  *  0.1 = 0.25;  p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il expl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4800600"/>
          <a:ext cx="6248160" cy="205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800600"/>
                    <a:ext cx="6248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486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WPI = 1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547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PI =  EVWPI ‑ EMV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5     ‑ 50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33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3336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– perfect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77880" y="1065240"/>
            <a:ext cx="8184960" cy="5570640"/>
            <a:chOff x="677880" y="1065240"/>
            <a:chExt cx="8184960" cy="5570640"/>
          </a:xfrm>
        </p:grpSpPr>
        <p:graphicFrame>
          <p:nvGraphicFramePr>
            <p:cNvPr id="56" name=""/>
            <p:cNvGraphicFramePr/>
            <p:nvPr/>
          </p:nvGraphicFramePr>
          <p:xfrm>
            <a:off x="677880" y="1065240"/>
            <a:ext cx="8184960" cy="5570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7880" y="1065240"/>
                      <a:ext cx="8184960" cy="557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220968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50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6172200" cy="182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6172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356000" y="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ial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0464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‑ true type of rock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Y" ‑ type according to surve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-88920" y="6072120"/>
                <a:ext cx="69627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=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 1 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715000" y="480060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0" y="1066680"/>
            <a:ext cx="9144000" cy="4953240"/>
            <a:chOff x="0" y="1066680"/>
            <a:chExt cx="9144000" cy="4953240"/>
          </a:xfrm>
        </p:grpSpPr>
        <p:graphicFrame>
          <p:nvGraphicFramePr>
            <p:cNvPr id="67" name=""/>
            <p:cNvGraphicFramePr/>
            <p:nvPr/>
          </p:nvGraphicFramePr>
          <p:xfrm>
            <a:off x="0" y="1066680"/>
            <a:ext cx="9144000" cy="49532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1066680"/>
                      <a:ext cx="9144000" cy="49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"/>
            <p:cNvSpPr/>
            <p:nvPr/>
          </p:nvSpPr>
          <p:spPr>
            <a:xfrm>
              <a:off x="7086600" y="1600200"/>
              <a:ext cx="304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18:46:34Z</dcterms:modified>
  <cp:revision>346</cp:revision>
  <dc:subject/>
  <dc:title>PowerPoint Presentation</dc:title>
</cp:coreProperties>
</file>