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881-4445-4739-A2BB-D1E40467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A56-5542-45F2-B010-D539049B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C51-25C4-4D23-84D8-AF86420E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B7E-5163-4E9B-944F-3FE1CED5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1CB-EB63-495B-B191-3AF162DA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6B2-4FDF-49EE-9BB9-7EF68FE6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EC7-A591-43B1-BBC4-06F3D119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0ED-677F-475D-8C20-FBD769C0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43E-4D59-44DD-9C47-96148949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200-E56D-423B-9096-64829EA3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375-3F4C-41E2-99A0-93C943DA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E27-B659-4015-909F-13D74C0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7B02-44AF-4ED4-A3CD-FC87F2D3B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haracterized by a set of probabilities: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p(m|s), m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t of messages; 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t of states of nat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m|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bability to get mess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tate of na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V with information syste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Expected v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71640" y="4005360"/>
                <a:ext cx="510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46080" y="3213000"/>
                <a:ext cx="7034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54000" y="4797360"/>
                <a:ext cx="5130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P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WI(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W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W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915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ging a well costs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. Profits from oil (if found)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ig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o not 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ypes of rock:  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)=0.6,     p(B)=0.3,     p(C)=0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=0.1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=0.4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=0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p(A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p(B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p(C)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  *  0.6 +  0.4  *  0.3   +  0.7  *  0.1 = 0.25;  p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il expl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4800600"/>
          <a:ext cx="624816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800600"/>
                    <a:ext cx="6248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486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WPI = 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47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PI =  EVWPI ‑ EMV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5     ‑ 50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33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3336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– perfect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77880" y="1065240"/>
            <a:ext cx="8184960" cy="5570640"/>
            <a:chOff x="677880" y="1065240"/>
            <a:chExt cx="8184960" cy="5570640"/>
          </a:xfrm>
        </p:grpSpPr>
        <p:graphicFrame>
          <p:nvGraphicFramePr>
            <p:cNvPr id="56" name=""/>
            <p:cNvGraphicFramePr/>
            <p:nvPr/>
          </p:nvGraphicFramePr>
          <p:xfrm>
            <a:off x="677880" y="1065240"/>
            <a:ext cx="8184960" cy="557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7880" y="1065240"/>
                      <a:ext cx="8184960" cy="557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22096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617220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172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356000" y="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al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04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‑ true type of rock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Y" ‑ type according to surve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-88920" y="6072120"/>
                <a:ext cx="69627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 1 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715000" y="480060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0" y="1066680"/>
            <a:ext cx="9144000" cy="4953240"/>
            <a:chOff x="0" y="1066680"/>
            <a:chExt cx="9144000" cy="4953240"/>
          </a:xfrm>
        </p:grpSpPr>
        <p:graphicFrame>
          <p:nvGraphicFramePr>
            <p:cNvPr id="67" name=""/>
            <p:cNvGraphicFramePr/>
            <p:nvPr/>
          </p:nvGraphicFramePr>
          <p:xfrm>
            <a:off x="0" y="1066680"/>
            <a:ext cx="9144000" cy="49532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1066680"/>
                      <a:ext cx="91440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7086600" y="1600200"/>
              <a:ext cx="304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18:46:34Z</dcterms:modified>
  <cp:revision>346</cp:revision>
  <dc:subject/>
  <dc:title>PowerPoint Presentation</dc:title>
</cp:coreProperties>
</file>