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15F-7654-43D1-BF61-B44200BB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2F6-45E0-4465-911C-7C521B4F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6EA-BEAF-47EF-9FE3-027E9CDB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925-2BF5-410D-855F-64D5CA35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187-3B43-43CB-B294-34C858B0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AA2-9528-47C0-BAF0-700037E2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D05-5DBE-445B-912A-B9212B83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3BA-9BD3-4B26-A0CD-B888A6FE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9D5-2DE1-468F-8B83-E7CADCDB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3FC-53C7-4541-A8A7-304C1849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C94-5B5B-403C-BBBE-1E10A339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835-9157-4408-BF8E-9549E67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C62A-A6E5-483D-ACF0-21A7C0EFD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haracterized by a set of probabilities: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p(m|s), m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t of messages; 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et of states of natu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m|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bability to get mess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tate of na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V with information syste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Expected v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71640" y="4005360"/>
                <a:ext cx="510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46080" y="3213000"/>
                <a:ext cx="7034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54000" y="4797360"/>
                <a:ext cx="5130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P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WI(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W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W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915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ging a well costs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. Profits from oil (if found)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ig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o not 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ypes of rock:  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)=0.6,     p(B)=0.3,     p(C)=0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=0.1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=0.4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=0.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p(A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p(B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p(C)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  *  0.6 +  0.4  *  0.3   +  0.7  *  0.1 = 0.25;  p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il expl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4800600"/>
          <a:ext cx="6248160" cy="20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800600"/>
                    <a:ext cx="6248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486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WPI = 1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547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PI =  EVWPI ‑ EMV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5     ‑ 50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33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3336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– perfect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77880" y="1065240"/>
            <a:ext cx="8184960" cy="5570640"/>
            <a:chOff x="677880" y="1065240"/>
            <a:chExt cx="8184960" cy="5570640"/>
          </a:xfrm>
        </p:grpSpPr>
        <p:graphicFrame>
          <p:nvGraphicFramePr>
            <p:cNvPr id="56" name=""/>
            <p:cNvGraphicFramePr/>
            <p:nvPr/>
          </p:nvGraphicFramePr>
          <p:xfrm>
            <a:off x="677880" y="1065240"/>
            <a:ext cx="8184960" cy="557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7880" y="1065240"/>
                      <a:ext cx="8184960" cy="557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22096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50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617220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172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356000" y="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ial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0464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‑ true type of rock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Y" ‑ type according to surve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-88920" y="6072120"/>
                <a:ext cx="69627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=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 1 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715000" y="480060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0" y="1066680"/>
            <a:ext cx="9144000" cy="4953240"/>
            <a:chOff x="0" y="1066680"/>
            <a:chExt cx="9144000" cy="4953240"/>
          </a:xfrm>
        </p:grpSpPr>
        <p:graphicFrame>
          <p:nvGraphicFramePr>
            <p:cNvPr id="67" name=""/>
            <p:cNvGraphicFramePr/>
            <p:nvPr/>
          </p:nvGraphicFramePr>
          <p:xfrm>
            <a:off x="0" y="1066680"/>
            <a:ext cx="9144000" cy="49532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1066680"/>
                      <a:ext cx="91440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7086600" y="1600200"/>
              <a:ext cx="304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18:46:34Z</dcterms:modified>
  <cp:revision>346</cp:revision>
  <dc:subject/>
  <dc:title>PowerPoint Presentation</dc:title>
</cp:coreProperties>
</file>