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4EB4-C45E-471A-9381-1A7E29A6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8A6B-1153-400D-B852-540A07EB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97EF-58A5-496A-8C29-81655657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7612-C2F9-4A39-BEFF-FE115248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3302-B75A-496B-8E42-2EF80FA0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C28F-AC7A-422B-8739-E1D4760E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BBC9-FF68-420D-8609-6F378BF7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D540-22F5-462A-95F1-B1C566D9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F938-E916-4C50-B189-8606AFA9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E53C-B79D-45E3-B71A-13287F22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B500-2A19-4D72-A0B8-2B0EAEE5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9936-11C4-4E34-BCD9-5BA2FA82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EF69-4224-4963-8F97-39D44FA330B9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38080"/>
            <a:ext cx="9144000" cy="26845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ist of alternatives is well‑defin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e decision mak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 time dimens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 involvement of other decision mak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lear objective of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maximizing rew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343400"/>
            <a:ext cx="9144000" cy="212832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</a:t>
            </a:r>
            <a:r>
              <a:rPr b="0" lang="en-US" sz="2400" spc="-1" strike="noStrike" u="sng">
                <a:solidFill>
                  <a:srgbClr val="ff0033"/>
                </a:solidFill>
                <a:uFillTx/>
                <a:latin typeface="Tahoma"/>
                <a:ea typeface="Times New Roman"/>
              </a:rPr>
              <a:t>Stat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 problem with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  <a:ea typeface="Times New Roman"/>
              </a:rPr>
              <a:t>certain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ery alternative has a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certai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utc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eptu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blem of defining the best alternativ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list may b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 bi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allow for a direct sort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Choic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 the following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50920" y="1773360"/>
          <a:ext cx="8893080" cy="2857320"/>
        </p:xfrm>
        <a:graphic>
          <a:graphicData uri="http://schemas.openxmlformats.org/drawingml/2006/table">
            <a:tbl>
              <a:tblPr/>
              <a:tblGrid>
                <a:gridCol w="2262240"/>
                <a:gridCol w="1672920"/>
                <a:gridCol w="1459080"/>
                <a:gridCol w="2041560"/>
                <a:gridCol w="1457280"/>
              </a:tblGrid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 &amp; In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exi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n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cc"/>
                          </a:solidFill>
                          <a:latin typeface="Times New Roman"/>
                          <a:ea typeface="Times New Roman"/>
                        </a:rPr>
                        <a:t>regret val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33cccc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cc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cc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i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regr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0" y="1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gr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Adding an alternative may change the order between existing alterna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250920" y="1989000"/>
          <a:ext cx="6235560" cy="1992240"/>
        </p:xfrm>
        <a:graphic>
          <a:graphicData uri="http://schemas.openxmlformats.org/drawingml/2006/table">
            <a:tbl>
              <a:tblPr/>
              <a:tblGrid>
                <a:gridCol w="2274840"/>
                <a:gridCol w="1981080"/>
                <a:gridCol w="197964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n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i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0" y="878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an impresario who considers signing Madonna for a show in the national stadium. Depending of the weather you profits, in 1000s,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2670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rance against a bad weather costs 50,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32920" y="0"/>
            <a:ext cx="45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</a:rPr>
              <a:t>Stat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problem under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un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30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c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depend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 of na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se realizations will be known only l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37160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s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 of natu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sjoint and exhaustive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x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 -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co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t necessarily money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y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), 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-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y func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79440" y="4049640"/>
          <a:ext cx="7875720" cy="2808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9440" y="4049640"/>
                    <a:ext cx="787572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635280" y="3573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OFF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860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process 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w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mak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c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he (true)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ate of na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revea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n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utc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ttain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sense that 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ci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aken only o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590920"/>
            <a:ext cx="914400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min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lternative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  <a:ea typeface="Times New Roman"/>
              </a:rPr>
              <a:t>  domin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lternative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b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ll states of natu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a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t least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68360" y="3987720"/>
          <a:ext cx="7991280" cy="2033640"/>
        </p:xfrm>
        <a:graphic>
          <a:graphicData uri="http://schemas.openxmlformats.org/drawingml/2006/table">
            <a:tbl>
              <a:tblPr/>
              <a:tblGrid>
                <a:gridCol w="2212920"/>
                <a:gridCol w="1925640"/>
                <a:gridCol w="1927080"/>
                <a:gridCol w="1925640"/>
              </a:tblGrid>
              <a:tr h="65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 not 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 &amp; In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n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i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oice rules under uncertainty or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3352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 making under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ertain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ies of states of nature are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ea typeface="Times New Roman"/>
              </a:rPr>
              <a:t>not consi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ilities of states of natur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sid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421000"/>
            <a:ext cx="9144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pl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Select the alternative whi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ximizes the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simple average rew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nciple of insufficient rea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.e. if we cannot tell which outcome is more likely, we ought to assign equal probabiliti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25360" y="4114800"/>
          <a:ext cx="8847360" cy="4572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5360" y="4114800"/>
                    <a:ext cx="8847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80880"/>
            <a:ext cx="91440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xi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f reward). Select the alternative which maximizes its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maximum possible rew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{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[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]}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optimistic criter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22120" y="2443320"/>
          <a:ext cx="8791560" cy="4964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443320"/>
                    <a:ext cx="8791560" cy="49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Maxi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f reward). Select the alternative which maximizes its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minimum possible rew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{min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[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]}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essimistic criter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5360" y="1219320"/>
          <a:ext cx="8847360" cy="4952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5360" y="1219320"/>
                    <a:ext cx="88473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0" y="5229360"/>
            <a:ext cx="9144000" cy="14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‑ criter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Select the alternative which maximizes some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weighted average of its maximum and minimum possible rew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0" i="1" lang="he-IL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[r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]+(1</a:t>
            </a:r>
            <a:r>
              <a:rPr b="0" i="1" lang="he-IL" sz="3600" spc="-1" strike="noStrike">
                <a:solidFill>
                  <a:srgbClr val="000000"/>
                </a:solidFill>
                <a:latin typeface="Symbol"/>
                <a:ea typeface="Symbol"/>
              </a:rPr>
              <a:t>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)min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[r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]}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nimum (maximum) Regr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                                                                 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ret 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alternati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sta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=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{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r>
              <a:rPr b="0" i="1" lang="he-IL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 the alternative which minimizes its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Arial"/>
              </a:rPr>
              <a:t>maximum possible regr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in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{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[G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]}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-65160" y="2820960"/>
          <a:ext cx="9051840" cy="4676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5160" y="2820960"/>
                    <a:ext cx="905184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2209680" y="2362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2362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ret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ar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descrip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les! but each of them mak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n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ever, they violate reasonabl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  <a:ea typeface="Arial"/>
              </a:rPr>
              <a:t>no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pl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refining the states of nature may change the sel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9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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‑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riter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Adding a constant to each reward in a certain state of nature may change the order between the alterna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5360" y="3213000"/>
          <a:ext cx="8847360" cy="3486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5360" y="3213000"/>
                    <a:ext cx="884736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13:42:05Z</dcterms:created>
  <dc:creator>Moti Henig</dc:creator>
  <dc:description/>
  <dc:language>en-US</dc:language>
  <cp:lastModifiedBy>Henig</cp:lastModifiedBy>
  <dcterms:modified xsi:type="dcterms:W3CDTF">2004-10-14T20:07:39Z</dcterms:modified>
  <cp:revision>145</cp:revision>
  <dc:subject/>
  <dc:title>PowerPoint Presentation</dc:title>
</cp:coreProperties>
</file>