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4.wmf" ContentType="image/x-wmf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docx" ContentType="application/vnd.openxmlformats-officedocument.wordprocessingml.document"/>
  <Override PartName="/ppt/embeddings/oleObject2.xlsx" ContentType="application/vnd.openxmlformats-officedocument.spreadsheetml.sheet"/>
  <Override PartName="/ppt/embeddings/oleObject1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2EBEC-5549-4A37-8B04-2F2A634F9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6BB0E-02C5-4A36-BEC1-75373A686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BAF66-5F68-47FC-8FA8-E89158E95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8F7B6-C5F2-46F3-BA53-F37E4133B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A281A-DE43-4B21-81E4-DAD0E12DA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7AFA1-0368-4109-AF7E-48D102301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491A7-0012-4056-84CC-78373B63E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223E2-66B0-4CF0-9905-9AE0A91C4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2B610-D934-4F01-82D4-2A2C526B9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148BF-BC2C-4904-BA93-F7B42ADF4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B79E7-A3DB-49BC-9494-4FFD8B5DD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33B8F-772C-40D8-B5F1-E910A081E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A84B7-CD81-4B9C-AE9B-5777BC9DFC10}" type="slidenum">
              <a:rPr b="0" lang="he-I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package" Target="../embeddings/oleObject3.docx"/><Relationship Id="rId7" Type="http://schemas.openxmlformats.org/officeDocument/2006/relationships/image" Target="../media/image4.wmf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5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7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8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9.wmf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doc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hoice rules under </a:t>
            </a:r>
            <a:r>
              <a:rPr b="0" lang="en-US" sz="2800" spc="-1" strike="noStrike" u="sng">
                <a:solidFill>
                  <a:srgbClr val="ff66ff"/>
                </a:solidFill>
                <a:uFillTx/>
                <a:latin typeface="Times New Roman"/>
              </a:rPr>
              <a:t>ris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609480"/>
            <a:ext cx="9144000" cy="2069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Given probabilities, the alternatives can be presented by distribution fun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X</a:t>
            </a:r>
            <a:r>
              <a:rPr b="0" i="1" lang="en-US" sz="2400" spc="-1" strike="noStrike" baseline="-30000">
                <a:solidFill>
                  <a:srgbClr val="000000"/>
                </a:solidFill>
                <a:latin typeface="Tahoma"/>
                <a:ea typeface="Tahoma"/>
              </a:rPr>
              <a:t>i</a:t>
            </a:r>
            <a:r>
              <a:rPr b="0" i="1" lang="en-US" sz="2400" spc="-1" strike="noStrike">
                <a:solidFill>
                  <a:srgbClr val="6699ff"/>
                </a:solidFill>
                <a:latin typeface="Tahoma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 be a random variable with a distribution functio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.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X</a:t>
            </a:r>
            <a:r>
              <a:rPr b="0" i="1" lang="en-US" sz="2400" spc="-1" strike="noStrike" baseline="-30000">
                <a:solidFill>
                  <a:srgbClr val="000000"/>
                </a:solidFill>
                <a:latin typeface="Tahoma"/>
                <a:ea typeface="Tahoma"/>
              </a:rPr>
              <a:t>1</a:t>
            </a:r>
            <a:r>
              <a:rPr b="0" i="1" lang="en-US" sz="2400" spc="-1" strike="noStrike">
                <a:solidFill>
                  <a:srgbClr val="6699ff"/>
                </a:solidFill>
                <a:latin typeface="Tahoma"/>
                <a:ea typeface="Tahoma"/>
              </a:rPr>
              <a:t> </a:t>
            </a:r>
            <a:r>
              <a:rPr b="0" lang="en-US" sz="2400" spc="-1" strike="noStrike">
                <a:solidFill>
                  <a:srgbClr val="ff0066"/>
                </a:solidFill>
                <a:latin typeface="Tahoma"/>
                <a:ea typeface="Tahoma"/>
              </a:rPr>
              <a:t>stochastic dominat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X</a:t>
            </a:r>
            <a:r>
              <a:rPr b="0" i="1" lang="en-US" sz="2400" spc="-1" strike="noStrike" baseline="-30000">
                <a:solidFill>
                  <a:srgbClr val="000000"/>
                </a:solidFill>
                <a:latin typeface="Tahoma"/>
                <a:ea typeface="Tahoma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if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(x)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 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(x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 for all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4724280"/>
            <a:ext cx="9144000" cy="205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6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he </a:t>
            </a:r>
            <a:r>
              <a:rPr b="0" lang="en-US" sz="2400" spc="-1" strike="noStrike" u="sng">
                <a:solidFill>
                  <a:srgbClr val="ff0066"/>
                </a:solidFill>
                <a:uFillTx/>
                <a:latin typeface="Arial"/>
                <a:ea typeface="Arial"/>
              </a:rPr>
              <a:t>EMV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- </a:t>
            </a:r>
            <a:r>
              <a:rPr b="0" lang="en-US" sz="2400" spc="-1" strike="noStrike" u="sng">
                <a:solidFill>
                  <a:srgbClr val="ff0066"/>
                </a:solidFill>
                <a:uFillTx/>
                <a:latin typeface="Arial"/>
                <a:ea typeface="Arial"/>
              </a:rPr>
              <a:t>E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xpected </a:t>
            </a:r>
            <a:r>
              <a:rPr b="0" lang="en-US" sz="2400" spc="-1" strike="noStrike" u="sng">
                <a:solidFill>
                  <a:srgbClr val="ff0066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onetary </a:t>
            </a:r>
            <a:r>
              <a:rPr b="0" lang="en-US" sz="2400" spc="-1" strike="noStrike" u="sng">
                <a:solidFill>
                  <a:srgbClr val="ff0066"/>
                </a:solidFill>
                <a:uFillTx/>
                <a:latin typeface="Arial"/>
                <a:ea typeface="Arial"/>
              </a:rPr>
              <a:t>V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lue - criter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(s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 the probability that state of natu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ill occu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V</a:t>
            </a:r>
            <a:r>
              <a:rPr b="0" i="1" lang="en-US" sz="4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i="1" lang="he-IL" sz="4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i="1" lang="en-US" sz="4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(s)r</a:t>
            </a:r>
            <a:r>
              <a:rPr b="0" i="1" lang="en-US" sz="4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sa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40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EMV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max</a:t>
            </a:r>
            <a:r>
              <a:rPr b="0" i="1" lang="en-US" sz="4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EMV</a:t>
            </a:r>
            <a:r>
              <a:rPr b="0" i="1" lang="en-US" sz="4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295280" y="2819160"/>
            <a:ext cx="5334120" cy="2015640"/>
            <a:chOff x="1295280" y="2819160"/>
            <a:chExt cx="5334120" cy="2015640"/>
          </a:xfrm>
        </p:grpSpPr>
        <p:sp>
          <p:nvSpPr>
            <p:cNvPr id="45" name=""/>
            <p:cNvSpPr/>
            <p:nvPr/>
          </p:nvSpPr>
          <p:spPr>
            <a:xfrm>
              <a:off x="4419720" y="3470400"/>
              <a:ext cx="914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0066"/>
                  </a:solidFill>
                  <a:latin typeface="Times New Roman"/>
                </a:rPr>
                <a:t>F</a:t>
              </a:r>
              <a:r>
                <a:rPr b="0" i="1" lang="en-US" sz="2400" spc="-1" strike="noStrike" baseline="-25000">
                  <a:solidFill>
                    <a:srgbClr val="ff0066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403280" y="4365720"/>
              <a:ext cx="381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295280" y="2819520"/>
              <a:ext cx="381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447920" y="2924280"/>
              <a:ext cx="4203720" cy="1673280"/>
            </a:xfrm>
            <a:custGeom>
              <a:avLst/>
              <a:gdLst/>
              <a:ahLst/>
              <a:rect l="l" t="t" r="r" b="b"/>
              <a:pathLst>
                <a:path w="2784" h="1392">
                  <a:moveTo>
                    <a:pt x="0" y="1392"/>
                  </a:moveTo>
                  <a:cubicBezTo>
                    <a:pt x="340" y="1376"/>
                    <a:pt x="680" y="1360"/>
                    <a:pt x="912" y="1248"/>
                  </a:cubicBezTo>
                  <a:cubicBezTo>
                    <a:pt x="1144" y="1136"/>
                    <a:pt x="1232" y="904"/>
                    <a:pt x="1392" y="720"/>
                  </a:cubicBezTo>
                  <a:cubicBezTo>
                    <a:pt x="1552" y="536"/>
                    <a:pt x="1640" y="264"/>
                    <a:pt x="1872" y="144"/>
                  </a:cubicBezTo>
                  <a:cubicBezTo>
                    <a:pt x="2104" y="24"/>
                    <a:pt x="2632" y="24"/>
                    <a:pt x="2784" y="0"/>
                  </a:cubicBezTo>
                </a:path>
              </a:pathLst>
            </a:custGeom>
            <a:noFill/>
            <a:ln w="93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600200" y="4597560"/>
              <a:ext cx="4114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 flipV="1">
              <a:off x="1600200" y="2819160"/>
              <a:ext cx="1440" cy="1778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5715000" y="437508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666880" y="2924280"/>
              <a:ext cx="2984760" cy="1673280"/>
            </a:xfrm>
            <a:custGeom>
              <a:avLst/>
              <a:gdLst/>
              <a:ahLst/>
              <a:rect l="l" t="t" r="r" b="b"/>
              <a:pathLst>
                <a:path w="2784" h="1392">
                  <a:moveTo>
                    <a:pt x="0" y="1392"/>
                  </a:moveTo>
                  <a:cubicBezTo>
                    <a:pt x="340" y="1376"/>
                    <a:pt x="680" y="1360"/>
                    <a:pt x="912" y="1248"/>
                  </a:cubicBezTo>
                  <a:cubicBezTo>
                    <a:pt x="1144" y="1136"/>
                    <a:pt x="1232" y="904"/>
                    <a:pt x="1392" y="720"/>
                  </a:cubicBezTo>
                  <a:cubicBezTo>
                    <a:pt x="1552" y="536"/>
                    <a:pt x="1640" y="264"/>
                    <a:pt x="1872" y="144"/>
                  </a:cubicBezTo>
                  <a:cubicBezTo>
                    <a:pt x="2104" y="24"/>
                    <a:pt x="2632" y="24"/>
                    <a:pt x="2784" y="0"/>
                  </a:cubicBezTo>
                </a:path>
              </a:pathLst>
            </a:custGeom>
            <a:noFill/>
            <a:ln w="9360">
              <a:solidFill>
                <a:srgbClr val="ff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276720" y="3232080"/>
              <a:ext cx="685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i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0"/>
            <a:ext cx="914400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iffa’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R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xample:  80% 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type 1 urn -   </a:t>
            </a:r>
            <a:r>
              <a:rPr b="0" lang="en-US" sz="2400" spc="-1" strike="noStrike">
                <a:solidFill>
                  <a:srgbClr val="ff0066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 baseline="-30000">
                <a:solidFill>
                  <a:srgbClr val="ff0066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20%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ype 2 urn  - 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  <a:ea typeface="Times New Roman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179280" y="620640"/>
          <a:ext cx="4424400" cy="22068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9280" y="620640"/>
                    <a:ext cx="4424400" cy="220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/>
          <p:nvPr/>
        </p:nvSpPr>
        <p:spPr>
          <a:xfrm>
            <a:off x="4952880" y="76500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urn is selected random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133720" y="220968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yoff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0" y="1557360"/>
            <a:ext cx="9144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ternatives (of guessing):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urn 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urn 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no guess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0" y="2697120"/>
          <a:ext cx="7236000" cy="35402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2697120"/>
                    <a:ext cx="7236000" cy="354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" name=""/>
          <p:cNvGraphicFramePr/>
          <p:nvPr/>
        </p:nvGraphicFramePr>
        <p:xfrm>
          <a:off x="-36360" y="5464080"/>
          <a:ext cx="7321320" cy="358164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-36360" y="5464080"/>
                    <a:ext cx="7321320" cy="358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value of </a:t>
            </a:r>
            <a:r>
              <a:rPr b="0" lang="en-US" sz="3200" spc="-1" strike="noStrike" u="sng">
                <a:solidFill>
                  <a:srgbClr val="ff0066"/>
                </a:solidFill>
                <a:uFillTx/>
                <a:latin typeface="Times New Roman"/>
              </a:rPr>
              <a:t>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with EMV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0" y="91440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66"/>
                </a:solidFill>
                <a:uFillTx/>
                <a:latin typeface="Times New Roman"/>
              </a:rPr>
              <a:t>Perfect 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upper bound for any informa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7524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uppose someone is going to give you the 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Arial"/>
                <a:ea typeface="Arial"/>
              </a:rPr>
              <a:t>tru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state of nature. What is the maximum you would be willing to pay hi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0" y="3040200"/>
            <a:ext cx="914400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Arial Unicode MS"/>
                <a:ea typeface="Arial Unicode MS"/>
              </a:rPr>
              <a:t>EVWPI</a:t>
            </a:r>
            <a:r>
              <a:rPr b="0" lang="he-IL" sz="24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2400" spc="-1" strike="noStrike">
                <a:solidFill>
                  <a:srgbClr val="ff0066"/>
                </a:solidFill>
                <a:latin typeface="Arial Unicode MS"/>
                <a:ea typeface="Arial Unicode MS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</a:t>
            </a:r>
            <a:r>
              <a:rPr b="0" lang="en-US" sz="2400" spc="-1" strike="noStrike">
                <a:solidFill>
                  <a:srgbClr val="ff0066"/>
                </a:solidFill>
                <a:latin typeface="Arial Unicode MS"/>
                <a:ea typeface="Arial Unicode MS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2400" spc="-1" strike="noStrike">
                <a:solidFill>
                  <a:srgbClr val="ff0066"/>
                </a:solidFill>
                <a:latin typeface="Arial Unicode MS"/>
                <a:ea typeface="Arial Unicode MS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th </a:t>
            </a:r>
            <a:r>
              <a:rPr b="0" lang="en-US" sz="2400" spc="-1" strike="noStrike">
                <a:solidFill>
                  <a:srgbClr val="ff0066"/>
                </a:solidFill>
                <a:latin typeface="Arial Unicode MS"/>
                <a:ea typeface="Arial Unicode MS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rfect</a:t>
            </a:r>
            <a:r>
              <a:rPr b="0" lang="en-US" sz="2400" spc="-1" strike="noStrike">
                <a:solidFill>
                  <a:srgbClr val="ff0066"/>
                </a:solidFill>
                <a:latin typeface="Arial Unicode MS"/>
                <a:ea typeface="Arial Unicode MS"/>
              </a:rPr>
              <a:t> i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formation</a:t>
            </a:r>
            <a:r>
              <a:rPr b="0" lang="he-IL" sz="24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i="1" lang="he-IL" sz="4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i="1" lang="en-US" sz="4000" spc="-1" strike="noStrike" baseline="-30000">
                <a:solidFill>
                  <a:srgbClr val="000000"/>
                </a:solidFill>
                <a:latin typeface="Arial Unicode MS"/>
                <a:ea typeface="Arial Unicode MS"/>
              </a:rPr>
              <a:t>s </a:t>
            </a:r>
            <a:r>
              <a:rPr b="0" i="1" lang="en-US" sz="4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(s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534204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Arial"/>
              </a:rPr>
              <a:t>EVPI=52–28=24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46483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Arial Unicode MS"/>
                <a:ea typeface="Arial Unicode MS"/>
              </a:rPr>
              <a:t>EVPI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=</a:t>
            </a:r>
            <a:r>
              <a:rPr b="0" lang="en-US" sz="2400" spc="-1" strike="noStrike">
                <a:solidFill>
                  <a:srgbClr val="ff0066"/>
                </a:solidFill>
                <a:latin typeface="Arial Unicode MS"/>
                <a:ea typeface="Arial Unicode MS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xpected </a:t>
            </a:r>
            <a:r>
              <a:rPr b="0" lang="en-US" sz="2400" spc="-1" strike="noStrike">
                <a:solidFill>
                  <a:srgbClr val="ff0066"/>
                </a:solidFill>
                <a:latin typeface="Arial Unicode MS"/>
                <a:ea typeface="Arial Unicode MS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lue of </a:t>
            </a:r>
            <a:r>
              <a:rPr b="0" lang="en-US" sz="2400" spc="-1" strike="noStrike">
                <a:solidFill>
                  <a:srgbClr val="ff0066"/>
                </a:solidFill>
                <a:latin typeface="Arial Unicode MS"/>
                <a:ea typeface="Arial Unicode MS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rfect </a:t>
            </a:r>
            <a:r>
              <a:rPr b="0" lang="en-US" sz="2400" spc="-1" strike="noStrike">
                <a:solidFill>
                  <a:srgbClr val="ff0066"/>
                </a:solidFill>
                <a:latin typeface="Arial Unicode MS"/>
                <a:ea typeface="Arial Unicode MS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formation=EVWPI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MV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388620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Arial"/>
              </a:rPr>
              <a:t>EVWPI=0.8*40+0.2*100=5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553080" y="3048120"/>
            <a:ext cx="236232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ax</a:t>
            </a:r>
            <a:r>
              <a:rPr b="0" i="1" lang="en-US" sz="4000" spc="-1" strike="noStrike" baseline="-30000">
                <a:solidFill>
                  <a:srgbClr val="000000"/>
                </a:solidFill>
                <a:latin typeface="Arial Unicode MS"/>
                <a:ea typeface="Arial Unicode MS"/>
              </a:rPr>
              <a:t>a</a:t>
            </a:r>
            <a:r>
              <a:rPr b="0" i="1" lang="en-US" sz="4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{r</a:t>
            </a:r>
            <a:r>
              <a:rPr b="0" i="1" lang="en-US" sz="4000" spc="-1" strike="noStrike" baseline="-30000">
                <a:solidFill>
                  <a:srgbClr val="000000"/>
                </a:solidFill>
                <a:latin typeface="Arial Unicode MS"/>
                <a:ea typeface="Arial Unicode MS"/>
              </a:rPr>
              <a:t>sa</a:t>
            </a:r>
            <a:r>
              <a:rPr b="0" i="1" lang="en-US" sz="4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}</a:t>
            </a:r>
            <a:r>
              <a:rPr b="0" i="1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0" y="0"/>
            <a:ext cx="9144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66"/>
                </a:solidFill>
                <a:uFillTx/>
                <a:latin typeface="Times New Roman"/>
                <a:ea typeface="Times New Roman"/>
              </a:rPr>
              <a:t>Dynam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problem with uncertaint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volvement of the proces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demonstrated in the 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tree of decisio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1066680"/>
            <a:ext cx="9144000" cy="212832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types of 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nod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Chanc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 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branch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states of nature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Decisio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 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branche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 alternativ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both 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nod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he 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branch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re exhaustive and exclus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5105520" y="3581280"/>
          <a:ext cx="3504960" cy="22100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105520" y="3581280"/>
                    <a:ext cx="3504960" cy="221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0" y="3505320"/>
          <a:ext cx="4191120" cy="23619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3505320"/>
                    <a:ext cx="4191120" cy="23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6553080" y="32767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ce 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838080" y="32767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ision 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500"/>
                            </p:stCondLst>
                            <p:childTnLst>
                              <p:par>
                                <p:cTn id="16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500"/>
                            </p:stCondLst>
                            <p:childTnLst>
                              <p:par>
                                <p:cTn id="1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500"/>
                            </p:stCondLst>
                            <p:childTnLst>
                              <p:par>
                                <p:cTn id="2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"/>
          <p:cNvGraphicFramePr/>
          <p:nvPr/>
        </p:nvGraphicFramePr>
        <p:xfrm>
          <a:off x="0" y="0"/>
          <a:ext cx="5637240" cy="69739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5637240" cy="697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82" name=""/>
          <p:cNvGrpSpPr/>
          <p:nvPr/>
        </p:nvGrpSpPr>
        <p:grpSpPr>
          <a:xfrm>
            <a:off x="5335560" y="0"/>
            <a:ext cx="3808440" cy="6973920"/>
            <a:chOff x="5335560" y="0"/>
            <a:chExt cx="3808440" cy="6973920"/>
          </a:xfrm>
        </p:grpSpPr>
        <p:graphicFrame>
          <p:nvGraphicFramePr>
            <p:cNvPr id="83" name=""/>
            <p:cNvGraphicFramePr/>
            <p:nvPr/>
          </p:nvGraphicFramePr>
          <p:xfrm>
            <a:off x="5335560" y="0"/>
            <a:ext cx="860400" cy="6973920"/>
          </p:xfrm>
          <a:graphic>
            <a:graphicData uri="http://schemas.openxmlformats.org/presentationml/2006/ole">
              <p:oleObj progId="Excel.Sheet.12" r:id="rId4" spid="">
                <p:embed/>
                <p:pic>
                  <p:nvPicPr>
                    <p:cNvPr id="84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5335560" y="0"/>
                      <a:ext cx="860400" cy="6973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85" name=""/>
            <p:cNvGrpSpPr/>
            <p:nvPr/>
          </p:nvGrpSpPr>
          <p:grpSpPr>
            <a:xfrm>
              <a:off x="6248160" y="1058760"/>
              <a:ext cx="2895840" cy="1191240"/>
              <a:chOff x="6248160" y="1058760"/>
              <a:chExt cx="2895840" cy="1191240"/>
            </a:xfrm>
          </p:grpSpPr>
          <p:sp>
            <p:nvSpPr>
              <p:cNvPr id="86" name=""/>
              <p:cNvSpPr/>
              <p:nvPr/>
            </p:nvSpPr>
            <p:spPr>
              <a:xfrm>
                <a:off x="6934320" y="1058760"/>
                <a:ext cx="220968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Final reward: Sum of rewards from start to en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H="1">
                <a:off x="6248160" y="1676520"/>
                <a:ext cx="15238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8" name=""/>
          <p:cNvGrpSpPr/>
          <p:nvPr/>
        </p:nvGrpSpPr>
        <p:grpSpPr>
          <a:xfrm>
            <a:off x="5715000" y="0"/>
            <a:ext cx="3177360" cy="533520"/>
            <a:chOff x="5715000" y="0"/>
            <a:chExt cx="3177360" cy="533520"/>
          </a:xfrm>
        </p:grpSpPr>
        <p:sp>
          <p:nvSpPr>
            <p:cNvPr id="89" name=""/>
            <p:cNvSpPr/>
            <p:nvPr/>
          </p:nvSpPr>
          <p:spPr>
            <a:xfrm>
              <a:off x="5715000" y="0"/>
              <a:ext cx="317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nding node - lea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>
              <a:off x="5874120" y="304920"/>
              <a:ext cx="79416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" name=""/>
          <p:cNvSpPr/>
          <p:nvPr/>
        </p:nvSpPr>
        <p:spPr>
          <a:xfrm>
            <a:off x="6443640" y="2421000"/>
            <a:ext cx="270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lding the tree” backwards from the leaves to the ro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2271600" y="-27000"/>
          <a:ext cx="860400" cy="698508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271600" y="-27000"/>
                    <a:ext cx="860400" cy="698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0" y="2362320"/>
            <a:ext cx="1258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ing node - 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588000" y="3657600"/>
            <a:ext cx="255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Compute EM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a chance node</a:t>
            </a:r>
            <a:r>
              <a:rPr b="0" lang="he-IL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5991120"/>
            <a:ext cx="399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tree gives the maximal EMV at each no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533520" y="1066680"/>
            <a:ext cx="8610480" cy="4772880"/>
            <a:chOff x="533520" y="1066680"/>
            <a:chExt cx="8610480" cy="4772880"/>
          </a:xfrm>
        </p:grpSpPr>
        <p:grpSp>
          <p:nvGrpSpPr>
            <p:cNvPr id="98" name=""/>
            <p:cNvGrpSpPr/>
            <p:nvPr/>
          </p:nvGrpSpPr>
          <p:grpSpPr>
            <a:xfrm>
              <a:off x="533520" y="3581280"/>
              <a:ext cx="8610480" cy="2258280"/>
              <a:chOff x="533520" y="3581280"/>
              <a:chExt cx="8610480" cy="2258280"/>
            </a:xfrm>
          </p:grpSpPr>
          <p:sp>
            <p:nvSpPr>
              <p:cNvPr id="99" name=""/>
              <p:cNvSpPr/>
              <p:nvPr/>
            </p:nvSpPr>
            <p:spPr>
              <a:xfrm>
                <a:off x="6553080" y="4648320"/>
                <a:ext cx="259092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2.</a:t>
                </a:r>
                <a:r>
                  <a:rPr b="0" lang="en-US" sz="2400" spc="-1" strike="noStrike">
                    <a:solidFill>
                      <a:srgbClr val="ff0066"/>
                    </a:solidFill>
                    <a:latin typeface="Times New Roman"/>
                  </a:rPr>
                  <a:t> Selecting an alternative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in a decision node.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flipH="1" flipV="1">
                <a:off x="1066320" y="3843360"/>
                <a:ext cx="5791320" cy="1262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533520" y="358128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66"/>
                    </a:solidFill>
                    <a:latin typeface="Times New Roman"/>
                  </a:rPr>
                  <a:t>28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2" name=""/>
            <p:cNvSpPr/>
            <p:nvPr/>
          </p:nvSpPr>
          <p:spPr>
            <a:xfrm flipV="1">
              <a:off x="1066680" y="1066680"/>
              <a:ext cx="381240" cy="2362320"/>
            </a:xfrm>
            <a:prstGeom prst="line">
              <a:avLst/>
            </a:prstGeom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523880" y="1143000"/>
              <a:ext cx="1676520" cy="0"/>
            </a:xfrm>
            <a:prstGeom prst="line">
              <a:avLst/>
            </a:prstGeom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" name=""/>
          <p:cNvSpPr/>
          <p:nvPr/>
        </p:nvSpPr>
        <p:spPr>
          <a:xfrm>
            <a:off x="6300720" y="2276640"/>
            <a:ext cx="2843280" cy="424800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0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500"/>
                            </p:stCondLst>
                            <p:childTnLst>
                              <p:par>
                                <p:cTn id="23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5" name=""/>
          <p:cNvGraphicFramePr/>
          <p:nvPr/>
        </p:nvGraphicFramePr>
        <p:xfrm>
          <a:off x="0" y="1484280"/>
          <a:ext cx="7056360" cy="53737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484280"/>
                    <a:ext cx="7056360" cy="537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7380360" y="1413000"/>
            <a:ext cx="1763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decision tree for purchasing one b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urchasing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836640"/>
            <a:ext cx="74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awing one ball and identifying its color: 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r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lac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3794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urn has 10 balls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rn 1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B, 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4R; 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rn 2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1B,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 9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0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228600"/>
            <a:ext cx="716292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(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 baseline="-30000">
                <a:solidFill>
                  <a:srgbClr val="3333cc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0.8;    p(</a:t>
            </a:r>
            <a:r>
              <a:rPr b="0" lang="en-US" sz="2400" spc="-1" strike="noStrike">
                <a:solidFill>
                  <a:srgbClr val="ff66ff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 baseline="-25000">
                <a:solidFill>
                  <a:srgbClr val="ff66ff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0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1981080"/>
            <a:ext cx="883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1628640"/>
            <a:ext cx="8534520" cy="11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 baseline="-30000">
                <a:solidFill>
                  <a:srgbClr val="3333cc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|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?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 baseline="-30000">
                <a:solidFill>
                  <a:srgbClr val="3333cc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|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?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lang="en-US" sz="2400" spc="-1" strike="noStrike">
                <a:solidFill>
                  <a:srgbClr val="ff66ff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 baseline="-30000">
                <a:solidFill>
                  <a:srgbClr val="ff66ff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|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?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lang="en-US" sz="2400" spc="-1" strike="noStrike">
                <a:solidFill>
                  <a:srgbClr val="ff66ff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 baseline="-30000">
                <a:solidFill>
                  <a:srgbClr val="ff66ff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|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=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 baseline="-30000">
                <a:solidFill>
                  <a:srgbClr val="3333cc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4/10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B|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 baseline="-30000">
                <a:solidFill>
                  <a:srgbClr val="3333cc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6/10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en-US" sz="2400" spc="-1" strike="noStrike">
                <a:solidFill>
                  <a:srgbClr val="ff66ff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 baseline="-30000">
                <a:solidFill>
                  <a:srgbClr val="ff66ff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9/10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B| </a:t>
            </a:r>
            <a:r>
              <a:rPr b="0" lang="en-US" sz="2400" spc="-1" strike="noStrike">
                <a:solidFill>
                  <a:srgbClr val="ff66ff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 baseline="-30000">
                <a:solidFill>
                  <a:srgbClr val="ff66ff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1/1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31240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yes’ rul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1681200" y="2971800"/>
                <a:ext cx="656748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θ</m:t>
                    </m:r>
                    <m:r>
                      <m:t xml:space="preserve">|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e>
                    </m:nary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16" name=""/>
          <p:cNvGraphicFramePr/>
          <p:nvPr/>
        </p:nvGraphicFramePr>
        <p:xfrm>
          <a:off x="0" y="3733920"/>
          <a:ext cx="9144000" cy="6858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3733920"/>
                    <a:ext cx="9144000" cy="6858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18" name=""/>
          <p:cNvSpPr/>
          <p:nvPr/>
        </p:nvSpPr>
        <p:spPr>
          <a:xfrm>
            <a:off x="0" y="2971800"/>
            <a:ext cx="8839080" cy="7621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0" y="4495680"/>
          <a:ext cx="9144000" cy="68580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4495680"/>
                    <a:ext cx="914400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1" name=""/>
          <p:cNvGraphicFramePr/>
          <p:nvPr/>
        </p:nvGraphicFramePr>
        <p:xfrm>
          <a:off x="0" y="5410080"/>
          <a:ext cx="9144000" cy="76212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0" y="5410080"/>
                    <a:ext cx="914400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0" y="765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urn has 10 balls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rn 1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B, 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4R; 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rn 2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1B,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 9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500"/>
                            </p:stCondLst>
                            <p:childTnLst>
                              <p:par>
                                <p:cTn id="3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1000"/>
                            </p:stCondLst>
                            <p:childTnLst>
                              <p:par>
                                <p:cTn id="3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4" name=""/>
          <p:cNvGraphicFramePr/>
          <p:nvPr/>
        </p:nvGraphicFramePr>
        <p:xfrm>
          <a:off x="0" y="533520"/>
          <a:ext cx="7005600" cy="49528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533520"/>
                    <a:ext cx="70056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"/>
          <p:cNvSpPr/>
          <p:nvPr/>
        </p:nvSpPr>
        <p:spPr>
          <a:xfrm>
            <a:off x="7162920" y="601560"/>
            <a:ext cx="1676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optimal polic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according to EMV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3048120" y="1523880"/>
            <a:ext cx="6095880" cy="1492920"/>
            <a:chOff x="3048120" y="1523880"/>
            <a:chExt cx="6095880" cy="1492920"/>
          </a:xfrm>
        </p:grpSpPr>
        <p:grpSp>
          <p:nvGrpSpPr>
            <p:cNvPr id="128" name=""/>
            <p:cNvGrpSpPr/>
            <p:nvPr/>
          </p:nvGrpSpPr>
          <p:grpSpPr>
            <a:xfrm>
              <a:off x="3048120" y="1523880"/>
              <a:ext cx="1828800" cy="838080"/>
              <a:chOff x="3048120" y="1523880"/>
              <a:chExt cx="1828800" cy="838080"/>
            </a:xfrm>
          </p:grpSpPr>
          <p:sp>
            <p:nvSpPr>
              <p:cNvPr id="129" name=""/>
              <p:cNvSpPr/>
              <p:nvPr/>
            </p:nvSpPr>
            <p:spPr>
              <a:xfrm>
                <a:off x="3429000" y="2361960"/>
                <a:ext cx="1447920" cy="0"/>
              </a:xfrm>
              <a:prstGeom prst="line">
                <a:avLst/>
              </a:prstGeom>
              <a:ln w="255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048120" y="1523880"/>
                <a:ext cx="304560" cy="762120"/>
              </a:xfrm>
              <a:prstGeom prst="line">
                <a:avLst/>
              </a:prstGeom>
              <a:ln w="255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1" name=""/>
            <p:cNvSpPr/>
            <p:nvPr/>
          </p:nvSpPr>
          <p:spPr>
            <a:xfrm>
              <a:off x="7238880" y="2506680"/>
              <a:ext cx="1905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f R then</a:t>
              </a:r>
              <a:r>
                <a:rPr b="0" lang="he-IL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3048120" y="3429000"/>
            <a:ext cx="6132240" cy="982800"/>
            <a:chOff x="3048120" y="3429000"/>
            <a:chExt cx="6132240" cy="982800"/>
          </a:xfrm>
        </p:grpSpPr>
        <p:sp>
          <p:nvSpPr>
            <p:cNvPr id="133" name=""/>
            <p:cNvSpPr/>
            <p:nvPr/>
          </p:nvSpPr>
          <p:spPr>
            <a:xfrm>
              <a:off x="7351560" y="3429000"/>
              <a:ext cx="1828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f B then</a:t>
              </a:r>
              <a:r>
                <a:rPr b="0" lang="he-IL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3352680" y="3649680"/>
              <a:ext cx="1524240" cy="0"/>
            </a:xfrm>
            <a:prstGeom prst="line">
              <a:avLst/>
            </a:prstGeom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3048120" y="3573360"/>
              <a:ext cx="304560" cy="838440"/>
            </a:xfrm>
            <a:prstGeom prst="line">
              <a:avLst/>
            </a:prstGeom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" name=""/>
          <p:cNvSpPr/>
          <p:nvPr/>
        </p:nvSpPr>
        <p:spPr>
          <a:xfrm>
            <a:off x="0" y="0"/>
            <a:ext cx="2971800" cy="15570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olicy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rule which assigns an alternative for each realization of state of na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5372280"/>
            <a:ext cx="9144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EVWI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(one ball)</a:t>
            </a:r>
            <a:r>
              <a:rPr b="0" lang="he-IL" sz="24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h</a:t>
            </a:r>
            <a:r>
              <a:rPr b="0" lang="he-I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(one ball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formation =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35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EVI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(one ball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he-IL" sz="24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pected 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ue of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(one ball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formation             </a:t>
            </a:r>
            <a:r>
              <a:rPr b="0" lang="he-I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he-I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he-I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0" lang="he-IL" sz="24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VWI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V </a:t>
            </a:r>
            <a:r>
              <a:rPr b="0" lang="he-I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35.2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28=7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851280" y="0"/>
            <a:ext cx="489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lding back the 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0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5T13:14:39Z</dcterms:created>
  <dc:creator>Moti Henig</dc:creator>
  <dc:description/>
  <dc:language>en-US</dc:language>
  <cp:lastModifiedBy>Henig</cp:lastModifiedBy>
  <dcterms:modified xsi:type="dcterms:W3CDTF">2004-10-14T20:08:22Z</dcterms:modified>
  <cp:revision>344</cp:revision>
  <dc:subject/>
  <dc:title>PowerPoint Presentation</dc:title>
</cp:coreProperties>
</file>