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E84-5B76-4BB7-A8B9-683F725A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300-BFB8-43CE-BA8D-20B13ACA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877-32A2-4DDE-BAB9-BC5DA3EB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9DD-BEF5-446F-843A-A4E9BAD8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853-BB83-415D-AC85-BF9B1CAE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1BB-F7B6-44DE-BE93-5F3A6D48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84F-7A4F-4536-BA8A-1F7D24BE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E67-F3F6-4F4D-BBCA-5FBABE20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71A1-87A5-45D7-A894-0F45FAC0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ECB-DBB3-44B8-A50B-B2953515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A9D-2BC9-4167-B86B-1624B854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FBA-E957-4F86-BEDD-1D17F422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9935-133E-4C76-9025-F6969E8F3FC3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oice rules under 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Times New Roman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206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iven probabilities, the alternatives can be presented by distribution fun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i="1" lang="en-US" sz="2400" spc="-1" strike="noStrike">
                <a:solidFill>
                  <a:srgbClr val="6699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be a random variable with a distribution func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i="1" lang="en-US" sz="2400" spc="-1" strike="noStrike">
                <a:solidFill>
                  <a:srgbClr val="6699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stochastic domin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fo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144000" cy="20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EM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-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pected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etary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ue - criter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the probability that state of natu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occ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V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s)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MV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EMV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2819160"/>
            <a:ext cx="5334120" cy="2015640"/>
            <a:chOff x="1295280" y="2819160"/>
            <a:chExt cx="5334120" cy="2015640"/>
          </a:xfrm>
        </p:grpSpPr>
        <p:sp>
          <p:nvSpPr>
            <p:cNvPr id="45" name=""/>
            <p:cNvSpPr/>
            <p:nvPr/>
          </p:nvSpPr>
          <p:spPr>
            <a:xfrm>
              <a:off x="4419720" y="347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0" i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03280" y="43657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95280" y="28195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7920" y="2924280"/>
              <a:ext cx="4203720" cy="1673280"/>
            </a:xfrm>
            <a:custGeom>
              <a:avLst/>
              <a:gdLst/>
              <a:ahLst/>
              <a:rect l="l" t="t" r="r" b="b"/>
              <a:pathLst>
                <a:path w="2784" h="1392">
                  <a:moveTo>
                    <a:pt x="0" y="1392"/>
                  </a:moveTo>
                  <a:cubicBezTo>
                    <a:pt x="340" y="1376"/>
                    <a:pt x="680" y="1360"/>
                    <a:pt x="912" y="1248"/>
                  </a:cubicBezTo>
                  <a:cubicBezTo>
                    <a:pt x="1144" y="1136"/>
                    <a:pt x="1232" y="904"/>
                    <a:pt x="1392" y="720"/>
                  </a:cubicBezTo>
                  <a:cubicBezTo>
                    <a:pt x="1552" y="536"/>
                    <a:pt x="1640" y="264"/>
                    <a:pt x="1872" y="144"/>
                  </a:cubicBezTo>
                  <a:cubicBezTo>
                    <a:pt x="2104" y="24"/>
                    <a:pt x="2632" y="24"/>
                    <a:pt x="278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00200" y="4597560"/>
              <a:ext cx="411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600200" y="2819160"/>
              <a:ext cx="1440" cy="17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715000" y="4375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66880" y="2924280"/>
              <a:ext cx="2984760" cy="1673280"/>
            </a:xfrm>
            <a:custGeom>
              <a:avLst/>
              <a:gdLst/>
              <a:ahLst/>
              <a:rect l="l" t="t" r="r" b="b"/>
              <a:pathLst>
                <a:path w="2784" h="1392">
                  <a:moveTo>
                    <a:pt x="0" y="1392"/>
                  </a:moveTo>
                  <a:cubicBezTo>
                    <a:pt x="340" y="1376"/>
                    <a:pt x="680" y="1360"/>
                    <a:pt x="912" y="1248"/>
                  </a:cubicBezTo>
                  <a:cubicBezTo>
                    <a:pt x="1144" y="1136"/>
                    <a:pt x="1232" y="904"/>
                    <a:pt x="1392" y="720"/>
                  </a:cubicBezTo>
                  <a:cubicBezTo>
                    <a:pt x="1552" y="536"/>
                    <a:pt x="1640" y="264"/>
                    <a:pt x="1872" y="144"/>
                  </a:cubicBezTo>
                  <a:cubicBezTo>
                    <a:pt x="2104" y="24"/>
                    <a:pt x="2632" y="24"/>
                    <a:pt x="2784" y="0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76720" y="3232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ffa’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ample:  80%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ype 1 urn -   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20%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ype 2 urn  -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620640"/>
          <a:ext cx="4424400" cy="2206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620640"/>
                    <a:ext cx="4424400" cy="22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952880" y="765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rn is selected random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2096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55736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s (of guessing)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ur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no gue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2697120"/>
          <a:ext cx="7236000" cy="3540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697120"/>
                    <a:ext cx="723600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-36360" y="5464080"/>
          <a:ext cx="7321320" cy="3581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36360" y="5464080"/>
                    <a:ext cx="7321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value of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ith E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1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Perfect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pper bound for any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someone is going to give you th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ate of nature. What is the maximum you would be willing to pay h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40200"/>
            <a:ext cx="9144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VWPI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th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fect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formation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s 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(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3420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EVPI=52–28=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648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VP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pected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ue of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fect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formation=EVWP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886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EVWPI=0.8*40+0.2*100=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048120"/>
            <a:ext cx="2362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{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}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Dynam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blem with uncertain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volvement of the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monstrated in 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ree of deci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66680"/>
            <a:ext cx="9144000" cy="2128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types of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tates of natur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o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exhaustive and exclu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105520" y="3581280"/>
          <a:ext cx="3504960" cy="221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3581280"/>
                    <a:ext cx="35049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3505320"/>
          <a:ext cx="4191120" cy="2361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505320"/>
                    <a:ext cx="41911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6553080" y="3276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c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5637240" cy="697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637240" cy="69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"/>
          <p:cNvGrpSpPr/>
          <p:nvPr/>
        </p:nvGrpSpPr>
        <p:grpSpPr>
          <a:xfrm>
            <a:off x="5335560" y="0"/>
            <a:ext cx="3808440" cy="6973920"/>
            <a:chOff x="5335560" y="0"/>
            <a:chExt cx="3808440" cy="6973920"/>
          </a:xfrm>
        </p:grpSpPr>
        <p:graphicFrame>
          <p:nvGraphicFramePr>
            <p:cNvPr id="83" name=""/>
            <p:cNvGraphicFramePr/>
            <p:nvPr/>
          </p:nvGraphicFramePr>
          <p:xfrm>
            <a:off x="5335560" y="0"/>
            <a:ext cx="860400" cy="69739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5560" y="0"/>
                      <a:ext cx="860400" cy="697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5" name=""/>
            <p:cNvGrpSpPr/>
            <p:nvPr/>
          </p:nvGrpSpPr>
          <p:grpSpPr>
            <a:xfrm>
              <a:off x="6248160" y="1058760"/>
              <a:ext cx="2895840" cy="1191240"/>
              <a:chOff x="6248160" y="1058760"/>
              <a:chExt cx="2895840" cy="1191240"/>
            </a:xfrm>
          </p:grpSpPr>
          <p:sp>
            <p:nvSpPr>
              <p:cNvPr id="86" name=""/>
              <p:cNvSpPr/>
              <p:nvPr/>
            </p:nvSpPr>
            <p:spPr>
              <a:xfrm>
                <a:off x="6934320" y="1058760"/>
                <a:ext cx="2209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nal reward: Sum of rewards from start to e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248160" y="1676520"/>
                <a:ext cx="1523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5715000" y="0"/>
            <a:ext cx="3177360" cy="533520"/>
            <a:chOff x="5715000" y="0"/>
            <a:chExt cx="3177360" cy="533520"/>
          </a:xfrm>
        </p:grpSpPr>
        <p:sp>
          <p:nvSpPr>
            <p:cNvPr id="89" name=""/>
            <p:cNvSpPr/>
            <p:nvPr/>
          </p:nvSpPr>
          <p:spPr>
            <a:xfrm>
              <a:off x="5715000" y="0"/>
              <a:ext cx="317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ding node - lea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874120" y="304920"/>
              <a:ext cx="794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443640" y="2421000"/>
            <a:ext cx="27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ding the tree” backwards from the leaves to the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71600" y="-27000"/>
          <a:ext cx="860400" cy="69850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71600" y="-27000"/>
                    <a:ext cx="86040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236232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node -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88000" y="3657600"/>
            <a:ext cx="25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ompute EM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chance node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91120"/>
            <a:ext cx="39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gives the maximal EMV at each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1066680"/>
            <a:ext cx="8610480" cy="4772880"/>
            <a:chOff x="533520" y="1066680"/>
            <a:chExt cx="8610480" cy="4772880"/>
          </a:xfrm>
        </p:grpSpPr>
        <p:grpSp>
          <p:nvGrpSpPr>
            <p:cNvPr id="98" name=""/>
            <p:cNvGrpSpPr/>
            <p:nvPr/>
          </p:nvGrpSpPr>
          <p:grpSpPr>
            <a:xfrm>
              <a:off x="533520" y="3581280"/>
              <a:ext cx="8610480" cy="2258280"/>
              <a:chOff x="533520" y="3581280"/>
              <a:chExt cx="8610480" cy="2258280"/>
            </a:xfrm>
          </p:grpSpPr>
          <p:sp>
            <p:nvSpPr>
              <p:cNvPr id="99" name=""/>
              <p:cNvSpPr/>
              <p:nvPr/>
            </p:nvSpPr>
            <p:spPr>
              <a:xfrm>
                <a:off x="6553080" y="4648320"/>
                <a:ext cx="2590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 Selecting an alternativ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n a decision nod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flipV="1">
                <a:off x="1066320" y="3843360"/>
                <a:ext cx="5791320" cy="12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3520" y="3581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flipV="1">
              <a:off x="1066680" y="1066680"/>
              <a:ext cx="381240" cy="236232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3880" y="1143000"/>
              <a:ext cx="1676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300720" y="2276640"/>
            <a:ext cx="2843280" cy="4248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1484280"/>
          <a:ext cx="7056360" cy="5373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70563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380360" y="1413000"/>
            <a:ext cx="17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tree for purchasing one 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rchas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6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one ball and identifying its color: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79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urn has 10 ball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1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B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R;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2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B,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9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28600"/>
            <a:ext cx="7162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.8;    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8108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628640"/>
            <a:ext cx="85345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?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4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B|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6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9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B| 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1/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es’ r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81200" y="2971800"/>
                <a:ext cx="656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0" y="3733920"/>
          <a:ext cx="9144000" cy="685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33920"/>
                    <a:ext cx="9144000" cy="685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2971800"/>
            <a:ext cx="8839080" cy="762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495680"/>
          <a:ext cx="9144000" cy="685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95680"/>
                    <a:ext cx="9144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0" y="5410080"/>
          <a:ext cx="9144000" cy="762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410080"/>
                    <a:ext cx="914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urn has 10 ball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1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B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R;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2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B,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9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533520"/>
          <a:ext cx="7005600" cy="4952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3520"/>
                    <a:ext cx="7005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2920" y="60156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optimal poli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ccording to EMV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8120" y="1523880"/>
            <a:ext cx="6095880" cy="1492920"/>
            <a:chOff x="3048120" y="1523880"/>
            <a:chExt cx="6095880" cy="1492920"/>
          </a:xfrm>
        </p:grpSpPr>
        <p:grpSp>
          <p:nvGrpSpPr>
            <p:cNvPr id="128" name=""/>
            <p:cNvGrpSpPr/>
            <p:nvPr/>
          </p:nvGrpSpPr>
          <p:grpSpPr>
            <a:xfrm>
              <a:off x="3048120" y="1523880"/>
              <a:ext cx="1828800" cy="838080"/>
              <a:chOff x="3048120" y="1523880"/>
              <a:chExt cx="1828800" cy="838080"/>
            </a:xfrm>
          </p:grpSpPr>
          <p:sp>
            <p:nvSpPr>
              <p:cNvPr id="129" name=""/>
              <p:cNvSpPr/>
              <p:nvPr/>
            </p:nvSpPr>
            <p:spPr>
              <a:xfrm>
                <a:off x="3429000" y="2361960"/>
                <a:ext cx="144792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48120" y="1523880"/>
                <a:ext cx="304560" cy="76212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238880" y="25066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R then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048120" y="3429000"/>
            <a:ext cx="6132240" cy="982800"/>
            <a:chOff x="3048120" y="3429000"/>
            <a:chExt cx="6132240" cy="982800"/>
          </a:xfrm>
        </p:grpSpPr>
        <p:sp>
          <p:nvSpPr>
            <p:cNvPr id="133" name=""/>
            <p:cNvSpPr/>
            <p:nvPr/>
          </p:nvSpPr>
          <p:spPr>
            <a:xfrm>
              <a:off x="7351560" y="3429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B then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52680" y="3649680"/>
              <a:ext cx="152424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48120" y="3573360"/>
              <a:ext cx="304560" cy="838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0" y="0"/>
            <a:ext cx="297180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lic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ule which assigns an alternative for each realization of state of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722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h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tion 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I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pected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e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tion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W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V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5.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8=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ding back th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14:39Z</dcterms:created>
  <dc:creator>Moti Henig</dc:creator>
  <dc:description/>
  <dc:language>en-US</dc:language>
  <cp:lastModifiedBy>Henig</cp:lastModifiedBy>
  <dcterms:modified xsi:type="dcterms:W3CDTF">2004-10-14T20:08:22Z</dcterms:modified>
  <cp:revision>344</cp:revision>
  <dc:subject/>
  <dc:title>PowerPoint Presentation</dc:title>
</cp:coreProperties>
</file>