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CA75-AB00-4FCA-A257-BF3BD955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D719-A2BD-44DB-B681-8F385360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8C3D-3616-4767-A184-96184FA8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459C-1B4A-4109-89B8-02238CAC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3783-94F7-4D81-A9F2-06159ED1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C04B-9E7C-408E-BD23-CD25475F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0C15-DEA8-4C31-8D03-20380D2D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504D-CD8C-4535-8005-D9742C8D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73C8-A0BE-4247-B0E1-6BD7975E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577F-A64B-4879-876B-02B0DB9C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9C22-3C1C-4B2C-BEF3-08780E85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AC2C-DA6F-4C7F-A304-B05F7CB6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2C90-5D95-41A0-B028-5A1E02F7C636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8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oice rules under 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Times New Roman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9144000" cy="206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Given probabilities, the alternatives can be presented by distribution fun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i="1" lang="en-US" sz="2400" spc="-1" strike="noStrike">
                <a:solidFill>
                  <a:srgbClr val="6699ff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be a random variable with a distribution func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i="1" lang="en-US" sz="2400" spc="-1" strike="noStrike">
                <a:solidFill>
                  <a:srgbClr val="6699ff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stochastic domin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x)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for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724280"/>
            <a:ext cx="9144000" cy="20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EM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-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pected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etary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ue - criter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s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the probability that state of natu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ll occ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V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he-IL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s)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MV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EMV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295280" y="2819160"/>
            <a:ext cx="5334120" cy="2015640"/>
            <a:chOff x="1295280" y="2819160"/>
            <a:chExt cx="5334120" cy="2015640"/>
          </a:xfrm>
        </p:grpSpPr>
        <p:sp>
          <p:nvSpPr>
            <p:cNvPr id="45" name=""/>
            <p:cNvSpPr/>
            <p:nvPr/>
          </p:nvSpPr>
          <p:spPr>
            <a:xfrm>
              <a:off x="4419720" y="347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0" i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03280" y="43657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95280" y="28195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47920" y="2924280"/>
              <a:ext cx="4203720" cy="1673280"/>
            </a:xfrm>
            <a:custGeom>
              <a:avLst/>
              <a:gdLst/>
              <a:ahLst/>
              <a:rect l="l" t="t" r="r" b="b"/>
              <a:pathLst>
                <a:path w="2784" h="1392">
                  <a:moveTo>
                    <a:pt x="0" y="1392"/>
                  </a:moveTo>
                  <a:cubicBezTo>
                    <a:pt x="340" y="1376"/>
                    <a:pt x="680" y="1360"/>
                    <a:pt x="912" y="1248"/>
                  </a:cubicBezTo>
                  <a:cubicBezTo>
                    <a:pt x="1144" y="1136"/>
                    <a:pt x="1232" y="904"/>
                    <a:pt x="1392" y="720"/>
                  </a:cubicBezTo>
                  <a:cubicBezTo>
                    <a:pt x="1552" y="536"/>
                    <a:pt x="1640" y="264"/>
                    <a:pt x="1872" y="144"/>
                  </a:cubicBezTo>
                  <a:cubicBezTo>
                    <a:pt x="2104" y="24"/>
                    <a:pt x="2632" y="24"/>
                    <a:pt x="278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00200" y="4597560"/>
              <a:ext cx="411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600200" y="2819160"/>
              <a:ext cx="1440" cy="17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5715000" y="4375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66880" y="2924280"/>
              <a:ext cx="2984760" cy="1673280"/>
            </a:xfrm>
            <a:custGeom>
              <a:avLst/>
              <a:gdLst/>
              <a:ahLst/>
              <a:rect l="l" t="t" r="r" b="b"/>
              <a:pathLst>
                <a:path w="2784" h="1392">
                  <a:moveTo>
                    <a:pt x="0" y="1392"/>
                  </a:moveTo>
                  <a:cubicBezTo>
                    <a:pt x="340" y="1376"/>
                    <a:pt x="680" y="1360"/>
                    <a:pt x="912" y="1248"/>
                  </a:cubicBezTo>
                  <a:cubicBezTo>
                    <a:pt x="1144" y="1136"/>
                    <a:pt x="1232" y="904"/>
                    <a:pt x="1392" y="720"/>
                  </a:cubicBezTo>
                  <a:cubicBezTo>
                    <a:pt x="1552" y="536"/>
                    <a:pt x="1640" y="264"/>
                    <a:pt x="1872" y="144"/>
                  </a:cubicBezTo>
                  <a:cubicBezTo>
                    <a:pt x="2104" y="24"/>
                    <a:pt x="2632" y="24"/>
                    <a:pt x="2784" y="0"/>
                  </a:cubicBezTo>
                </a:path>
              </a:pathLst>
            </a:custGeom>
            <a:noFill/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76720" y="32320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iffa’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ample:  80%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ype 1 urn -   </a:t>
            </a: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20%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ype 2 urn  -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620640"/>
          <a:ext cx="4424400" cy="2206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620640"/>
                    <a:ext cx="4424400" cy="22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952880" y="765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urn is selected random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22096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off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55736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s (of guessing):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urn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rn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no gues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2697120"/>
          <a:ext cx="7236000" cy="3540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697120"/>
                    <a:ext cx="723600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-36360" y="5464080"/>
          <a:ext cx="7321320" cy="3581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-36360" y="5464080"/>
                    <a:ext cx="73213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value of 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ith EM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14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Perfect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upper bound for any inform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someone is going to give you the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tate of nature. What is the maximum you would be willing to pay hi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040200"/>
            <a:ext cx="91440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EVWPI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th 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fect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formation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he-IL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 Unicode MS"/>
                <a:ea typeface="Arial Unicode MS"/>
              </a:rPr>
              <a:t>s </a:t>
            </a:r>
            <a:r>
              <a:rPr b="0" i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(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34204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EVPI=52–28=2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648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EVP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pected 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ue of 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fect 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formation=EVWP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886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EVWPI=0.8*40+0.2*100=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3048120"/>
            <a:ext cx="23623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 Unicode MS"/>
                <a:ea typeface="Arial Unicode MS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{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 Unicode MS"/>
                <a:ea typeface="Arial Unicode MS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}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Dynam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problem with uncertain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volvement of the 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monstrated in th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ree of decis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066680"/>
            <a:ext cx="9144000" cy="2128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types of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ha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ranch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states of natur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ci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ranch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lterna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oth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ranch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exhaustive and exclus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105520" y="3581280"/>
          <a:ext cx="3504960" cy="2210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3581280"/>
                    <a:ext cx="350496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0" y="3505320"/>
          <a:ext cx="4191120" cy="23619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505320"/>
                    <a:ext cx="41911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6553080" y="3276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c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3276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0"/>
          <a:ext cx="5637240" cy="697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637240" cy="69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" name=""/>
          <p:cNvGrpSpPr/>
          <p:nvPr/>
        </p:nvGrpSpPr>
        <p:grpSpPr>
          <a:xfrm>
            <a:off x="5335560" y="0"/>
            <a:ext cx="3808440" cy="6973920"/>
            <a:chOff x="5335560" y="0"/>
            <a:chExt cx="3808440" cy="6973920"/>
          </a:xfrm>
        </p:grpSpPr>
        <p:graphicFrame>
          <p:nvGraphicFramePr>
            <p:cNvPr id="83" name=""/>
            <p:cNvGraphicFramePr/>
            <p:nvPr/>
          </p:nvGraphicFramePr>
          <p:xfrm>
            <a:off x="5335560" y="0"/>
            <a:ext cx="860400" cy="697392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35560" y="0"/>
                      <a:ext cx="860400" cy="697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5" name=""/>
            <p:cNvGrpSpPr/>
            <p:nvPr/>
          </p:nvGrpSpPr>
          <p:grpSpPr>
            <a:xfrm>
              <a:off x="6248160" y="1058760"/>
              <a:ext cx="2895840" cy="1191240"/>
              <a:chOff x="6248160" y="1058760"/>
              <a:chExt cx="2895840" cy="1191240"/>
            </a:xfrm>
          </p:grpSpPr>
          <p:sp>
            <p:nvSpPr>
              <p:cNvPr id="86" name=""/>
              <p:cNvSpPr/>
              <p:nvPr/>
            </p:nvSpPr>
            <p:spPr>
              <a:xfrm>
                <a:off x="6934320" y="1058760"/>
                <a:ext cx="2209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inal reward: Sum of rewards from start to e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6248160" y="1676520"/>
                <a:ext cx="1523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" name=""/>
          <p:cNvGrpSpPr/>
          <p:nvPr/>
        </p:nvGrpSpPr>
        <p:grpSpPr>
          <a:xfrm>
            <a:off x="5715000" y="0"/>
            <a:ext cx="3177360" cy="533520"/>
            <a:chOff x="5715000" y="0"/>
            <a:chExt cx="3177360" cy="533520"/>
          </a:xfrm>
        </p:grpSpPr>
        <p:sp>
          <p:nvSpPr>
            <p:cNvPr id="89" name=""/>
            <p:cNvSpPr/>
            <p:nvPr/>
          </p:nvSpPr>
          <p:spPr>
            <a:xfrm>
              <a:off x="5715000" y="0"/>
              <a:ext cx="317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ding node - lea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874120" y="304920"/>
              <a:ext cx="794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443640" y="2421000"/>
            <a:ext cx="27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ding the tree” backwards from the leaves to the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71600" y="-27000"/>
          <a:ext cx="860400" cy="69850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71600" y="-27000"/>
                    <a:ext cx="860400" cy="69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2362320"/>
            <a:ext cx="12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node -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88000" y="3657600"/>
            <a:ext cx="25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Compute EM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 chance node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991120"/>
            <a:ext cx="39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e gives the maximal EMV at each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1066680"/>
            <a:ext cx="8610480" cy="4772880"/>
            <a:chOff x="533520" y="1066680"/>
            <a:chExt cx="8610480" cy="4772880"/>
          </a:xfrm>
        </p:grpSpPr>
        <p:grpSp>
          <p:nvGrpSpPr>
            <p:cNvPr id="98" name=""/>
            <p:cNvGrpSpPr/>
            <p:nvPr/>
          </p:nvGrpSpPr>
          <p:grpSpPr>
            <a:xfrm>
              <a:off x="533520" y="3581280"/>
              <a:ext cx="8610480" cy="2258280"/>
              <a:chOff x="533520" y="3581280"/>
              <a:chExt cx="8610480" cy="2258280"/>
            </a:xfrm>
          </p:grpSpPr>
          <p:sp>
            <p:nvSpPr>
              <p:cNvPr id="99" name=""/>
              <p:cNvSpPr/>
              <p:nvPr/>
            </p:nvSpPr>
            <p:spPr>
              <a:xfrm>
                <a:off x="6553080" y="4648320"/>
                <a:ext cx="25909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 Selecting an alternativ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n a decision node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 flipV="1">
                <a:off x="1066320" y="3843360"/>
                <a:ext cx="5791320" cy="126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33520" y="35812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 flipV="1">
              <a:off x="1066680" y="1066680"/>
              <a:ext cx="381240" cy="236232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23880" y="1143000"/>
              <a:ext cx="16765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300720" y="2276640"/>
            <a:ext cx="2843280" cy="4248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1484280"/>
          <a:ext cx="7056360" cy="5373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84280"/>
                    <a:ext cx="705636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7380360" y="1413000"/>
            <a:ext cx="17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ision tree for purchasing one 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urchas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83664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one ball and identifying its color: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79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urn has 10 ball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n 1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B,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4R;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n 2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B,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9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28600"/>
            <a:ext cx="71629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.8;    p(</a:t>
            </a:r>
            <a:r>
              <a:rPr b="0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98108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628640"/>
            <a:ext cx="85345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?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4/10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B|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6/10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9/10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B| </a:t>
            </a:r>
            <a:r>
              <a:rPr b="0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1/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yes’ ru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681200" y="2971800"/>
                <a:ext cx="6567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6" name=""/>
          <p:cNvGraphicFramePr/>
          <p:nvPr/>
        </p:nvGraphicFramePr>
        <p:xfrm>
          <a:off x="0" y="3733920"/>
          <a:ext cx="9144000" cy="685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733920"/>
                    <a:ext cx="9144000" cy="685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2971800"/>
            <a:ext cx="8839080" cy="762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4495680"/>
          <a:ext cx="9144000" cy="685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495680"/>
                    <a:ext cx="9144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0" y="5410080"/>
          <a:ext cx="9144000" cy="7621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5410080"/>
                    <a:ext cx="9144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urn has 10 ball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n 1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B,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4R;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n 2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B,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9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533520"/>
          <a:ext cx="7005600" cy="4952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33520"/>
                    <a:ext cx="70056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162920" y="601560"/>
            <a:ext cx="167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optimal poli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ccording to EMV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048120" y="1523880"/>
            <a:ext cx="6095880" cy="1492920"/>
            <a:chOff x="3048120" y="1523880"/>
            <a:chExt cx="6095880" cy="1492920"/>
          </a:xfrm>
        </p:grpSpPr>
        <p:grpSp>
          <p:nvGrpSpPr>
            <p:cNvPr id="128" name=""/>
            <p:cNvGrpSpPr/>
            <p:nvPr/>
          </p:nvGrpSpPr>
          <p:grpSpPr>
            <a:xfrm>
              <a:off x="3048120" y="1523880"/>
              <a:ext cx="1828800" cy="838080"/>
              <a:chOff x="3048120" y="1523880"/>
              <a:chExt cx="1828800" cy="838080"/>
            </a:xfrm>
          </p:grpSpPr>
          <p:sp>
            <p:nvSpPr>
              <p:cNvPr id="129" name=""/>
              <p:cNvSpPr/>
              <p:nvPr/>
            </p:nvSpPr>
            <p:spPr>
              <a:xfrm>
                <a:off x="3429000" y="2361960"/>
                <a:ext cx="1447920" cy="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48120" y="1523880"/>
                <a:ext cx="304560" cy="76212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238880" y="250668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R then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048120" y="3429000"/>
            <a:ext cx="6132240" cy="982800"/>
            <a:chOff x="3048120" y="3429000"/>
            <a:chExt cx="6132240" cy="982800"/>
          </a:xfrm>
        </p:grpSpPr>
        <p:sp>
          <p:nvSpPr>
            <p:cNvPr id="133" name=""/>
            <p:cNvSpPr/>
            <p:nvPr/>
          </p:nvSpPr>
          <p:spPr>
            <a:xfrm>
              <a:off x="7351560" y="3429000"/>
              <a:ext cx="182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B then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352680" y="3649680"/>
              <a:ext cx="152424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048120" y="3573360"/>
              <a:ext cx="304560" cy="8384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0" y="0"/>
            <a:ext cx="2971800" cy="155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lic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ule which assigns an alternative for each realization of state of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3722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W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one ball)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h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one bal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tion 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I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one bal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pected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ue of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one bal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tion   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W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V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5.2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8=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ding back th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3:14:39Z</dcterms:created>
  <dc:creator>Moti Henig</dc:creator>
  <dc:description/>
  <dc:language>en-US</dc:language>
  <cp:lastModifiedBy>Henig</cp:lastModifiedBy>
  <dcterms:modified xsi:type="dcterms:W3CDTF">2004-10-14T20:08:22Z</dcterms:modified>
  <cp:revision>344</cp:revision>
  <dc:subject/>
  <dc:title>PowerPoint Presentation</dc:title>
</cp:coreProperties>
</file>