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3663F-E324-42EB-A02B-8183C574B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CA919-844C-44E8-8297-1FCC8E88B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D694C-3376-444B-8F3C-9C4924092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27164-D068-4D82-859F-6E33A8BB8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92701-D659-46EE-B360-1BCB1D0C6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6AD70-2A80-4F9D-80C8-8BC3B86B9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3F892-AD93-463E-8F17-39A9F3BAC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62433-865D-4F27-8A81-7CD3E4A34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3F46F-6A72-4AB7-A787-042F96A40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B2B09-CE22-4E34-BCD7-21179B5E0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8145A-1F69-435A-9813-75F13113B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14064-EAB8-42D3-85D8-5902B966B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6B197-0C77-4FE7-8E85-B27CA284C8A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4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30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Information syste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characterized by a set of probabilities: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p(m|s), m</a:t>
            </a:r>
            <a:r>
              <a:rPr b="0" i="1" lang="he-IL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s</a:t>
            </a:r>
            <a:r>
              <a:rPr b="0" i="1" lang="he-IL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M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set of messages; </a:t>
            </a:r>
            <a:r>
              <a:rPr b="0" i="1" lang="en-US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S</a:t>
            </a:r>
            <a:r>
              <a:rPr b="0" lang="en-US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set of states of nature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(m|s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probability to get messag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hen state of nature i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EVWI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MV with information system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EVI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i="1" lang="en-US" sz="24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EVWI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EVWI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Expected value of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informa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971640" y="4005360"/>
                <a:ext cx="51051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VWI</m:t>
                    </m:r>
                    <m:r>
                      <m:t xml:space="preserve">(</m:t>
                    </m:r>
                    <m:r>
                      <m:t xml:space="preserve">Φ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d>
                      <m:dPr>
                        <m:begChr m:val="{"/>
                        <m:endChr m:val="}"/>
                      </m:dPr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s</m:t>
                            </m:r>
                            <m:r>
                              <m:t xml:space="preserve">)</m:t>
                            </m:r>
                            <m:r>
                              <m:t xml:space="preserve">r</m:t>
                            </m:r>
                            <m:r>
                              <m:t xml:space="preserve">(</m:t>
                            </m:r>
                            <m:r>
                              <m:t xml:space="preserve">s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e>
                        </m:nary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" name=""/>
              <p:cNvSpPr txBox="1"/>
              <p:nvPr/>
            </p:nvSpPr>
            <p:spPr>
              <a:xfrm>
                <a:off x="946080" y="3213000"/>
                <a:ext cx="7034400" cy="58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VWI</m:t>
                    </m:r>
                    <m:r>
                      <m:t xml:space="preserve">(</m:t>
                    </m:r>
                    <m:r>
                      <m:t xml:space="preserve">M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d>
                          <m:dPr>
                            <m:begChr m:val="{"/>
                            <m:endChr m:val="}"/>
                          </m:dPr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r>
                                  <m:t xml:space="preserve">p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s</m:t>
                                </m:r>
                                <m:r>
                                  <m:t xml:space="preserve">|</m:t>
                                </m:r>
                                <m:r>
                                  <m:t xml:space="preserve">m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r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s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a</m:t>
                                </m:r>
                                <m:r>
                                  <m:t xml:space="preserve">)</m:t>
                                </m:r>
                              </m:e>
                            </m:nary>
                          </m:e>
                        </m:d>
                      </m:e>
                    </m:nary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" name=""/>
              <p:cNvSpPr txBox="1"/>
              <p:nvPr/>
            </p:nvSpPr>
            <p:spPr>
              <a:xfrm>
                <a:off x="954000" y="4797360"/>
                <a:ext cx="5130720" cy="53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VWPI</m:t>
                    </m:r>
                    <m:r>
                      <m:t xml:space="preserve">=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r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</m:nary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5" name=""/>
          <p:cNvSpPr/>
          <p:nvPr/>
        </p:nvSpPr>
        <p:spPr>
          <a:xfrm>
            <a:off x="0" y="55897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Theore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 For any M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VWI(</a:t>
            </a:r>
            <a:r>
              <a:rPr b="1" i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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) </a:t>
            </a:r>
            <a:r>
              <a:rPr b="1" i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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EVWI(M) </a:t>
            </a:r>
            <a:r>
              <a:rPr b="1" i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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 EVWP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63244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Corollar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 For any M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0 </a:t>
            </a:r>
            <a:r>
              <a:rPr b="1" i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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EVI(M) </a:t>
            </a:r>
            <a:r>
              <a:rPr b="1" i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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 EVP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685800"/>
            <a:ext cx="891540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gging a well costs </a:t>
            </a:r>
            <a:r>
              <a:rPr b="0" lang="he-I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$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,000. Profits from oil (if found) -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he-I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$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0,00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‑ There i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i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‑ There is NO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i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Dig,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Do not di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ree types of rock:  A, B, 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(A)=0.6,     p(B)=0.3,     p(C)=0.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(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A)=0.1,       p(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B)=0.4,       p(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C)=0.7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(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=p(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A)p(A)  +p(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B)p(B)  +p(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C)p(C)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0.1  *  0.6 +  0.4  *  0.3   +  0.7  *  0.1 = 0.25;  p</a:t>
            </a:r>
            <a:r>
              <a:rPr b="0" lang="he-I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</a:t>
            </a:r>
            <a:r>
              <a:rPr b="0" lang="en-US" sz="2400" spc="-1" strike="noStrike" baseline="30000">
                <a:solidFill>
                  <a:srgbClr val="3333cc"/>
                </a:solidFill>
                <a:latin typeface="Times New Roman"/>
                <a:ea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0.75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Oil explo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304920" y="4800600"/>
          <a:ext cx="6248160" cy="20574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920" y="4800600"/>
                    <a:ext cx="6248160" cy="205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5486400" y="441972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WPI = 12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486400" y="5478480"/>
            <a:ext cx="342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PI =  EVWPI ‑ EMV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125     ‑ 50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 7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362320" y="433548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yoff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333360"/>
            <a:ext cx="39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 – perfect geologic surv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677880" y="1065240"/>
            <a:ext cx="8184960" cy="5570640"/>
            <a:chOff x="677880" y="1065240"/>
            <a:chExt cx="8184960" cy="5570640"/>
          </a:xfrm>
        </p:grpSpPr>
        <p:graphicFrame>
          <p:nvGraphicFramePr>
            <p:cNvPr id="56" name=""/>
            <p:cNvGraphicFramePr/>
            <p:nvPr/>
          </p:nvGraphicFramePr>
          <p:xfrm>
            <a:off x="677880" y="1065240"/>
            <a:ext cx="8184960" cy="5570640"/>
          </p:xfrm>
          <a:graphic>
            <a:graphicData uri="http://schemas.openxmlformats.org/presentationml/2006/ole">
              <p:oleObj progId="Word.Document.12" r:id="rId2" spid="">
                <p:embed/>
                <p:pic>
                  <p:nvPicPr>
                    <p:cNvPr id="57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677880" y="1065240"/>
                      <a:ext cx="8184960" cy="5570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8" name=""/>
            <p:cNvSpPr/>
            <p:nvPr/>
          </p:nvSpPr>
          <p:spPr>
            <a:xfrm>
              <a:off x="2209680" y="39625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5715000" y="16765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"/>
          <p:cNvGraphicFramePr/>
          <p:nvPr/>
        </p:nvGraphicFramePr>
        <p:xfrm>
          <a:off x="0" y="0"/>
          <a:ext cx="6172200" cy="18288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617220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"/>
          <p:cNvSpPr/>
          <p:nvPr/>
        </p:nvSpPr>
        <p:spPr>
          <a:xfrm>
            <a:off x="4356000" y="0"/>
            <a:ext cx="478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artial geologic surv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356000" y="404640"/>
            <a:ext cx="4572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‑ true type of rock;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Y" ‑ type according to survey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-88920" y="6072120"/>
                <a:ext cx="6962760" cy="80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= p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+ p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  <m:r>
                          <m:t xml:space="preserve">|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p</m:t>
                        </m:r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+ p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  <m:r>
                          <m:t xml:space="preserve">|</m:t>
                        </m:r>
                        <m:r>
                          <m:t xml:space="preserve">C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C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=  1 *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  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+ 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*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  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+ 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*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 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= 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5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" name=""/>
              <p:cNvSpPr txBox="1"/>
              <p:nvPr/>
            </p:nvSpPr>
            <p:spPr>
              <a:xfrm>
                <a:off x="5715000" y="4800600"/>
                <a:ext cx="320040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rPr>
                        <m:lit/>
                        <m:nor/>
                      </m:rPr>
                      <m:t xml:space="preserve"/>
                    </m:r>
                    <m:r>
                      <m:t xml:space="preserve">A</m:t>
                    </m:r>
                    <m:r>
                      <m:rPr>
                        <m:lit/>
                        <m:nor/>
                      </m:rPr>
                      <m:t xml:space="preserve"/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= </m:t>
                    </m:r>
                    <m:f>
                      <m:num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  <m:r>
                          <m:t xml:space="preserve">)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= </m:t>
                    </m:r>
                    <m:f>
                      <m:num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6</m:t>
                        </m:r>
                      </m:num>
                      <m:den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66" name=""/>
          <p:cNvGrpSpPr/>
          <p:nvPr/>
        </p:nvGrpSpPr>
        <p:grpSpPr>
          <a:xfrm>
            <a:off x="0" y="1066680"/>
            <a:ext cx="9144000" cy="4953240"/>
            <a:chOff x="0" y="1066680"/>
            <a:chExt cx="9144000" cy="4953240"/>
          </a:xfrm>
        </p:grpSpPr>
        <p:graphicFrame>
          <p:nvGraphicFramePr>
            <p:cNvPr id="67" name=""/>
            <p:cNvGraphicFramePr/>
            <p:nvPr/>
          </p:nvGraphicFramePr>
          <p:xfrm>
            <a:off x="0" y="1066680"/>
            <a:ext cx="9144000" cy="4953240"/>
          </p:xfrm>
          <a:graphic>
            <a:graphicData uri="http://schemas.openxmlformats.org/presentationml/2006/ole">
              <p:oleObj progId="Word.Document.12" r:id="rId4" spid="">
                <p:embed/>
                <p:pic>
                  <p:nvPicPr>
                    <p:cNvPr id="68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0" y="1066680"/>
                      <a:ext cx="9144000" cy="4953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9" name=""/>
            <p:cNvSpPr/>
            <p:nvPr/>
          </p:nvSpPr>
          <p:spPr>
            <a:xfrm>
              <a:off x="7086600" y="1600200"/>
              <a:ext cx="30492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500"/>
                            </p:stCondLst>
                            <p:childTnLst>
                              <p:par>
                                <p:cTn id="15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5T13:14:39Z</dcterms:created>
  <dc:creator>Moti Henig</dc:creator>
  <dc:description/>
  <dc:language>en-US</dc:language>
  <cp:lastModifiedBy>Henig</cp:lastModifiedBy>
  <dcterms:modified xsi:type="dcterms:W3CDTF">2004-10-14T18:46:34Z</dcterms:modified>
  <cp:revision>346</cp:revision>
  <dc:subject/>
  <dc:title>PowerPoint Presentation</dc:title>
</cp:coreProperties>
</file>