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7D9-973F-4ECC-A4C5-A65E4AF8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F06-1CD7-45A0-B522-A22F38A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52F-F0B2-4119-8871-7F9575F3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5CD-C560-4CA0-B081-00066307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A2A-F080-427C-B959-526D00F3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640-FD05-4A9F-B8F2-585F809D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B92-CB91-4E9B-AE96-1D5BF94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6A7-D110-4BF5-BC0D-C160CDA7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01C-7513-463E-A8C5-878A477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D93-A54A-49C3-BEB8-C3474DA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AA4-B3CB-4713-93B4-3875312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DA1-BFB2-4107-8181-244D45A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D9BF-AB33-4091-8E6E-BD51932AF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or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haracterized by a set of probabilities: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p(m|s), m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t of messages; </a:t>
            </a:r>
            <a:r>
              <a:rPr b="0" i="1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et of states of n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m|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bability to get mess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state of na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MV with information system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Expected v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971640" y="4005360"/>
                <a:ext cx="5105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946080" y="3213000"/>
                <a:ext cx="7034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I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54000" y="4797360"/>
                <a:ext cx="51307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WPI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WI(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W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W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For any 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0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VI(M) </a:t>
            </a:r>
            <a:r>
              <a:rPr b="1" i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EV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ging a well costs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. Profits from oil (if found)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‑ There is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ig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o not 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ypes of rock:  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A)=0.6,     p(B)=0.3,     p(C)=0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=0.1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=0.4,       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=0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A)p(A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B)p(B)  +p(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)p(C)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1  *  0.6 +  0.4  *  0.3   +  0.7  *  0.1 = 0.25;  p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.7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il expl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4800600"/>
          <a:ext cx="6248160" cy="20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800600"/>
                    <a:ext cx="6248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486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WPI = 1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547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PI =  EVWPI ‑ EMV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5     ‑ 50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433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3336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– perfect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77880" y="1065240"/>
            <a:ext cx="8184960" cy="5570640"/>
            <a:chOff x="677880" y="1065240"/>
            <a:chExt cx="8184960" cy="5570640"/>
          </a:xfrm>
        </p:grpSpPr>
        <p:graphicFrame>
          <p:nvGraphicFramePr>
            <p:cNvPr id="56" name=""/>
            <p:cNvGraphicFramePr/>
            <p:nvPr/>
          </p:nvGraphicFramePr>
          <p:xfrm>
            <a:off x="677880" y="1065240"/>
            <a:ext cx="8184960" cy="55706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77880" y="1065240"/>
                      <a:ext cx="8184960" cy="557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2209680" y="3962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6172200" cy="1828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6172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356000" y="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tial geologic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0464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‑ true type of rock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Y" ‑ type according to surve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-88920" y="6072120"/>
                <a:ext cx="69627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=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 1 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+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*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=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715000" y="480060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0" y="1066680"/>
            <a:ext cx="9144000" cy="4953240"/>
            <a:chOff x="0" y="1066680"/>
            <a:chExt cx="9144000" cy="4953240"/>
          </a:xfrm>
        </p:grpSpPr>
        <p:graphicFrame>
          <p:nvGraphicFramePr>
            <p:cNvPr id="67" name=""/>
            <p:cNvGraphicFramePr/>
            <p:nvPr/>
          </p:nvGraphicFramePr>
          <p:xfrm>
            <a:off x="0" y="1066680"/>
            <a:ext cx="9144000" cy="49532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1066680"/>
                      <a:ext cx="9144000" cy="49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7086600" y="1600200"/>
              <a:ext cx="304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18:46:34Z</dcterms:modified>
  <cp:revision>346</cp:revision>
  <dc:subject/>
  <dc:title>PowerPoint Presentation</dc:title>
</cp:coreProperties>
</file>