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4B35-3238-44BC-A476-F10BC2EF15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3560" cy="34081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16400"/>
            <a:ext cx="5029200" cy="41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ecting networks creates substantial value through increased potential for one-to-one and one-to-many interactions/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ecting the networks adds no value to existing “broadcasts.  It only provide a larger audience to receive non-interactive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ecting networks and creating host venues for communities creates increasing returns to the network by multi-party, simultaneous or near simultaneous communication, transactions and content cre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B368A-0722-4D66-A1B7-46FDFC18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466CB-F36B-4A5C-BB09-F632E466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A02C7-2BB0-423F-8723-CA9EA98A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E796E-C9E3-406A-9DF0-2951FA2D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A328C-47A2-4BCE-B65E-2C959AF5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5269C-7374-41FA-9973-9C06EFF0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2AAE6-D716-4C0F-866A-0EDD8959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E22CF-905C-4AA4-A54C-A3FC7607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7555F-0B88-429C-BF80-366FDD8A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2EF1D-AE65-4F68-9B24-82C59977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73EB1-45E5-4970-A9F4-3D2606B6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81D3D-8BDE-4564-8A40-A6B78A34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0J, Economía de la Información                                                                        Primavera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1607-8F47-457A-8555-494B8F81AE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3416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Economía de Red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Externalidades y Diversida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0920" y="44366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varas@dii.uchile.c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ión de dema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34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hay pocos individuos, la disposición marginal a pagar es baj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hay muchos individuos, la disposición a pagar marginal es baj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el tamaño de la red es medio, la disposición a pagar es al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442764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41497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onemos que un bien pude ser provisto a un costo marginal constan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curva de oferta es una línea recta a dicho costo marg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¿Cuál es el equilibrio de mercado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es posible casos: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* = 0,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* =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* =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24360" y="2206800"/>
            <a:ext cx="3924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quilibrio caso 1: </a:t>
            </a:r>
            <a:r>
              <a:rPr b="0" i="1" lang="en-US" sz="3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* = 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3924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die está consumiendo el bien, luego nadie está dispuesto a pagar por consumir el bi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e es un equilibrio pesimista de esta situ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040360" y="2206800"/>
            <a:ext cx="3924360" cy="3357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968720" y="3500280"/>
            <a:ext cx="720720" cy="180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quilibrio caso 2: </a:t>
            </a:r>
            <a:r>
              <a:rPr b="0" i="1" lang="en-US" sz="3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* = </a:t>
            </a:r>
            <a:r>
              <a:rPr b="0" i="1" lang="en-US" sz="3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573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uando hay un grupo pequeño en este equilibri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 este equilibrio no se piensa que la red sea muy amplia, con lo cual, no se está muy dispuesto a pagar por incorporars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040360" y="2206800"/>
            <a:ext cx="3924360" cy="3357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80000" y="3645000"/>
            <a:ext cx="720720" cy="180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quilibrio caso 3: </a:t>
            </a:r>
            <a:r>
              <a:rPr b="0" i="1" lang="en-US" sz="3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* = </a:t>
            </a:r>
            <a:r>
              <a:rPr b="0" i="1" lang="en-US" sz="3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292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y un grupo grande consumiendo el bi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 este caso, la persona marginal que adquiere el bien no tiene una disposición muy alta, aún cuando el mercado es ampl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40360" y="2206800"/>
            <a:ext cx="3924360" cy="3357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380360" y="3716280"/>
            <a:ext cx="720720" cy="180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quilibrios estab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¿Cuáles de los equilibrios son posibles en el mercado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 las personas están dispuestos a pagar más que el precio del bien, entonces el mercado se expan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 proceso de ajuste se muestra en la figura con las flechas en los puntos de equilibr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3280" y="2209680"/>
            <a:ext cx="39243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quilib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 número de usuarios conectados a la red es inicialmente pequeño, y se incrementa sólo gradualmente mientras los costos ca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ando la masa crítica es alcanzada, la red crece en forma exponenci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jemplo: Mercado de Fax en EE.UU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5327640" cy="3625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9640" y="5564160"/>
            <a:ext cx="828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Fuente: Nicholas Economides and Charles Himmelberg, “Critical Mass and Network Size with Applications to the US Fax Market, Discussion Paper no. EC-95-11, Stern School of Business, N.Y.U., 199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redes pasan por períodos de bajo crecimiento y bajo interés para los que se incorporan (Ley de Disrupción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 baja de precios (o percepción del valor) permite su crecimien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 vez alcanzada la masa crítica, el mercado o red se incrementa de manera muy rápida, produciendo cambios sociales y económic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3416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Economía de Red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Redes de Formación de Grup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10920" y="44366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varas@dii.uchile.c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da usuario adicional entrega una posibilidad adicional de tener información releva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lor de un usuario para mi es 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probabilidad que un usuario tenga informació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lor de la red de N usuarios para mi es 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1–(1-p)</a:t>
            </a:r>
            <a:r>
              <a:rPr b="0" lang="en-US" sz="2600" spc="-1" strike="noStrike" baseline="30000">
                <a:solidFill>
                  <a:srgbClr val="000099"/>
                </a:solidFill>
                <a:latin typeface="Verdana"/>
              </a:rPr>
              <a:t>N-1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posibilidad de algún usuario tenga informació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lor de la red entera de N usuarios es 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N –N(1-p)</a:t>
            </a:r>
            <a:r>
              <a:rPr b="0" lang="en-US" sz="2600" spc="-1" strike="noStrike" baseline="30000">
                <a:solidFill>
                  <a:srgbClr val="000099"/>
                </a:solidFill>
                <a:latin typeface="Verdana"/>
              </a:rPr>
              <a:t>N-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des de Inform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Redes de Formación de Grupos (David Ree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orresponden a redes donde es fácil formar subgrupos (no triviales) entre los integrant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stas redes permiten organizar comunicaciones de interés especializado en forma dinámica en el tiempo con todos o parte de los usuarios de la re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jemplos: mailing list definidas por usuarios, grupos de discusión, salas de entrenamiento y grupos, remates especiales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¿Cuál es el valor aportado por este tipo de rede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lor de la r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sidere que existen N usuarios en la r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número de subconjuntos no triviales que se puede formar es 2</a:t>
            </a:r>
            <a:r>
              <a:rPr b="0" lang="es-ES" sz="30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+N-1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te valor crece exponencialmente con el número de usuarios, y es mayor que el crecimiento exponenci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l modelo Reed captura mayor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332000" y="1793880"/>
            <a:ext cx="63356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Intern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n una primera etapa Internet se uso como servidores y terminales (Sarnoff red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uego se incrementa la conectividad (mails, archivos, etc.) – Metcalf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n los 90´s se hace popular con los newsgroup, sitios de interés especial - Re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299520"/>
            <a:ext cx="790884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ipos de Re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1765440"/>
            <a:ext cx="196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RotisSansSerif"/>
              </a:rPr>
              <a:t>Modelo Sarn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08400" y="1765440"/>
            <a:ext cx="2082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RotisSansSerif"/>
              </a:rPr>
              <a:t>Modelo Metcal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37440" y="1765440"/>
            <a:ext cx="1650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RotisSansSerif"/>
              </a:rPr>
              <a:t>Modelo 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20880" y="2133720"/>
            <a:ext cx="1218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ansSerif"/>
              </a:rPr>
              <a:t>Valor =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40040" y="2133720"/>
            <a:ext cx="1219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ansSerif"/>
              </a:rPr>
              <a:t>Valor = N</a:t>
            </a:r>
            <a:r>
              <a:rPr b="0" lang="en-US" sz="1400" spc="-1" strike="noStrike" baseline="30000">
                <a:solidFill>
                  <a:srgbClr val="000000"/>
                </a:solidFill>
                <a:latin typeface="RotisSansSerif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2133720"/>
            <a:ext cx="1219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ansSerif"/>
              </a:rPr>
              <a:t>Valor =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RotisSansSerif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46000" y="2768760"/>
            <a:ext cx="1366920" cy="1623600"/>
            <a:chOff x="846000" y="2768760"/>
            <a:chExt cx="1366920" cy="1623600"/>
          </a:xfrm>
        </p:grpSpPr>
        <p:sp>
          <p:nvSpPr>
            <p:cNvPr id="172" name=""/>
            <p:cNvSpPr/>
            <p:nvPr/>
          </p:nvSpPr>
          <p:spPr>
            <a:xfrm>
              <a:off x="846000" y="3772800"/>
              <a:ext cx="1366920" cy="61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57960" y="3954600"/>
              <a:ext cx="491040" cy="25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RotisSansSerif"/>
                </a:rPr>
                <a:t>Red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87960" y="3954600"/>
              <a:ext cx="491040" cy="25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RotisSansSerif"/>
                </a:rPr>
                <a:t>Red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32840" y="2768760"/>
              <a:ext cx="32004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62840" y="2768760"/>
              <a:ext cx="32004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" name=""/>
            <p:cNvCxnSpPr>
              <a:stCxn id="173" idx="0"/>
              <a:endCxn id="175" idx="4"/>
            </p:cNvCxnSpPr>
            <p:nvPr/>
          </p:nvCxnSpPr>
          <p:spPr>
            <a:xfrm flipH="1" flipV="1">
              <a:off x="1192320" y="3067200"/>
              <a:ext cx="11160" cy="887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178" name=""/>
            <p:cNvCxnSpPr>
              <a:stCxn id="173" idx="0"/>
              <a:endCxn id="176" idx="3"/>
            </p:cNvCxnSpPr>
            <p:nvPr/>
          </p:nvCxnSpPr>
          <p:spPr>
            <a:xfrm flipV="1">
              <a:off x="1203120" y="3023280"/>
              <a:ext cx="506520" cy="931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179" name=""/>
            <p:cNvCxnSpPr>
              <a:stCxn id="174" idx="0"/>
              <a:endCxn id="175" idx="5"/>
            </p:cNvCxnSpPr>
            <p:nvPr/>
          </p:nvCxnSpPr>
          <p:spPr>
            <a:xfrm flipH="1" flipV="1">
              <a:off x="1306080" y="3023280"/>
              <a:ext cx="527760" cy="931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180" name=""/>
            <p:cNvCxnSpPr>
              <a:stCxn id="174" idx="0"/>
              <a:endCxn id="176" idx="4"/>
            </p:cNvCxnSpPr>
            <p:nvPr/>
          </p:nvCxnSpPr>
          <p:spPr>
            <a:xfrm flipH="1" flipV="1">
              <a:off x="1822680" y="3067200"/>
              <a:ext cx="11520" cy="887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</p:grpSp>
      <p:grpSp>
        <p:nvGrpSpPr>
          <p:cNvPr id="181" name=""/>
          <p:cNvGrpSpPr/>
          <p:nvPr/>
        </p:nvGrpSpPr>
        <p:grpSpPr>
          <a:xfrm>
            <a:off x="3408480" y="2413080"/>
            <a:ext cx="1881000" cy="2158920"/>
            <a:chOff x="3408480" y="2413080"/>
            <a:chExt cx="1881000" cy="2158920"/>
          </a:xfrm>
        </p:grpSpPr>
        <p:sp>
          <p:nvSpPr>
            <p:cNvPr id="182" name=""/>
            <p:cNvSpPr/>
            <p:nvPr/>
          </p:nvSpPr>
          <p:spPr>
            <a:xfrm>
              <a:off x="3408480" y="2413080"/>
              <a:ext cx="1881000" cy="215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54360" y="3738240"/>
              <a:ext cx="1389240" cy="57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4360" y="2562480"/>
              <a:ext cx="1389240" cy="57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57400" y="2712240"/>
              <a:ext cx="32040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19800" y="2712240"/>
              <a:ext cx="32076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7400" y="3866400"/>
              <a:ext cx="32040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19800" y="3866400"/>
              <a:ext cx="32076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64800" y="2520000"/>
              <a:ext cx="98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RotisSansSerif"/>
                </a:rPr>
                <a:t>Red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64800" y="4133880"/>
              <a:ext cx="98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RotisSansSerif"/>
                </a:rPr>
                <a:t>Red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85" idx="6"/>
              <a:endCxn id="186" idx="2"/>
            </p:cNvCxnSpPr>
            <p:nvPr/>
          </p:nvCxnSpPr>
          <p:spPr>
            <a:xfrm>
              <a:off x="4177800" y="2861640"/>
              <a:ext cx="342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92" name=""/>
            <p:cNvCxnSpPr>
              <a:stCxn id="187" idx="6"/>
              <a:endCxn id="188" idx="2"/>
            </p:cNvCxnSpPr>
            <p:nvPr/>
          </p:nvCxnSpPr>
          <p:spPr>
            <a:xfrm>
              <a:off x="4177800" y="4015800"/>
              <a:ext cx="342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93" name=""/>
            <p:cNvCxnSpPr>
              <a:stCxn id="185" idx="4"/>
              <a:endCxn id="187" idx="0"/>
            </p:cNvCxnSpPr>
            <p:nvPr/>
          </p:nvCxnSpPr>
          <p:spPr>
            <a:xfrm>
              <a:off x="4017240" y="3011400"/>
              <a:ext cx="1080" cy="855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94" name=""/>
            <p:cNvCxnSpPr>
              <a:stCxn id="186" idx="4"/>
              <a:endCxn id="188" idx="0"/>
            </p:cNvCxnSpPr>
            <p:nvPr/>
          </p:nvCxnSpPr>
          <p:spPr>
            <a:xfrm>
              <a:off x="4679640" y="3011400"/>
              <a:ext cx="1080" cy="855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95" name=""/>
            <p:cNvCxnSpPr>
              <a:stCxn id="187" idx="7"/>
              <a:endCxn id="186" idx="3"/>
            </p:cNvCxnSpPr>
            <p:nvPr/>
          </p:nvCxnSpPr>
          <p:spPr>
            <a:xfrm flipV="1">
              <a:off x="4131000" y="2966760"/>
              <a:ext cx="436320" cy="943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96" name=""/>
            <p:cNvCxnSpPr>
              <a:stCxn id="185" idx="5"/>
              <a:endCxn id="188" idx="1"/>
            </p:cNvCxnSpPr>
            <p:nvPr/>
          </p:nvCxnSpPr>
          <p:spPr>
            <a:xfrm>
              <a:off x="4131000" y="2967120"/>
              <a:ext cx="436320" cy="943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</p:grpSp>
      <p:sp>
        <p:nvSpPr>
          <p:cNvPr id="197" name=""/>
          <p:cNvSpPr/>
          <p:nvPr/>
        </p:nvSpPr>
        <p:spPr>
          <a:xfrm>
            <a:off x="6372360" y="587700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RotisSansSerif"/>
              </a:rPr>
              <a:t>Fuente:  Adaptado de David R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200640" y="2413080"/>
            <a:ext cx="1924200" cy="2158920"/>
            <a:chOff x="6200640" y="2413080"/>
            <a:chExt cx="1924200" cy="2158920"/>
          </a:xfrm>
        </p:grpSpPr>
        <p:sp>
          <p:nvSpPr>
            <p:cNvPr id="199" name=""/>
            <p:cNvSpPr/>
            <p:nvPr/>
          </p:nvSpPr>
          <p:spPr>
            <a:xfrm>
              <a:off x="6200640" y="2413080"/>
              <a:ext cx="1881360" cy="215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46160" y="3738240"/>
              <a:ext cx="1389600" cy="57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46160" y="2562480"/>
              <a:ext cx="1389600" cy="57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585480" y="2658960"/>
              <a:ext cx="1539360" cy="1902240"/>
            </a:xfrm>
            <a:prstGeom prst="rtTriangl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49200" y="2712240"/>
              <a:ext cx="32076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12320" y="2712240"/>
              <a:ext cx="32040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9200" y="3866400"/>
              <a:ext cx="32076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2320" y="3866400"/>
              <a:ext cx="32040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56960" y="2520000"/>
              <a:ext cx="98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RotisSansSerif"/>
                </a:rPr>
                <a:t>Red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56960" y="4133880"/>
              <a:ext cx="98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RotisSansSerif"/>
                </a:rPr>
                <a:t>Red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3" idx="6"/>
              <a:endCxn id="204" idx="2"/>
            </p:cNvCxnSpPr>
            <p:nvPr/>
          </p:nvCxnSpPr>
          <p:spPr>
            <a:xfrm>
              <a:off x="6970320" y="2861640"/>
              <a:ext cx="342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210" name=""/>
            <p:cNvCxnSpPr>
              <a:stCxn id="205" idx="6"/>
              <a:endCxn id="206" idx="2"/>
            </p:cNvCxnSpPr>
            <p:nvPr/>
          </p:nvCxnSpPr>
          <p:spPr>
            <a:xfrm>
              <a:off x="6970320" y="4015800"/>
              <a:ext cx="342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211" name=""/>
            <p:cNvCxnSpPr>
              <a:stCxn id="203" idx="4"/>
              <a:endCxn id="205" idx="0"/>
            </p:cNvCxnSpPr>
            <p:nvPr/>
          </p:nvCxnSpPr>
          <p:spPr>
            <a:xfrm>
              <a:off x="6809400" y="3011400"/>
              <a:ext cx="1080" cy="855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212" name=""/>
            <p:cNvCxnSpPr>
              <a:stCxn id="204" idx="4"/>
              <a:endCxn id="206" idx="0"/>
            </p:cNvCxnSpPr>
            <p:nvPr/>
          </p:nvCxnSpPr>
          <p:spPr>
            <a:xfrm>
              <a:off x="7472160" y="3011400"/>
              <a:ext cx="1080" cy="855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213" name=""/>
            <p:cNvCxnSpPr>
              <a:stCxn id="205" idx="7"/>
              <a:endCxn id="204" idx="3"/>
            </p:cNvCxnSpPr>
            <p:nvPr/>
          </p:nvCxnSpPr>
          <p:spPr>
            <a:xfrm flipV="1">
              <a:off x="6923160" y="2966760"/>
              <a:ext cx="436320" cy="943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214" name=""/>
            <p:cNvCxnSpPr>
              <a:stCxn id="203" idx="5"/>
              <a:endCxn id="206" idx="1"/>
            </p:cNvCxnSpPr>
            <p:nvPr/>
          </p:nvCxnSpPr>
          <p:spPr>
            <a:xfrm>
              <a:off x="6923160" y="2967120"/>
              <a:ext cx="436320" cy="943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215" name=""/>
            <p:cNvSpPr/>
            <p:nvPr/>
          </p:nvSpPr>
          <p:spPr>
            <a:xfrm>
              <a:off x="6521040" y="3171960"/>
              <a:ext cx="117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RotisSansSerif"/>
                </a:rPr>
                <a:t>Comunidad dinám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71680" y="4791240"/>
            <a:ext cx="1915920" cy="4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877080" y="46530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257640" y="4780080"/>
            <a:ext cx="2184480" cy="490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68360" y="5373720"/>
            <a:ext cx="24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RotisSansSerif"/>
              </a:rPr>
              <a:t>Emisión’, alta calidad de cont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48000" y="5373720"/>
            <a:ext cx="218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"/>
              </a:rPr>
              <a:t>Interacciones y trans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84720" y="5373720"/>
            <a:ext cx="267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"/>
              </a:rPr>
              <a:t>Colaboración y creación de contenido nue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75880" y="5923080"/>
            <a:ext cx="125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RotisSansSerif"/>
              </a:rPr>
              <a:t>David Sarnoff 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lor de unión de re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uponga que existen dos redes con N y M usuarios respectivam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l valor de unir dichas redes está dado po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arnoff: N + 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tcalfe: (N + M)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= N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+ M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+ 2N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ed: 2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(N+M)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l valor se incrementa exponencialmente, aún cuando los tamaños de redes no sean equivalentes (red pequeña y grand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mbio de Valor en las re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sidere una red de N usuar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valor por cliente en conexión a un host es a, luego el valor es 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valor de conexiones potenciales entre usuarios es b, luego el valor de la red es aN+ bN</a:t>
            </a:r>
            <a:r>
              <a:rPr b="0" lang="es-E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valor por la formación de grupos es c, y así el valor final es aN + bN</a:t>
            </a:r>
            <a:r>
              <a:rPr b="0" lang="es-E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+ c2</a:t>
            </a:r>
            <a:r>
              <a:rPr b="0" lang="es-ES" sz="30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1116000" y="1700280"/>
          <a:ext cx="5715000" cy="388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700280"/>
                    <a:ext cx="5715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6828840" y="27082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 N + b 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+ c 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77720" y="43657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 N + b 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34160" y="472428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5438880"/>
            <a:ext cx="724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or total de la red = a N + b 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+ c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malmente a &gt;&gt; b &gt;&gt;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ición dominante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trateg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883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proximación Evolucionaria (por fases)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ase 1. Adquisición de Contenido mientras N es pequeñ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ase 2. Transacciones a medida que N cre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ase 3. Facilitar grupos cuando N es muy grand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proximación Revolucionaria (first mover)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struir una plataforma escalable para la comun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rar escalabilidad, la sobrevivencia depende de e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cordar que los esfuerzos deben ser orientados de la manera más eficiente a la creación de val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025720" y="1844640"/>
            <a:ext cx="2247840" cy="37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73560" y="1844640"/>
            <a:ext cx="2247840" cy="37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21400" y="1844640"/>
            <a:ext cx="2247840" cy="37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61080" y="1946160"/>
            <a:ext cx="1955880" cy="4572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tisSansSerif"/>
              </a:rPr>
              <a:t>REED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tisSansSerif"/>
              </a:rPr>
              <a:t>(Venue-Ba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25840" y="1946160"/>
            <a:ext cx="1955880" cy="4572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tisSansSerif"/>
              </a:rPr>
              <a:t>METCALF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95720" y="2035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52800" y="1933560"/>
            <a:ext cx="1955520" cy="4572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tisSansSerif"/>
              </a:rPr>
              <a:t>SARNOFF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81720" y="2035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" y="2530440"/>
            <a:ext cx="1371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Delivery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0400" y="2911320"/>
            <a:ext cx="1371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Communication Fo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0400" y="3292560"/>
            <a:ext cx="13716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Off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0400" y="3673440"/>
            <a:ext cx="1371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0400" y="4435560"/>
            <a:ext cx="13716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0400" y="5197320"/>
            <a:ext cx="1371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0400" y="4054320"/>
            <a:ext cx="1371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14640" y="253044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P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14640" y="291132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One-way media, phys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or vir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14640" y="329256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14640" y="367344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14640" y="443556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Conversion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14640" y="52354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Broadcast television, radi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news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14640" y="405432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One-to-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99120" y="255600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Push; some p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99120" y="29368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Company-customer relationship via interactive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99120" y="33177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99120" y="369900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99120" y="44607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Lifetim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99120" y="51595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Telephone,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99120" y="40798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Primarily pair-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72160" y="254304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Pull; with push cap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2160" y="2924280"/>
            <a:ext cx="213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Hosted venues via online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72160" y="330516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Solutions and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72160" y="368604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Community-like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72160" y="444816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Size and share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58040" y="5172120"/>
            <a:ext cx="231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B2B: VerticalNet, Consumer: ivillage, AOL, eB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72160" y="4067280"/>
            <a:ext cx="213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Collaborat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0400" y="4829040"/>
            <a:ext cx="1371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Driver of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76480" y="482904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Reach and frequency with best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11720" y="482904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Growth at any cost’- total connections on the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83240" y="4829040"/>
            <a:ext cx="233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Value of facilitate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mbios de Mode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183320" y="5870520"/>
            <a:ext cx="645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mayoría de los modelos actuales del B2B están en los primeros mode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ducción Redes de Inform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398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La posibilidad 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 de encontrar en el primero 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, 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La posibilidad de encontrarlo en el segundo y no en el primero (1-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, o …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La posibilidad de encontrarlo en el último, y no en los n-2 anteriores (1-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" sz="1500" spc="-1" strike="noStrike" baseline="30000">
                <a:solidFill>
                  <a:srgbClr val="000000"/>
                </a:solidFill>
                <a:latin typeface="Verdana"/>
              </a:rPr>
              <a:t>N-2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843280" y="2924280"/>
                <a:ext cx="3924360" cy="25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í como han sido las economías de escala y red, el desafío futuro va por las economías de colabor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escala cambia el foco de valor desde el contenido a transacciones, y finalmente a formación de grupos o colabor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interfaces entre comunidades de valor serán una de las herramientas importantes en la nueva formación de valor en red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entarios Fina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estructuras de mercados y procesos de las organizaciones están cada vez orientadas a estructuras de re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entender el aporte de valor y las decisiones relacionadas al diseño son de vital importa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y hay modelos simples que permiten modelar el valor que aporta la estructura e informació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ómo afectan los efectos de redes en la realid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Potencial de negocio de los eMarketpla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Iconstruye.c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econtruye.c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rtikos.c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hilecompras.c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c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Revisar el material del curso (obligatorio y adicional) y escribir un position paper sobre el tema ¿Cómo es posible integrar los conceptos del curso en el rediseño de procesos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Resume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Discusión bibliográfica (referente al tema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Formulación del tema específic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Resultados obtenid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Bibliografí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l paper debe ser entregado el día 10 de Octubre vía email al auxiliar (savargas@dcc.uchile.cl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 “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Mientras no se alcance una masa crítica de usuarios, un cambio tecnológico sólo afecta la tecnología; cuando esa masa crítica se logra, se producen cambios en los sistemas económicos, políticos y sociales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ey de Disrup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Teléfon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1 ó 2 usuarios son de dudosa uti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urante mucho tiempo se mejoró la tecnología sobretodo para lograr la comunicación a través de los tableros de conex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ólo en 1931 se incorpora un disc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Radio 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1961 – 1993: desarrollo de tecnología y apl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1993: 2.5 millones de hosts conect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sidere un mercado con M potenciales clientes, donde su disposición a pagar es igual al índice que ocupa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cliente </a:t>
            </a:r>
            <a:r>
              <a:rPr b="0" i="1" lang="es-ES" sz="3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está dispuesto a pagar $</a:t>
            </a:r>
            <a:r>
              <a:rPr b="0" i="1" lang="es-ES" sz="3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por 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ntonces, ¿cuál es la curva de demanda por este bi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464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 curva de demanda es una línea recta desde M hasta 0 en términos de disposición a pagar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ra un precio determinado </a:t>
            </a:r>
            <a:r>
              <a:rPr b="0" i="1" lang="en-US" sz="19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*, existen M – </a:t>
            </a:r>
            <a:r>
              <a:rPr b="0" i="1" lang="en-US" sz="19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* personas que compran el bie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¿Qué ocurre si la disposición a pagar depende del número de personas que estén consumiendo el bien?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491796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651640" y="232524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27640" y="21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678880" y="4917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2901960"/>
            <a:ext cx="266364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93360" y="2701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46080" y="4933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51640" y="376704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42040" y="33336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2560" y="376704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2080" y="359712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fecto R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asume que el valor del bien para la persona </a:t>
            </a:r>
            <a:r>
              <a:rPr b="0" i="1" lang="en-US" sz="2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s </a:t>
            </a:r>
            <a:r>
              <a:rPr b="0" i="1" lang="en-US" sz="2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donde </a:t>
            </a:r>
            <a:r>
              <a:rPr b="0" i="1" lang="en-US" sz="2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s el número de personas consumiendo el bien (conectados en la red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entras más gente esta consumiendo el bien, cada persona esta dispuesta a pagar más por dicho bien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¿Cuál es la función de demanda en este cas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ión de Dema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2644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ra el precio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existirá alguien quien es indiferente entre comprar o no el bi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a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* el índice de dicha persona, entonces la disposición a pagar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alquier persona con disposición a pagar mayor que dicho precio, desea comprar el bi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uego, el número de personas que desean comprar el bien es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= M –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*, 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gualando ambas partes </a:t>
            </a:r>
            <a:r>
              <a:rPr b="0" i="1" lang="en-US" sz="35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5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M –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5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), que indica la relación entre el precio del bien y el número de usuari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Samuel</cp:lastModifiedBy>
  <dcterms:modified xsi:type="dcterms:W3CDTF">2003-10-03T21:48:39Z</dcterms:modified>
  <cp:revision>202</cp:revision>
  <dc:subject/>
  <dc:title>Diapositiva 1</dc:title>
</cp:coreProperties>
</file>