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ción a riesgo e incertidumb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s Concep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iesg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formación de naturaleza aleatórea, las probabilidades de ocurrencia de eventos son conoc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ertidumb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robabilidades de ocurrencia de un evento no son bien cuantific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 básica de Incertidumb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formación incompleta inexacta, sesgada, falsa o contradic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 Que inversión elegi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106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114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60240" y="744840"/>
            <a:ext cx="5566680" cy="3171240"/>
            <a:chOff x="1560240" y="744840"/>
            <a:chExt cx="5566680" cy="3171240"/>
          </a:xfrm>
        </p:grpSpPr>
        <p:grpSp>
          <p:nvGrpSpPr>
            <p:cNvPr id="130" name=""/>
            <p:cNvGrpSpPr/>
            <p:nvPr/>
          </p:nvGrpSpPr>
          <p:grpSpPr>
            <a:xfrm>
              <a:off x="2651040" y="1704960"/>
              <a:ext cx="2782800" cy="1914480"/>
              <a:chOff x="2651040" y="1704960"/>
              <a:chExt cx="2782800" cy="1914480"/>
            </a:xfrm>
          </p:grpSpPr>
          <p:sp>
            <p:nvSpPr>
              <p:cNvPr id="131" name=""/>
              <p:cNvSpPr/>
              <p:nvPr/>
            </p:nvSpPr>
            <p:spPr>
              <a:xfrm>
                <a:off x="2651040" y="1704960"/>
                <a:ext cx="0" cy="190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57520" y="3619440"/>
                <a:ext cx="27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476680" y="349416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7736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6200" y="1795320"/>
              <a:ext cx="0" cy="1908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4332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79280" y="365436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00320" y="744840"/>
              <a:ext cx="3326760" cy="2806560"/>
              <a:chOff x="2200320" y="744840"/>
              <a:chExt cx="3326760" cy="2806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20032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7664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1881360"/>
                <a:ext cx="420840" cy="23328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9600" y="311616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100" spc="-1" strike="noStrike" baseline="-25000">
                    <a:solidFill>
                      <a:srgbClr val="ffffff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2960" y="3390840"/>
                <a:ext cx="62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762440" y="2440080"/>
              <a:ext cx="2364480" cy="99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0240" y="2347920"/>
              <a:ext cx="2457360" cy="117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11480" y="2814480"/>
              <a:ext cx="752760" cy="13176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9480" y="1795320"/>
              <a:ext cx="0" cy="1908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34320" y="361476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95960" y="339084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9720" y="316692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1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152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157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788640" y="4368960"/>
            <a:ext cx="299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B es más Risg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decisión depende del “comportamiento” del inversor frente al riesg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Como se define el comportamiento de un inversionista ante el ries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emos al inversionista a la siguiente pregunt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¿ Por cuanto dinero estaría dispuesto a vender el boleto de la siguiente  loterí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% de probabilidad de ganar $ 1.00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% de probabilidad de ganar $    500.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alor esperado (E) de la lotería 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= 0,5 * 1.000.000 + 0,5 * 500.000 = 75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para el precio (E’) que esta dispuesto a vender se cu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&lt; E               Adverso al r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 = E               Neutro a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 &gt; E               Amante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9680" y="29782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9680" y="34354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9680" y="38926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7040" y="4886280"/>
            <a:ext cx="833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ntari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i todos los agentes económicos son adversos a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valuada en una situación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terminan las variables mas significativas que afectan los indicadores de rentabilid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os de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os de i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s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 de c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úmenes de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eficientes tecn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busca evaluar la sensibilidad de los indicadores de rentabilidad ante variaciones de las variables significativas  más inciert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el impacto de una variable riesgosa en el VAN es importante, entonces el proyecto es RIESG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nivel de riesgo se determina en la medida que el VAN se hace negativo para valores probables de la var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ste caso, se debe hacer una evaluación costo-beneficio de la pertinencia de comprar certidumbre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ácil A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ácil de Ent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ólo permite analizar variaciones de un parámetro a la v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utiliza información como las distribuciones de probabilidad del parámetro a sensib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ntrega distribución de probabilidades de los indicadores de rentabilidad VAN y T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da escenario está determinado por los valores que supuestamente tomarían las variables riesgosas en es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bitualmente se definen tres escenarios : optimista, medio y pesimis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co conocimiento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stos y m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os de insu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ej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cenario optimis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 producto sube un 2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 de los insumos se mantie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ventas crecen en un 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escenarios deben ser definidos por la alta gerencia de la empre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es una actividad netamente interfun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portamiento del Inversionist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una inversión mas riesgosa se le exige una mayor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 lo tanto se espera recibir un premio por asumir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forma de incorporar el riego es castigar la tasa de descuent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3428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2720" y="5486400"/>
            <a:ext cx="4494600" cy="1003320"/>
            <a:chOff x="252720" y="5486400"/>
            <a:chExt cx="4494600" cy="1003320"/>
          </a:xfrm>
        </p:grpSpPr>
        <p:sp>
          <p:nvSpPr>
            <p:cNvPr id="197" name=""/>
            <p:cNvSpPr/>
            <p:nvPr/>
          </p:nvSpPr>
          <p:spPr>
            <a:xfrm>
              <a:off x="252720" y="548640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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200" y="579096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5280" y="609588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00" y="554652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92880" y="4578480"/>
            <a:ext cx="295884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07920" y="1606680"/>
            <a:ext cx="1919520" cy="930240"/>
            <a:chOff x="907920" y="1606680"/>
            <a:chExt cx="1919520" cy="930240"/>
          </a:xfrm>
        </p:grpSpPr>
        <p:sp>
          <p:nvSpPr>
            <p:cNvPr id="204" name=""/>
            <p:cNvSpPr/>
            <p:nvPr/>
          </p:nvSpPr>
          <p:spPr>
            <a:xfrm>
              <a:off x="999720" y="1866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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7920" y="1606680"/>
              <a:ext cx="1919520" cy="930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834520" y="1486080"/>
            <a:ext cx="2523960" cy="1432800"/>
            <a:chOff x="5834520" y="1486080"/>
            <a:chExt cx="2523960" cy="1432800"/>
          </a:xfrm>
        </p:grpSpPr>
        <p:sp>
          <p:nvSpPr>
            <p:cNvPr id="215" name=""/>
            <p:cNvSpPr/>
            <p:nvPr/>
          </p:nvSpPr>
          <p:spPr>
            <a:xfrm>
              <a:off x="7311960" y="150336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73280" y="148608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834520" y="1554120"/>
              <a:ext cx="2388600" cy="1364760"/>
              <a:chOff x="5834520" y="1554120"/>
              <a:chExt cx="2388600" cy="1364760"/>
            </a:xfrm>
          </p:grpSpPr>
          <p:sp>
            <p:nvSpPr>
              <p:cNvPr id="218" name=""/>
              <p:cNvSpPr/>
              <p:nvPr/>
            </p:nvSpPr>
            <p:spPr>
              <a:xfrm>
                <a:off x="6026040" y="2111400"/>
                <a:ext cx="0" cy="39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34440" y="1785960"/>
                <a:ext cx="0" cy="388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211960" y="1735200"/>
                <a:ext cx="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34520" y="272088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09800" y="155412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26040" y="2133720"/>
                <a:ext cx="2197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11760" y="1735200"/>
                <a:ext cx="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s del Mét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fija arbitrari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e utiliza información valiosa como la distribución de probabilidades de los flujos futu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riesgo aumenta a medida que pasa el tiempo, cosa que no siempre es cier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9400" y="231156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mitaciones del modelo probabilístic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imiento de probabi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icil formulación mate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ación de las relaciones entre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ación de la relaciones entre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osibilidad de llegar a una solución ana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ución : Simulación Comput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imulación permite la evaluación de un gran número de escenarios generados aleatoriamente, de acuerdo a las distribuciones de probabilidades de las variables riesgosas  y de las relaciones de interdependencia entre ell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obtiene distribuciones de probabilidad de los criterios de evaluación seleccionad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ribuciones de Probabilidad mas usada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i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ang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nom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-182880">
              <a:spcBef>
                <a:spcPts val="499"/>
              </a:spcBef>
              <a:buClr>
                <a:srgbClr val="ffffff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d ho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3429000"/>
            <a:ext cx="250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30960" y="4419720"/>
            <a:ext cx="250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242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H="1">
            <a:off x="4032360" y="2749680"/>
            <a:ext cx="622080" cy="67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54440" y="2749680"/>
            <a:ext cx="596880" cy="67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10000"/>
            <a:ext cx="2032200" cy="801720"/>
          </a:xfrm>
          <a:custGeom>
            <a:avLst/>
            <a:gdLst/>
            <a:ahLst/>
            <a:rect l="l" t="t" r="r" b="b"/>
            <a:pathLst>
              <a:path w="1280" h="505">
                <a:moveTo>
                  <a:pt x="0" y="477"/>
                </a:moveTo>
                <a:lnTo>
                  <a:pt x="27" y="468"/>
                </a:lnTo>
                <a:lnTo>
                  <a:pt x="63" y="468"/>
                </a:lnTo>
                <a:lnTo>
                  <a:pt x="113" y="468"/>
                </a:lnTo>
                <a:lnTo>
                  <a:pt x="142" y="460"/>
                </a:lnTo>
                <a:lnTo>
                  <a:pt x="171" y="453"/>
                </a:lnTo>
                <a:lnTo>
                  <a:pt x="199" y="453"/>
                </a:lnTo>
                <a:lnTo>
                  <a:pt x="221" y="439"/>
                </a:lnTo>
                <a:lnTo>
                  <a:pt x="243" y="424"/>
                </a:lnTo>
                <a:lnTo>
                  <a:pt x="271" y="410"/>
                </a:lnTo>
                <a:lnTo>
                  <a:pt x="300" y="381"/>
                </a:lnTo>
                <a:lnTo>
                  <a:pt x="329" y="345"/>
                </a:lnTo>
                <a:lnTo>
                  <a:pt x="343" y="288"/>
                </a:lnTo>
                <a:lnTo>
                  <a:pt x="365" y="259"/>
                </a:lnTo>
                <a:lnTo>
                  <a:pt x="372" y="201"/>
                </a:lnTo>
                <a:lnTo>
                  <a:pt x="394" y="172"/>
                </a:lnTo>
                <a:lnTo>
                  <a:pt x="401" y="136"/>
                </a:lnTo>
                <a:lnTo>
                  <a:pt x="415" y="108"/>
                </a:lnTo>
                <a:lnTo>
                  <a:pt x="430" y="86"/>
                </a:lnTo>
                <a:lnTo>
                  <a:pt x="437" y="64"/>
                </a:lnTo>
                <a:lnTo>
                  <a:pt x="451" y="36"/>
                </a:lnTo>
                <a:lnTo>
                  <a:pt x="473" y="14"/>
                </a:lnTo>
                <a:lnTo>
                  <a:pt x="495" y="7"/>
                </a:lnTo>
                <a:lnTo>
                  <a:pt x="523" y="0"/>
                </a:lnTo>
                <a:lnTo>
                  <a:pt x="545" y="0"/>
                </a:lnTo>
                <a:lnTo>
                  <a:pt x="567" y="7"/>
                </a:lnTo>
                <a:lnTo>
                  <a:pt x="617" y="21"/>
                </a:lnTo>
                <a:lnTo>
                  <a:pt x="646" y="28"/>
                </a:lnTo>
                <a:lnTo>
                  <a:pt x="675" y="50"/>
                </a:lnTo>
                <a:lnTo>
                  <a:pt x="703" y="72"/>
                </a:lnTo>
                <a:lnTo>
                  <a:pt x="732" y="93"/>
                </a:lnTo>
                <a:lnTo>
                  <a:pt x="739" y="115"/>
                </a:lnTo>
                <a:lnTo>
                  <a:pt x="761" y="129"/>
                </a:lnTo>
                <a:lnTo>
                  <a:pt x="768" y="151"/>
                </a:lnTo>
                <a:lnTo>
                  <a:pt x="783" y="180"/>
                </a:lnTo>
                <a:lnTo>
                  <a:pt x="797" y="208"/>
                </a:lnTo>
                <a:lnTo>
                  <a:pt x="811" y="230"/>
                </a:lnTo>
                <a:lnTo>
                  <a:pt x="826" y="252"/>
                </a:lnTo>
                <a:lnTo>
                  <a:pt x="833" y="280"/>
                </a:lnTo>
                <a:lnTo>
                  <a:pt x="855" y="302"/>
                </a:lnTo>
                <a:lnTo>
                  <a:pt x="855" y="324"/>
                </a:lnTo>
                <a:lnTo>
                  <a:pt x="876" y="352"/>
                </a:lnTo>
                <a:lnTo>
                  <a:pt x="891" y="374"/>
                </a:lnTo>
                <a:lnTo>
                  <a:pt x="905" y="396"/>
                </a:lnTo>
                <a:lnTo>
                  <a:pt x="927" y="410"/>
                </a:lnTo>
                <a:lnTo>
                  <a:pt x="941" y="432"/>
                </a:lnTo>
                <a:lnTo>
                  <a:pt x="963" y="446"/>
                </a:lnTo>
                <a:lnTo>
                  <a:pt x="991" y="460"/>
                </a:lnTo>
                <a:lnTo>
                  <a:pt x="1013" y="475"/>
                </a:lnTo>
                <a:lnTo>
                  <a:pt x="1035" y="482"/>
                </a:lnTo>
                <a:lnTo>
                  <a:pt x="1063" y="489"/>
                </a:lnTo>
                <a:lnTo>
                  <a:pt x="1085" y="489"/>
                </a:lnTo>
                <a:lnTo>
                  <a:pt x="1107" y="496"/>
                </a:lnTo>
                <a:lnTo>
                  <a:pt x="1135" y="504"/>
                </a:lnTo>
                <a:lnTo>
                  <a:pt x="1157" y="504"/>
                </a:lnTo>
                <a:lnTo>
                  <a:pt x="1179" y="504"/>
                </a:lnTo>
                <a:lnTo>
                  <a:pt x="1207" y="504"/>
                </a:lnTo>
                <a:lnTo>
                  <a:pt x="1229" y="504"/>
                </a:lnTo>
                <a:lnTo>
                  <a:pt x="1251" y="504"/>
                </a:lnTo>
                <a:lnTo>
                  <a:pt x="1279" y="50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359160" y="4718160"/>
            <a:ext cx="52056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9160" y="5035680"/>
            <a:ext cx="52056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7400" y="4521240"/>
            <a:ext cx="3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47040" y="51307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330960" y="4959360"/>
            <a:ext cx="2502000" cy="1365120"/>
            <a:chOff x="6330960" y="4959360"/>
            <a:chExt cx="2502000" cy="1365120"/>
          </a:xfrm>
        </p:grpSpPr>
        <p:sp>
          <p:nvSpPr>
            <p:cNvPr id="254" name=""/>
            <p:cNvSpPr/>
            <p:nvPr/>
          </p:nvSpPr>
          <p:spPr>
            <a:xfrm>
              <a:off x="6330960" y="6324480"/>
              <a:ext cx="250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9560" y="5416560"/>
              <a:ext cx="633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5880" y="5492880"/>
              <a:ext cx="13968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8160" y="5950080"/>
              <a:ext cx="291960" cy="36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3080" y="5721480"/>
              <a:ext cx="215640" cy="59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21680" y="5416560"/>
              <a:ext cx="2919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6240" y="4959360"/>
              <a:ext cx="63720" cy="135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2560" y="6026040"/>
              <a:ext cx="74916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imien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82840" y="3740040"/>
            <a:ext cx="120672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73960" y="3740040"/>
            <a:ext cx="12826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50960" y="2139840"/>
            <a:ext cx="1796760" cy="1401480"/>
            <a:chOff x="750960" y="2139840"/>
            <a:chExt cx="1796760" cy="1401480"/>
          </a:xfrm>
        </p:grpSpPr>
        <p:sp>
          <p:nvSpPr>
            <p:cNvPr id="267" name=""/>
            <p:cNvSpPr/>
            <p:nvPr/>
          </p:nvSpPr>
          <p:spPr>
            <a:xfrm>
              <a:off x="768240" y="2139840"/>
              <a:ext cx="1739880" cy="1282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960" y="217476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06880" y="2292480"/>
            <a:ext cx="1206360" cy="977760"/>
            <a:chOff x="3206880" y="2292480"/>
            <a:chExt cx="1206360" cy="977760"/>
          </a:xfrm>
        </p:grpSpPr>
        <p:sp>
          <p:nvSpPr>
            <p:cNvPr id="270" name=""/>
            <p:cNvSpPr/>
            <p:nvPr/>
          </p:nvSpPr>
          <p:spPr>
            <a:xfrm>
              <a:off x="3206880" y="2292480"/>
              <a:ext cx="120636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40800" y="247968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415320" y="4003560"/>
            <a:ext cx="836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lo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ió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037320" y="5187960"/>
            <a:ext cx="1699200" cy="1036440"/>
            <a:chOff x="3037320" y="5187960"/>
            <a:chExt cx="1699200" cy="1036440"/>
          </a:xfrm>
        </p:grpSpPr>
        <p:sp>
          <p:nvSpPr>
            <p:cNvPr id="274" name=""/>
            <p:cNvSpPr/>
            <p:nvPr/>
          </p:nvSpPr>
          <p:spPr>
            <a:xfrm>
              <a:off x="3054240" y="5187960"/>
              <a:ext cx="158760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37320" y="522288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40240" y="3740040"/>
            <a:ext cx="1219680" cy="978120"/>
            <a:chOff x="5340240" y="3740040"/>
            <a:chExt cx="1219680" cy="978120"/>
          </a:xfrm>
        </p:grpSpPr>
        <p:sp>
          <p:nvSpPr>
            <p:cNvPr id="277" name=""/>
            <p:cNvSpPr/>
            <p:nvPr/>
          </p:nvSpPr>
          <p:spPr>
            <a:xfrm>
              <a:off x="5340240" y="3740040"/>
              <a:ext cx="1206720" cy="978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97120" y="385128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454520" y="385128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21080" y="2743200"/>
            <a:ext cx="67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32828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09880" y="47178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02160" y="426708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9560" y="426708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640080" indent="-127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ción de Probabilidades del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64280" y="7473960"/>
            <a:ext cx="63360" cy="18921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25440" y="2063880"/>
            <a:ext cx="6540480" cy="4178160"/>
            <a:chOff x="1225440" y="2063880"/>
            <a:chExt cx="6540480" cy="4178160"/>
          </a:xfrm>
        </p:grpSpPr>
        <p:sp>
          <p:nvSpPr>
            <p:cNvPr id="289" name=""/>
            <p:cNvSpPr/>
            <p:nvPr/>
          </p:nvSpPr>
          <p:spPr>
            <a:xfrm>
              <a:off x="1225440" y="2063880"/>
              <a:ext cx="6540480" cy="4178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11240" y="5492880"/>
              <a:ext cx="6372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7560" y="5340240"/>
              <a:ext cx="633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63880" y="4654440"/>
              <a:ext cx="63360" cy="1587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39840" y="5264280"/>
              <a:ext cx="6372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161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9248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8440" y="4959360"/>
              <a:ext cx="63720" cy="1282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4760" y="4883040"/>
              <a:ext cx="63360" cy="135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21080" y="5111640"/>
              <a:ext cx="63360" cy="1130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97040" y="4807080"/>
              <a:ext cx="6372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7336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4968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25640" y="5035680"/>
              <a:ext cx="6372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1960" y="473076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8280" y="4578480"/>
              <a:ext cx="6336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542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30560" y="4502160"/>
              <a:ext cx="63360" cy="1739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82840" y="4730760"/>
              <a:ext cx="6372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068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54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11440" y="4273560"/>
              <a:ext cx="6372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877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640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00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16360" y="3892680"/>
              <a:ext cx="63360" cy="23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92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68640" y="3435480"/>
              <a:ext cx="63720" cy="2806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44960" y="3587760"/>
              <a:ext cx="63360" cy="2654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21280" y="2216160"/>
              <a:ext cx="63360" cy="4025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97240" y="3206880"/>
              <a:ext cx="63720" cy="303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3560" y="2749680"/>
              <a:ext cx="63360" cy="3492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49880" y="3816360"/>
              <a:ext cx="63360" cy="242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25840" y="3587760"/>
              <a:ext cx="63720" cy="2654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21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8480" y="3816360"/>
              <a:ext cx="63360" cy="242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4440" y="4730760"/>
              <a:ext cx="6372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30760" y="4273560"/>
              <a:ext cx="6336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7080" y="4121280"/>
              <a:ext cx="63360" cy="21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83040" y="434988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9360" y="4044960"/>
              <a:ext cx="63360" cy="219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35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11640" y="4197240"/>
              <a:ext cx="63720" cy="204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7960" y="3968640"/>
              <a:ext cx="63360" cy="227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40240" y="4273560"/>
              <a:ext cx="6372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4280" y="3892680"/>
              <a:ext cx="63360" cy="23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65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2880" y="4502160"/>
              <a:ext cx="63360" cy="1739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68840" y="4044960"/>
              <a:ext cx="63720" cy="219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4516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148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7440" y="4197240"/>
              <a:ext cx="63720" cy="204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3760" y="3968640"/>
              <a:ext cx="63360" cy="227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08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6040" y="4121280"/>
              <a:ext cx="63720" cy="21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02360" y="480708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78680" y="434988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54640" y="4578480"/>
              <a:ext cx="6372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30960" y="503568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7280" y="4578480"/>
              <a:ext cx="6336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3240" y="4807080"/>
              <a:ext cx="6372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9560" y="5111640"/>
              <a:ext cx="63360" cy="1130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35880" y="5416560"/>
              <a:ext cx="6336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8816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64480" y="5264280"/>
              <a:ext cx="6336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40440" y="5416560"/>
              <a:ext cx="6372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16760" y="579744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9160" y="4425840"/>
              <a:ext cx="63360" cy="1816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11840" y="5416560"/>
              <a:ext cx="6372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990720" y="1812960"/>
            <a:ext cx="7727760" cy="37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diversificación de Markowitz se preocupa del grado de covarianza entre las rentabilidades de los activos componentes de un portafol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dea central es combinar en un portafolio, activos que no estén perfectamente correlacionados, con el propósito de disminuir el riesgo sin sacrificar rent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fuentes de información poco conf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ámica de los merc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es de interpretación de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es en la manipulación 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ertidumbre y carteras -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67080" y="3911760"/>
            <a:ext cx="314892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7080" y="3533760"/>
            <a:ext cx="5739480" cy="20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60" swAng="539285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60" swAng="539285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2217600"/>
            <a:ext cx="0" cy="37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84440" y="6019920"/>
            <a:ext cx="4557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7760" y="32418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94760" y="499428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16520" y="52070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18240" y="4216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56680" y="3530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61240" y="43689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400" y="2387520"/>
            <a:ext cx="148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p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6000" y="61214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671120" y="4572000"/>
            <a:ext cx="14590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4579920"/>
            <a:ext cx="0" cy="1433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671120" y="3886200"/>
            <a:ext cx="1452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37800" y="1647720"/>
            <a:ext cx="466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njunto factible está representado por la cur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37440" y="2409840"/>
            <a:ext cx="475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njunto eficiente está representado por la cur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4427640"/>
            <a:ext cx="0" cy="1585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1640" y="3073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58280" y="415620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44080" y="43084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17400" y="3835440"/>
            <a:ext cx="40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44080" y="36226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599840" y="3276720"/>
            <a:ext cx="21337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33520" y="2057400"/>
                <a:ext cx="74674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limLow>
                          <m:e>
                            <m:limUpp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=1</m:t>
                            </m:r>
                          </m:lim>
                        </m:limLow>
                        <m:s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762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varianza del portafoli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809880"/>
            <a:ext cx="73152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cción de riqueza invertida en cada alternativa,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/N,  donde N es el número de inver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= VAR (r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57200" y="1523880"/>
                <a:ext cx="7924680" cy="449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=&gt;   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f>
                          <m:num>
                            <m:limLow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e>
                              <m:lim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lim>
                            </m:limLow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,j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-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=&gt;   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-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2293920"/>
            <a:ext cx="0" cy="35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31800" y="5867280"/>
            <a:ext cx="554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52680" y="711360"/>
            <a:ext cx="8939880" cy="40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519200" y="4724280"/>
            <a:ext cx="43545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720" y="19303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38000" y="5969160"/>
            <a:ext cx="2179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úmero de 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el Portafo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70640" y="2943360"/>
            <a:ext cx="363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diversificable (no sistemátic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14920" y="5076720"/>
            <a:ext cx="239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no diversific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sistemátic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976400" y="3284640"/>
            <a:ext cx="1611360" cy="10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9400" y="4884840"/>
            <a:ext cx="366840" cy="36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176440" y="5265720"/>
            <a:ext cx="392040" cy="44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732200"/>
            <a:ext cx="0" cy="1128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192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bemos que la relación más típica entre riesgo y rentabilidad es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términos más form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95480" y="4048200"/>
                <a:ext cx="3794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91960" y="5105520"/>
            <a:ext cx="115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11280" y="5181480"/>
            <a:ext cx="92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asa li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 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46200" y="4503600"/>
            <a:ext cx="443160" cy="1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03400" y="4491000"/>
            <a:ext cx="519120" cy="16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78320" y="5181480"/>
            <a:ext cx="107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mi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08200" y="5181480"/>
            <a:ext cx="109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46000" y="4491000"/>
            <a:ext cx="366840" cy="62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913040" y="4491000"/>
            <a:ext cx="61920" cy="696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2890800" y="4719240"/>
            <a:ext cx="163440" cy="4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17800" y="4656240"/>
            <a:ext cx="36684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199040" y="4643280"/>
            <a:ext cx="51912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4262400" y="4948200"/>
            <a:ext cx="239760" cy="31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2776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expresión anterior formalmente se deriva de imponer que la pendiente de la LMC es igual a la derivada de la frontera eficiente en el punto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v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 la cantidad de riesgo y se denomina riesgo sistemá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finición sabemos qu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 = Cov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 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76160" y="5291280"/>
            <a:ext cx="5649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ctivo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meno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volátil o sensible que el “mercad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52040" y="4224240"/>
            <a:ext cx="7193520" cy="1536840"/>
            <a:chOff x="752040" y="4224240"/>
            <a:chExt cx="7193520" cy="1536840"/>
          </a:xfrm>
        </p:grpSpPr>
        <p:sp>
          <p:nvSpPr>
            <p:cNvPr id="427" name=""/>
            <p:cNvSpPr/>
            <p:nvPr/>
          </p:nvSpPr>
          <p:spPr>
            <a:xfrm>
              <a:off x="752040" y="422424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 &gt; 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2040" y="529092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 &lt; 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76520" y="4224240"/>
              <a:ext cx="5369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ctivo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ás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volátil o sensible que el “mercado”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35280" y="429732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35280" y="536400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Para qué sirve el mod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9520" y="2066760"/>
            <a:ext cx="778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ásicamente, para determinar el costo de capital (empresa, división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yecto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3286080"/>
                <a:ext cx="2603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520200" y="4800600"/>
            <a:ext cx="1589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culado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erdo a CA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42440" y="4038480"/>
            <a:ext cx="1865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nominador refle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 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42440" y="2971800"/>
            <a:ext cx="1895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umerador refle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608120" y="4109760"/>
            <a:ext cx="1281240" cy="77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71680" y="3284640"/>
            <a:ext cx="1611360" cy="214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3348000" y="4033800"/>
            <a:ext cx="1535040" cy="239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licando el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sa libre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ndidatos: Papeles del Banco Central de Chile (PRC’s van desde 2 a 20 añ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ntabilidad esperada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mer problema: Portafolio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el portafolio de merca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óricamente representa el valor de mercado de todos los activos de la economía (debidamente ponderado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ndidatos para 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índices bursátiles (IPSA, IGPA), índices sectoriales, PIB, consumo agregad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 de Be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beta de una comp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ñía es típicamente estimado a través de una regresión con datos histór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L estim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ó el beta para Hewlett Packard a partir de 60 observaciones de retornos de su acción y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P500 y obtuv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754360" y="4179960"/>
                <a:ext cx="27828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434600" y="5272200"/>
            <a:ext cx="56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.81 significa alto riesgo. Claramente mayor a 1.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sto de capital promedio ponderado (WACC) asume que la estructura de capital es replicabl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89240" y="3840120"/>
                <a:ext cx="4119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1355400" y="54640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ac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31200" y="546408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l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46120" y="24922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71080" y="2492280"/>
            <a:ext cx="989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26840" y="5464080"/>
            <a:ext cx="12268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a de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19000" y="2492280"/>
            <a:ext cx="110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9000" y="4414320"/>
            <a:ext cx="443160" cy="1078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60600" y="4566960"/>
            <a:ext cx="138240" cy="92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4567320" y="4490640"/>
            <a:ext cx="87120" cy="100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51120" y="3436920"/>
            <a:ext cx="290520" cy="51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4110120" y="3132000"/>
            <a:ext cx="163440" cy="82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405040" y="3132000"/>
            <a:ext cx="468360" cy="82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foques para la incorpo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Análisis individual de una inver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1 Análisis probabilís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2 Análisis de Sensibilidad y de E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3 Ajuste simple en la tasa de descu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4 Sim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Análisis de portafo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1 Diversificación y en modelo CA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Análisis de Decisiones Secuenciales y                Arboles de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to el CAPM como el WACC “aproximan” el costo de capital para efectos de valo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aproximación más exacta consiste en valorar cada componente del flujo de caja de acuerdo a su propio costo de cap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o se conoce como valoración por componentes o valor presente neto ajus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61960" y="4772160"/>
                <a:ext cx="8213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ecto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inanciamiento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1511280" y="5791320"/>
            <a:ext cx="151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aloración c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ursos prop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522520" y="5176800"/>
            <a:ext cx="290520" cy="62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70680" y="5638680"/>
            <a:ext cx="2481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misión de acciones/ADR’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udo tribut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misión de bo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réditos banc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5862240" y="5100120"/>
            <a:ext cx="87480" cy="4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se usa  el WACC, se deben descontar los flujos de la inversión “pura” (sin deuda). Se obtiene un Valor Presente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se desea estimar el Valor Presente del Patrimonio, al valor anterior se le resta la deu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xiste deuda, se puede aplicar el procedimiento anterior “reversando” los gast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equivalente a descontar los flujos con deuda (“inversión financiada”), con la tasa de costo del patrimonio Re (ó cost of equity ó rentabilidad patrimonial ó rentabilidad sobre el capit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Alternativa al portafolio domésti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Una manera de evitar el problema de trabajar con un portafolio no observable es un portafolio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mundial”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n proxy típicamente usado para estos efectos es un índice proveniente de los países que permiten un libre flujo de capitales (OEC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ajo este esquema, estaríamos interpretando a la OECD como un solo gran paí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Riesgo cambiar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Sin embargo, inversionistas internacionales están expuestos a riesgos de tipo de cambio rea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Más aún, inversionistas de diferentes países no tienen expectativas homogeneas debido a que el retorno para ellos puede ser diferente dependiendo del país donde se encuentre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3520" y="1517760"/>
            <a:ext cx="8153280" cy="50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Inversionistas chilenos estarán preocupados de su rentabilidad en pesos chilen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Si por ejemplo, ellos tienen un portafolio de acciones en Estados Unidos, su retorno en pesos será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+r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Times New Roman"/>
              </a:rPr>
              <a:t>peso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= (1+r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CL" sz="3100" spc="-1" strike="noStrike" baseline="-25000">
                <a:solidFill>
                  <a:srgbClr val="ffffff"/>
                </a:solidFill>
                <a:latin typeface="Times New Roman"/>
              </a:rPr>
              <a:t>ólares</a:t>
            </a: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)(1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Times New Roman"/>
              </a:rPr>
              <a:t>peso/d</a:t>
            </a:r>
            <a:r>
              <a:rPr b="0" lang="es-CL" sz="3100" spc="-1" strike="noStrike" baseline="-25000">
                <a:solidFill>
                  <a:srgbClr val="ffffff"/>
                </a:solidFill>
                <a:latin typeface="Times New Roman"/>
              </a:rPr>
              <a:t>ólar</a:t>
            </a: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s corresponde al cambio en el tipo de camb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Inversionistas chilenos se preocuparán ahora de la distribución conjunta del retorno del portafolio en pesos y del tipo de camb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Esto quiere decir que el valor esperado y la varianza del portafolio no son suficientes para rankear portafol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Específicamente, debemos considerar la covarianza entre el retorno del portafolio y el tipo de camb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533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33520" y="151776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Para incoporar el efecto del riesgo cambiario, debemos capturar el premio que espera recibir un inversionista por tomar este riesg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En un modelo de dos países (Estados Unidos y Chile), podemos usar como premio por riesgo cambiario la diferencia entre los bonos del tesoro de Estados Unidos y bonos libre de riesgo en Chi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imes New Roman"/>
              </a:rPr>
              <a:t>Reformulando CAPM obtenemos: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533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285920" y="4191120"/>
                <a:ext cx="739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esorfus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fusa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290520" y="5181480"/>
            <a:ext cx="88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ta formulación puede ser estimada a través de la siguiente ecu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351160" y="5899320"/>
                <a:ext cx="2670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r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γs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90720" y="533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M Intern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2602080"/>
            <a:ext cx="9045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uchos paí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extensión al modelo de muchos países se obtiene incorporando los restantes tipos de camb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E(r-r</a:t>
            </a:r>
            <a:r>
              <a:rPr b="0" lang="es-C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s-CL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E(r</a:t>
            </a:r>
            <a:r>
              <a:rPr b="0" lang="es-CL" sz="26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-r</a:t>
            </a:r>
            <a:r>
              <a:rPr b="0" lang="es-CL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(s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+ …..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(s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n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esgo Paí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riabilidad del PG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esgo Sector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riabilidad del PGB sectorial (del mercado objetivo y de insum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esgo de una Inver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alacamiento Oper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alancamiento Financi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tintos Niveles de Ries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Análisis individual de una Inver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1 Análisis probabilístico de una invers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forma de Interpretar 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hora los flujos de caja son variables Aleato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82640" y="5029200"/>
            <a:ext cx="532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349880"/>
            <a:ext cx="0" cy="672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640" y="5732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956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7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9720" y="40179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560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264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40640" y="3941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31160" y="56181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0080" y="45514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35720" y="43228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3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viación estándar del flujo de caja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Valor esperado del flujo de caja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or Esperado de la Invers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VAN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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16360" y="51814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8080" y="516096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5444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464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9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391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viación estándar de una Inversió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1: Flujos de caja independ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2 : Flujos de caja perfectamente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correla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v(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, 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 = 1 = Coeficiente de corre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3: Flujos de caja imperfectamente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rrela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8440" y="4267080"/>
            <a:ext cx="113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95800" y="4251240"/>
            <a:ext cx="1039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demos obtener el comportamiento probabilístico del rendimiento económ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90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6200" y="608328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06680" y="1225800"/>
            <a:ext cx="5550840" cy="4602960"/>
            <a:chOff x="1606680" y="1225800"/>
            <a:chExt cx="5550840" cy="4602960"/>
          </a:xfrm>
        </p:grpSpPr>
        <p:sp>
          <p:nvSpPr>
            <p:cNvPr id="98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4280" y="5191200"/>
              <a:ext cx="265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9T23:48:26Z</dcterms:created>
  <dc:creator>Eduardo Contreras</dc:creator>
  <dc:description/>
  <dc:language>en-US</dc:language>
  <cp:lastModifiedBy>dii</cp:lastModifiedBy>
  <cp:lastPrinted>1997-06-27T12:45:24Z</cp:lastPrinted>
  <dcterms:modified xsi:type="dcterms:W3CDTF">2000-11-29T14:30:36Z</dcterms:modified>
  <cp:revision>9</cp:revision>
  <dc:subject>Selección de portafolios</dc:subject>
  <dc:title>Gestión Financiera-Tema 6</dc:title>
</cp:coreProperties>
</file>