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4721-4C71-407B-85D7-4039088F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4A6C-3E69-45A2-80D0-44C3473B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204-EA72-4176-BBF6-42FF3D97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C67D-4599-4869-A721-18BCBB49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F30A-1CC9-4309-B81E-373DD8C5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F14E-F5E4-4504-806B-870E71C5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DCD7-74AA-45CE-9EA3-06D97F4F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1438-7334-4787-A6BC-FC16A7DC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6BD5-E022-4316-BD5D-9935C7F7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75CB-3F30-4F96-9E66-C4F25D8B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7B21-2E09-4932-AC46-40A86F8E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B3C5-0992-4814-9E5B-83170486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720C-FA5B-4338-8626-86CF2D67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2866-5E0D-4E37-8AE1-442429FD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529A-75D2-4539-BA2F-E8002786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41A3-140E-4A85-B39D-AD64F86C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5C30-9F5F-4564-96EC-0F382242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149F-6432-4992-AFE8-67E84CAA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43FF-5199-40D9-A751-6EF406A2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7D31-D3F2-4E23-A7F0-400046BD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B421-BE40-44C3-BABB-1AF2E1D0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B17D-2CD0-4BCE-AD3A-233D9FD1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780-AB41-4759-B49E-378D3DE1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31FA-E1D7-4F15-8803-036176CE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8589-BE25-4821-87F8-49C0A580B269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4667-5FD0-47A2-A193-0BAFD5F0F62D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000000"/>
                </a:solidFill>
                <a:latin typeface="Arial"/>
              </a:rPr>
              <a:t>Auxiliar Nº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000000"/>
                </a:solidFill>
                <a:latin typeface="Arial"/>
              </a:rPr>
              <a:t>Estructuras de Mercado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ferta y Demand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4038480"/>
            <a:ext cx="70106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ferta: representa la cantidad total que los oferentes están dispuesto a producir a cierto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manda: representa la cantidad total que los demandantes están dispuestos a comprar a cierto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403280" y="1640520"/>
            <a:ext cx="3239640" cy="2249640"/>
            <a:chOff x="1403280" y="1640520"/>
            <a:chExt cx="3239640" cy="2249640"/>
          </a:xfrm>
        </p:grpSpPr>
        <p:grpSp>
          <p:nvGrpSpPr>
            <p:cNvPr id="95" name=""/>
            <p:cNvGrpSpPr/>
            <p:nvPr/>
          </p:nvGrpSpPr>
          <p:grpSpPr>
            <a:xfrm>
              <a:off x="1403280" y="1640520"/>
              <a:ext cx="3239640" cy="2249640"/>
              <a:chOff x="1403280" y="1640520"/>
              <a:chExt cx="3239640" cy="2249640"/>
            </a:xfrm>
          </p:grpSpPr>
          <p:sp>
            <p:nvSpPr>
              <p:cNvPr id="96" name=""/>
              <p:cNvSpPr/>
              <p:nvPr/>
            </p:nvSpPr>
            <p:spPr>
              <a:xfrm>
                <a:off x="4180320" y="3468600"/>
                <a:ext cx="462600" cy="42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03280" y="1640520"/>
                <a:ext cx="462600" cy="28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100320" y="3468600"/>
                <a:ext cx="308160" cy="42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57360" y="2202840"/>
                <a:ext cx="462960" cy="42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1865880" y="1640520"/>
                <a:ext cx="0" cy="182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865880" y="3468600"/>
                <a:ext cx="262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1865880" y="1921680"/>
                <a:ext cx="2005920" cy="126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865880" y="2343600"/>
                <a:ext cx="138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5400000">
                <a:off x="2138040" y="2071080"/>
                <a:ext cx="843480" cy="1388520"/>
              </a:xfrm>
              <a:prstGeom prst="rtTriangl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254760" y="2343600"/>
                <a:ext cx="0" cy="112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5003640" y="1628640"/>
            <a:ext cx="3384720" cy="2376360"/>
            <a:chOff x="5003640" y="1628640"/>
            <a:chExt cx="3384720" cy="2376360"/>
          </a:xfrm>
        </p:grpSpPr>
        <p:sp>
          <p:nvSpPr>
            <p:cNvPr id="107" name=""/>
            <p:cNvSpPr/>
            <p:nvPr/>
          </p:nvSpPr>
          <p:spPr>
            <a:xfrm>
              <a:off x="7904880" y="3559680"/>
              <a:ext cx="483480" cy="44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03640" y="1628640"/>
              <a:ext cx="48348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54080" y="3559680"/>
              <a:ext cx="322200" cy="44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64560" y="2668320"/>
              <a:ext cx="483480" cy="44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5487120" y="1628640"/>
              <a:ext cx="0" cy="193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87120" y="3559680"/>
              <a:ext cx="27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5486760" y="1925640"/>
              <a:ext cx="1934280" cy="148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7120" y="2817000"/>
              <a:ext cx="112824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7120" y="1925640"/>
              <a:ext cx="1128240" cy="891360"/>
            </a:xfrm>
            <a:prstGeom prst="rtTriangl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15360" y="2817000"/>
              <a:ext cx="720" cy="742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lasticidades</a:t>
            </a:r>
            <a:br>
              <a:rPr sz="4200"/>
            </a:b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(ceteris paribu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151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asticidad de la demanda: Magnitud de la reacción de la cantidad demandada ante un cambio en el pre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asticidad de la oferta: grado de respuesta de los productores ante variaciones en el pre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ango de val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rva elá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rva con elasticidad un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rva inelá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724360" y="404640"/>
                <a:ext cx="266544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411280" y="4653000"/>
                <a:ext cx="13687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t xml:space="preserve">→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→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1</m:t>
                        </m:r>
                        <m:r>
                          <m:t xml:space="preserve">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structuras de Mercad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isten cuatro principales estructuras de mercad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petencia perfec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chas firmas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tomadoras de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nopol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a sola firma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lla determina el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ligop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y pocas firmas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ueden coludirse o 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petencia Monopo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chas firmas muy diferenc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65000" y="31752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Competencia Perfec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4723920"/>
            <a:ext cx="7010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puest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ormación perf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ien perfectamente Homogén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42920" y="1917360"/>
            <a:ext cx="3312720" cy="2448000"/>
            <a:chOff x="1042920" y="1917360"/>
            <a:chExt cx="3312720" cy="2448000"/>
          </a:xfrm>
        </p:grpSpPr>
        <p:sp>
          <p:nvSpPr>
            <p:cNvPr id="126" name=""/>
            <p:cNvSpPr/>
            <p:nvPr/>
          </p:nvSpPr>
          <p:spPr>
            <a:xfrm>
              <a:off x="3882600" y="3906720"/>
              <a:ext cx="47304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42920" y="1917720"/>
              <a:ext cx="47304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62760" y="3906720"/>
              <a:ext cx="31536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00240" y="2988720"/>
              <a:ext cx="47340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15960" y="3906720"/>
              <a:ext cx="268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15960" y="2223360"/>
              <a:ext cx="1104120" cy="918000"/>
            </a:xfrm>
            <a:prstGeom prst="rtTriangl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19720" y="3141720"/>
              <a:ext cx="720" cy="765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1838160" y="2818800"/>
              <a:ext cx="458640" cy="1104120"/>
            </a:xfrm>
            <a:prstGeom prst="rtTriangl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515600" y="3141720"/>
              <a:ext cx="1104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515960" y="2529360"/>
              <a:ext cx="2524320" cy="10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515960" y="1917360"/>
              <a:ext cx="0" cy="19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1515600" y="2223360"/>
              <a:ext cx="1893240" cy="15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219640" y="2930400"/>
                <a:ext cx="2808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005440" y="2131920"/>
            <a:ext cx="208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65000" y="31752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onopoli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4581000"/>
            <a:ext cx="4103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puest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hay sustitos perf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tes barreras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932360" y="3211560"/>
                <a:ext cx="3745080" cy="20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g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4284720" y="1484280"/>
            <a:ext cx="45352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quilibrio: 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monopolista maximiza su utilidad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68360" y="1484280"/>
            <a:ext cx="4114800" cy="3141360"/>
            <a:chOff x="468360" y="1484280"/>
            <a:chExt cx="4114800" cy="3141360"/>
          </a:xfrm>
        </p:grpSpPr>
        <p:sp>
          <p:nvSpPr>
            <p:cNvPr id="145" name=""/>
            <p:cNvSpPr/>
            <p:nvPr/>
          </p:nvSpPr>
          <p:spPr>
            <a:xfrm>
              <a:off x="835200" y="2398320"/>
              <a:ext cx="429840" cy="34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53800" y="2627280"/>
              <a:ext cx="914400" cy="5713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0120" y="4048200"/>
              <a:ext cx="473040" cy="29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8360" y="1484280"/>
              <a:ext cx="701280" cy="42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29600" y="4048200"/>
              <a:ext cx="468360" cy="32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1169640" y="3998160"/>
              <a:ext cx="318456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69640" y="1908360"/>
              <a:ext cx="898560" cy="718560"/>
            </a:xfrm>
            <a:prstGeom prst="rtTriangle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407960" y="2959920"/>
              <a:ext cx="421560" cy="898560"/>
            </a:xfrm>
            <a:prstGeom prst="rtTriangl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169640" y="2283840"/>
              <a:ext cx="2727360" cy="133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153800" y="1484280"/>
              <a:ext cx="15840" cy="26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1169280" y="1908360"/>
              <a:ext cx="2498760" cy="19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32200" y="1861200"/>
              <a:ext cx="1859760" cy="276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062080" y="2614680"/>
              <a:ext cx="0" cy="138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153800" y="2627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65000" y="31752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ligopoli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74560" y="1773000"/>
            <a:ext cx="6337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os comportamientos posi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op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coop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292720" y="3241800"/>
                <a:ext cx="3600360" cy="19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r>
                          <m:t xml:space="preserve">π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476360" y="3284640"/>
            <a:ext cx="453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quilibrio cooperativo: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76360" y="5445000"/>
            <a:ext cx="67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quilibrio no cooperativ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competencia perfecta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Competencia Monopolis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upuest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el largo plazo no hay dificultades para entrar o salir de la indust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a firma puede modelarse como un monop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tiene competencia para el grupo de consumidores que los percibe como diferenc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76360" y="1434960"/>
          <a:ext cx="7153200" cy="4730760"/>
        </p:xfrm>
        <a:graphic>
          <a:graphicData uri="http://schemas.openxmlformats.org/drawingml/2006/table">
            <a:tbl>
              <a:tblPr/>
              <a:tblGrid>
                <a:gridCol w="1324080"/>
                <a:gridCol w="1616040"/>
                <a:gridCol w="2027160"/>
                <a:gridCol w="2185920"/>
              </a:tblGrid>
              <a:tr h="1103040">
                <a:tc gridSpan="4"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Empresas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 rowSpan="2"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empresa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66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as empresas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as empresas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3366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Product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3366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928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66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Diferenciad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Homogéne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3366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864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poli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66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igopoli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ia Monopolista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ia Perfecta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336666"/>
                      </a:solidFill>
                    </a:lnR>
                    <a:lnT>
                      <a:noFill/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 flipH="1">
            <a:off x="2484000" y="1989000"/>
            <a:ext cx="2158920" cy="9352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780000" y="1989000"/>
            <a:ext cx="1079280" cy="100836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1989000"/>
            <a:ext cx="1224000" cy="6480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68360" y="3860640"/>
            <a:ext cx="0" cy="12240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3860640"/>
            <a:ext cx="0" cy="12240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16720" y="3141720"/>
            <a:ext cx="0" cy="35856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940360" y="4005360"/>
            <a:ext cx="287280" cy="215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77080" y="4005360"/>
            <a:ext cx="287280" cy="215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80000" y="4941720"/>
            <a:ext cx="0" cy="287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67640" y="4941720"/>
            <a:ext cx="0" cy="287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1:31:26Z</dcterms:created>
  <dc:creator>Loreto Tamblay</dc:creator>
  <dc:description/>
  <dc:language>en-US</dc:language>
  <cp:lastModifiedBy>Loreto Tamblay</cp:lastModifiedBy>
  <dcterms:modified xsi:type="dcterms:W3CDTF">2004-10-16T00:37:03Z</dcterms:modified>
  <cp:revision>8</cp:revision>
  <dc:subject/>
  <dc:title>Auxiliar Nº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