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3B1-1C3E-4589-AFC3-A54132D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8E2-E18C-4071-B78D-4348EB79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D52-D520-4455-83AD-D571FA8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4A1-65FA-42B9-A845-26A36A02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E97E-FBAE-4A09-A7F2-E356B3AD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F55D-02B9-4D47-8C14-AFF7650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AA47-6E9D-41F7-BF1A-44EB9EF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0A4D-2E08-4D57-B723-AA084A1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DFDB-A0F1-4380-900E-12530F9E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CB58-4683-4B67-AACB-9D23A59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621C-3E35-4E6C-8A98-2329AA2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48E-7B60-42FC-92E7-0F633F6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A42-D603-4B1B-AE3F-4E85CF2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3AD-5D2E-4156-A6EF-2EA5C5B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B277-0D33-49D6-898D-CAA3440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7020-826C-4A09-9E16-B9FA1FD9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4596-6249-47AD-9E42-5515A5FA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D89-718F-4516-B49D-5F8DD4E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1B0-6F7C-4847-B6DD-D79AE95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C7A-D77A-4993-94BC-585F3A62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028-3948-4356-8268-494E33D6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F46-9CA3-4B41-B28D-80CDC63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E95-B5AD-4538-9358-821885E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BBC-8031-4F04-97D3-650854E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F80-A08E-40D6-BC46-8045EBE5D7F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208-0A46-4376-96F9-C78C051DBBD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Auxiliar Nº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ferta: representa la cantidad total que los oferentes están dispuesto a producir a cierto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anda: representa la cantidad total que los demandantes están dispuestos a comprar a cier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03280" y="1640520"/>
            <a:ext cx="3239640" cy="2249640"/>
            <a:chOff x="1403280" y="1640520"/>
            <a:chExt cx="3239640" cy="2249640"/>
          </a:xfrm>
        </p:grpSpPr>
        <p:grpSp>
          <p:nvGrpSpPr>
            <p:cNvPr id="95" name=""/>
            <p:cNvGrpSpPr/>
            <p:nvPr/>
          </p:nvGrpSpPr>
          <p:grpSpPr>
            <a:xfrm>
              <a:off x="1403280" y="1640520"/>
              <a:ext cx="3239640" cy="2249640"/>
              <a:chOff x="1403280" y="1640520"/>
              <a:chExt cx="3239640" cy="224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0320" y="3468600"/>
                <a:ext cx="46260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3280" y="1640520"/>
                <a:ext cx="4626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00320" y="3468600"/>
                <a:ext cx="3081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7360" y="2202840"/>
                <a:ext cx="4629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65880" y="1640520"/>
                <a:ext cx="0" cy="18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65880" y="3468600"/>
                <a:ext cx="262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865880" y="1921680"/>
                <a:ext cx="20059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5880" y="234360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2138040" y="2071080"/>
                <a:ext cx="843480" cy="1388520"/>
              </a:xfrm>
              <a:prstGeom prst="rtTriangl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54760" y="2343600"/>
                <a:ext cx="0" cy="11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003640" y="1628640"/>
            <a:ext cx="3384720" cy="2376360"/>
            <a:chOff x="5003640" y="1628640"/>
            <a:chExt cx="3384720" cy="2376360"/>
          </a:xfrm>
        </p:grpSpPr>
        <p:sp>
          <p:nvSpPr>
            <p:cNvPr id="107" name=""/>
            <p:cNvSpPr/>
            <p:nvPr/>
          </p:nvSpPr>
          <p:spPr>
            <a:xfrm>
              <a:off x="7904880" y="355968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628640"/>
              <a:ext cx="4834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4080" y="3559680"/>
              <a:ext cx="32220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64560" y="266832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487120" y="1628640"/>
              <a:ext cx="0" cy="19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7120" y="3559680"/>
              <a:ext cx="27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6760" y="1925640"/>
              <a:ext cx="193428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7120" y="2817000"/>
              <a:ext cx="1128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120" y="1925640"/>
              <a:ext cx="1128240" cy="8913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5360" y="2817000"/>
              <a:ext cx="720" cy="74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asticidades</a:t>
            </a:r>
            <a:br>
              <a:rPr sz="4200"/>
            </a:b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demanda: Magnitud de la reacción de la cantidad demandada ante un cambio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oferta: grado de respuesta de los productores ante variaciones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 de 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con elasticidad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24360" y="404640"/>
                <a:ext cx="26654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4653000"/>
                <a:ext cx="136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cuatro principales estructuras de merc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omadoras de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opol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sola firm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la determina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y poc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coludirse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muy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7010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perfectamente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17360"/>
            <a:ext cx="3312720" cy="2448000"/>
            <a:chOff x="1042920" y="1917360"/>
            <a:chExt cx="3312720" cy="2448000"/>
          </a:xfrm>
        </p:grpSpPr>
        <p:sp>
          <p:nvSpPr>
            <p:cNvPr id="126" name=""/>
            <p:cNvSpPr/>
            <p:nvPr/>
          </p:nvSpPr>
          <p:spPr>
            <a:xfrm>
              <a:off x="3882600" y="3906720"/>
              <a:ext cx="4730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1917720"/>
              <a:ext cx="473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760" y="3906720"/>
              <a:ext cx="31536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988720"/>
              <a:ext cx="473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5960" y="3906720"/>
              <a:ext cx="26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2223360"/>
              <a:ext cx="1104120" cy="918000"/>
            </a:xfrm>
            <a:prstGeom prst="rtTriangl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3141720"/>
              <a:ext cx="72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838160" y="2818800"/>
              <a:ext cx="458640" cy="110412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15600" y="3141720"/>
              <a:ext cx="110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2529360"/>
              <a:ext cx="25243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515960" y="1917360"/>
              <a:ext cx="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515600" y="2223360"/>
              <a:ext cx="1893240" cy="15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19640" y="2930400"/>
                <a:ext cx="280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213192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sustitos per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32360" y="3211560"/>
                <a:ext cx="3745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284720" y="1484280"/>
            <a:ext cx="45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: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nopolista maximiza su util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484280"/>
            <a:ext cx="4114800" cy="3141360"/>
            <a:chOff x="468360" y="1484280"/>
            <a:chExt cx="4114800" cy="3141360"/>
          </a:xfrm>
        </p:grpSpPr>
        <p:sp>
          <p:nvSpPr>
            <p:cNvPr id="145" name=""/>
            <p:cNvSpPr/>
            <p:nvPr/>
          </p:nvSpPr>
          <p:spPr>
            <a:xfrm>
              <a:off x="835200" y="2398320"/>
              <a:ext cx="42984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3800" y="2627280"/>
              <a:ext cx="914400" cy="5713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0120" y="4048200"/>
              <a:ext cx="47304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484280"/>
              <a:ext cx="7012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9600" y="4048200"/>
              <a:ext cx="468360" cy="3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169640" y="3998160"/>
              <a:ext cx="31845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9640" y="1908360"/>
              <a:ext cx="898560" cy="718560"/>
            </a:xfrm>
            <a:prstGeom prst="rtTriangl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407960" y="2959920"/>
              <a:ext cx="421560" cy="8985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169640" y="2283840"/>
              <a:ext cx="2727360" cy="13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53800" y="1484280"/>
              <a:ext cx="1584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169280" y="1908360"/>
              <a:ext cx="2498760" cy="19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2200" y="1861200"/>
              <a:ext cx="185976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62080" y="2614680"/>
              <a:ext cx="0" cy="138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53800" y="262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4560" y="1773000"/>
            <a:ext cx="63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os comportamiento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92720" y="3241800"/>
                <a:ext cx="3600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cooperativo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44500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no cooperativ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ompetencia perfecta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largo plazo no hay dificultades para entrar o salir de la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firma puede modelarse como un mon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tiene competencia para el grupo de consumidores que los percibe como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434960"/>
          <a:ext cx="7153200" cy="4730760"/>
        </p:xfrm>
        <a:graphic>
          <a:graphicData uri="http://schemas.openxmlformats.org/drawingml/2006/table">
            <a:tbl>
              <a:tblPr/>
              <a:tblGrid>
                <a:gridCol w="1324080"/>
                <a:gridCol w="1616040"/>
                <a:gridCol w="2027160"/>
                <a:gridCol w="2185920"/>
              </a:tblGrid>
              <a:tr h="1103040"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s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empres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Produc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Diferenciad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86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Monopolis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Perfec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2484000" y="1989000"/>
            <a:ext cx="2158920" cy="93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80000" y="1989000"/>
            <a:ext cx="1079280" cy="10083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989000"/>
            <a:ext cx="1224000" cy="648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141720"/>
            <a:ext cx="0" cy="3585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94036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1:31:26Z</dcterms:created>
  <dc:creator>Loreto Tamblay</dc:creator>
  <dc:description/>
  <dc:language>en-US</dc:language>
  <cp:lastModifiedBy>Loreto Tamblay</cp:lastModifiedBy>
  <dcterms:modified xsi:type="dcterms:W3CDTF">2004-10-16T00:37:03Z</dcterms:modified>
  <cp:revision>8</cp:revision>
  <dc:subject/>
  <dc:title>Auxiliar Nº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