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FAD-9945-4B49-81CB-EEC7E22D9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1259-074E-45DC-9172-D3B6D9A2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CD1-8EB1-41BF-8F20-AF6B9830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0A50-5D4D-451F-88A2-247368595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978-37B2-4DDD-8024-7531748E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8010-E308-4685-A204-27F2DAC3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6DE7-BBBA-4D48-9079-6212A235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F998-F8A3-4A41-84C9-E400AC7C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25F-6E9C-43EE-A58F-69528A47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3C20-666E-47C3-A2DD-6C5A23AC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B4E3-7F46-48B4-BAA4-FDB146C8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63DE-19DE-4A77-B894-FBC93F17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BF99-E657-4EEC-BF91-DF69EEA20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yesian belief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PCA and 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4648320"/>
            <a:ext cx="495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ter And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rasp@iee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9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17524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ve calculation of the eigenv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251460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randomly chosen vector, such that ||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2767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iteratively the calc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3720" y="4038480"/>
                <a:ext cx="50292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914400" y="5029200"/>
            <a:ext cx="609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learning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571500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lgorithm converges to the eigenvector corresponding to the largest eigenvalu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10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9810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culate the following eigenvectors we modify the iterative algorithm. Now we use the calculation formu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755720" y="3352680"/>
                <a:ext cx="532944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η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1066680" y="44956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057400" y="4419720"/>
                <a:ext cx="18288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038480" y="4495680"/>
            <a:ext cx="358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j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548640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terative algorithm converges to 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k-th eigenv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1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828800"/>
            <a:ext cx="7467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algorithm doesn’t converge the situation can b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the vector enters in a cyc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the values doesn’t form any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6576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have a cycle, all the vectors of the cycle are eigenvectors, and their corresponding eigenvalues are very cl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50292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have no convergence and no cycle, that means that there is no more eigenvector that can be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1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9810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use the PCA for dimension reduc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819520"/>
            <a:ext cx="67816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the important eigen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times all of the eigenvectors can be determined but only part of them are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portance of the eigenvectors is shown by their associated eigen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1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17524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ng the important eigen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26668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Graphical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14600" y="3352680"/>
          <a:ext cx="4952880" cy="284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352680"/>
                    <a:ext cx="49528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1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175248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ng the important eigen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590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elative po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66800" y="3124080"/>
                <a:ext cx="55562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λ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λ</m:t>
                            </m:r>
                            <m:sSub>
                              <m:e>
                                <m:r>
                                  <m:t xml:space="preserve"> 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≥</m:t>
                        </m:r>
                        <m:r>
                          <m:t xml:space="preserve">ρ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914400" y="43434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umulative pow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701720" y="4865760"/>
                <a:ext cx="5794560" cy="14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λ</m:t>
                        </m:r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  <m:e>
                                <m:r>
                                  <m:t xml:space="preserve">λ</m:t>
                                </m:r>
                                <m:sSub>
                                  <m:e>
                                    <m:r>
                                      <m:t xml:space="preserve"> 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≥</m:t>
                        </m:r>
                        <m:r>
                          <m:t xml:space="preserve">ρ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ρ</m:t>
                    </m:r>
                    <m:r>
                      <m:t xml:space="preserve"> 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15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9907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00200"/>
            <a:ext cx="72392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CA is used for dimensionality red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ta vectors are projected on the eigenvectors of their correlation matrix to obtain the transformed data 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alculate easily the PCA we can use the iterative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educe the data dimension we consider only the important eigen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pendent component analy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 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2743200"/>
            <a:ext cx="7772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dea: if the data vectors are linear combination of statistically independent data components, they should be separable in their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rue if the component vectors have non-Gaussian distribution, with sharper or flatter p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2819520"/>
            <a:ext cx="7467480" cy="30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A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ere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 data vectors,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he vectors of  statistically independent components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goal is to find the matrix A (more precisely, the rows of i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‘cocktail-party’ effect: many independent voices registered together; goal: separate the independent voices; the recorded mixture is a linear mix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21337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ind the independent component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2895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447920" y="3429000"/>
                <a:ext cx="58672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|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990720" y="441972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olution vectors (w) are local minimum solutions, and they correspond to one of the independent components, i.e., on the components of the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component analysi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1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25146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: the high dimensional data might be situated on a lower dimensional su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286000" y="3962520"/>
          <a:ext cx="426708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962520"/>
                    <a:ext cx="426708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 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71800" y="1752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do it practically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666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ICA algorithm (Hyvarinen and Oj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3352680"/>
            <a:ext cx="5181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s by iterations the w 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lculation formula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819520" y="4495680"/>
                <a:ext cx="35812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914400" y="57150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 converges to one of the vectors corresponding to one of the independent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 5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981080"/>
            <a:ext cx="746748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actice we have to calculate several w vectors. To test whether the generated independent components are really independent we can use statistical t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us consider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we can test the independence of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calculating their correlation and testing their identical origin by the F-test (they may not be strongly correlated but at the same time they may have identical origi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testing accepts the independence of the two series we may accept 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new vector that corresponds to a separate independent compon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 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1905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895480"/>
            <a:ext cx="7543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calculating the independent components we get a new representation of the data, which has the property that the components contain minimum mutual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use the ICA to select the independent non-Gaussian components, but we cannot separate the Gaussian mix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19051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ind the lower dimensional surfac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2971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look for linear surfaces, i.e., hyperpla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19112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compose the correlation matrix of data conform its eigen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2209680"/>
            <a:ext cx="7315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igenvectors are called principal component 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w data vectors are formed by the projections of the original data vectors onto the principal component v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981080" y="2286000"/>
                <a:ext cx="1600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3886200" y="22860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data v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2438280" y="4191120"/>
                <a:ext cx="41022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x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2514600" y="3352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rrelation matrix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5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18288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igenvectors are determined by the 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124080" y="2590920"/>
                <a:ext cx="22860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v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990720" y="3581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real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00400" y="4114800"/>
          <a:ext cx="255276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114800"/>
                    <a:ext cx="25527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143000" y="44956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with two eigenvecto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2209680"/>
            <a:ext cx="5715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rinciple we should find d eigenvectors if the dimensionality of the data vectors is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data vectors are situated on a lower dimensional linear surface we find less than d eigenvectors (i.e., the determinant of the correlation matrix is zer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7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23623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&lt;d, are the eigenvectors of R then the new, transformed data vectors are calculated 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514600" y="3809880"/>
                <a:ext cx="335268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sup>
                        </m:sSup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A 8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18288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calculate the eigenvectors of 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28195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method: use standard matrix algebra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t is very laborio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45720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method: iterative calculation of the eigenvectors inspired by artificial neural net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14:56:02Z</dcterms:created>
  <dc:creator>fdaw-cs</dc:creator>
  <dc:description/>
  <dc:language>en-US</dc:language>
  <cp:lastModifiedBy>Andras</cp:lastModifiedBy>
  <dcterms:modified xsi:type="dcterms:W3CDTF">2001-03-12T12:18:51Z</dcterms:modified>
  <cp:revision>11</cp:revision>
  <dc:subject/>
  <dc:title>1. Bayesian belief networks 2. PCA and ICA</dc:title>
</cp:coreProperties>
</file>