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386-51BC-4459-86D3-573CFF1C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FC4-F4C4-4799-B3CF-D774C439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3C1-A220-4748-A9AD-04BFB815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507-9705-4B1B-A10F-FD9BFCE1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8E3-BE71-49AC-8ED0-571667F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C0A-90AF-4C7E-9FAB-69EB461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E1A-E86C-44C9-842F-6794088B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41B-6687-4E74-B72D-197B5578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C07-65CC-419C-B836-C7F55DA0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87C-0843-4AB8-A507-DD8BAC7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0EC-4BE1-4EC6-A8C4-9A4904D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A78-3D29-4468-919F-1E84C403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D156-B2EC-4AB7-B91A-7B9F3F0B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belief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PCA and 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64832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ter And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asp@iee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9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752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 calculation of the eigen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randomly chosen vector, such that ||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276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iteratively the 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4038480"/>
                <a:ext cx="50292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14400" y="5029200"/>
            <a:ext cx="60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learning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715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 converges to the eigenvector corresponding to the largest eigenvalu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following eigenvectors we modify the iterative algorithm. Now we use the calculation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55720" y="3352680"/>
                <a:ext cx="53294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066680" y="4495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57400" y="4419720"/>
                <a:ext cx="1828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038480" y="449568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4864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terative algorithm converges to 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k-th eigenv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algorithm doesn’t converge the situation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vector enters in a cyc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values doesn’t form any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a cycle, all the vectors of the cycle are eigenvectors, and their corresponding eigenvalues are very cl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029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no convergence and no cycle, that means that there is no more eigenvector that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981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use the PCA for dimension reduc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819520"/>
            <a:ext cx="6781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imes all of the eigenvectors can be determined but only part of them are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ortance of the eigenvectors is shown by their associated eigen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752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ng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666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Graphical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14600" y="3352680"/>
          <a:ext cx="49528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352680"/>
                    <a:ext cx="4952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1752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ng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lative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66800" y="3124080"/>
                <a:ext cx="5556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λ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λ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ρ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914400" y="4343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umulative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01720" y="4865760"/>
                <a:ext cx="579456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λ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λ</m:t>
                                </m:r>
                                <m:sSub>
                                  <m:e>
                                    <m:r>
                                      <m:t xml:space="preserve"> 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ρ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990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00200"/>
            <a:ext cx="72392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CA is used for dimensionality re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vectors are projected on the eigenvectors of their correlation matrix to obtain the transformed data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easily the PCA we can use the iterative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duce the data dimension we consider only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component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74320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: if the data vectors are linear combination of statistically independent data components, they should be separable in their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rue if the component vectors have non-Gaussian distribution, with sharper or flatter 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819520"/>
            <a:ext cx="746748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data vectors,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vectors of  statistically independent components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goal is to find the matrix A (more precisely, the rows of 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‘cocktail-party’ effect: many independent voices registered together; goal: separate the independent voices; the recorded mixture is a linear mix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133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ind the independent compon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447920" y="3429000"/>
                <a:ext cx="5867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90720" y="4419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olution vectors (w) are local minimum solutions, and they correspond to one of the independent components, i.e., on the components of th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component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14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the high dimensional data might be situated on a lower dimensional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0" y="3962520"/>
          <a:ext cx="426708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962520"/>
                    <a:ext cx="42670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o it practicall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666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ICA algorithm (Hyvarinen and Oj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35268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s by iterations the w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culation formula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19520" y="4495680"/>
                <a:ext cx="3581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converges to one of the vectors corresponding to one of the independent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981080"/>
            <a:ext cx="74674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have to calculate several w vectors. To test whether the generated independent components are really independent we can use statistical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s consider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 can test the independence o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calculating their correlation and testing their identical origin by the F-test (they may not be strongly correlated but at the same time they may have identical orig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esting accepts the independence of the two series we may accept 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new vector that corresponds to a separate independent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8954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lculating the independent components we get a new representation of the data, which has the property that the components contain minimum mutua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use the ICA to select the independent non-Gaussian components, but we cannot separate the Gaussian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905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ind the lower dimensional surfa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971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k for linear surfaces, i.e., hyperpl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91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compose the correlation matrix of data conform its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igenvectors are called principal component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data vectors are formed by the projections of the original data vectors onto the principal component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81080" y="22860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886200" y="2286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data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438280" y="4191120"/>
                <a:ext cx="4102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514600" y="3352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lation matri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828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igenvectors are determined by the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124080" y="2590920"/>
                <a:ext cx="2286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v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990720" y="3581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al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00400" y="4114800"/>
          <a:ext cx="25527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114800"/>
                    <a:ext cx="2552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143000" y="4495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with two eigenv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209680"/>
            <a:ext cx="5715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inciple we should find d eigenvectors if the dimensionality of the data vectors is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ata vectors are situated on a lower dimensional linear surface we find less than d eigenvectors (i.e., the determinant of the correlation matrix is zer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3623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&lt;d, are the eigenvectors of R then the new, transformed data vectors are calculated 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14600" y="3809880"/>
                <a:ext cx="335268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calculate the eigenvectors of 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819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thod: use standard matrix algebra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t is very labori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5720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thod: iterative calculation of the eigenvectors inspired by artificial neural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4:56:02Z</dcterms:created>
  <dc:creator>fdaw-cs</dc:creator>
  <dc:description/>
  <dc:language>en-US</dc:language>
  <cp:lastModifiedBy>Andras</cp:lastModifiedBy>
  <dcterms:modified xsi:type="dcterms:W3CDTF">2001-03-12T12:18:51Z</dcterms:modified>
  <cp:revision>11</cp:revision>
  <dc:subject/>
  <dc:title>1. Bayesian belief networks 2. PCA and ICA</dc:title>
</cp:coreProperties>
</file>