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FAE-358A-4F36-A7E0-68BFC34E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C98-843B-41ED-8791-E1EB3732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7BE-32D8-413C-9E84-8EF216A3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0C8-FDA4-4F26-A1C2-D12E31BF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6E05-7C43-4BCA-B8AF-DCEA184E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8481-2F23-4E4D-9BEF-1933FF39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63C4-96DF-42E9-85B0-3085E2B8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68AC-1C81-4294-9188-375716B2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8799-DB92-4F1B-804B-D1527952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B9F4-5CCD-4AB2-A63C-6536290C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D2A7-F2D9-4275-8B76-F9E851C5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1FD-AB93-4E85-BE50-6BD925DA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0B1C-4A99-45D1-896B-8106D46F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ED14-7C24-40C9-AD1E-18060B30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D602-5880-4023-8216-67E0C928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BD01-72E1-4A64-AA45-05F94F72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B990-69B3-4738-BFCD-B2B1A07D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793-D71F-46E9-831B-3FA5F877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2F4-966C-4EA5-B8E8-E81EF3BD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66D-BE71-49A2-AEEB-B792EF9F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346-2306-4787-81FC-6C0D052D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BA0-3163-4672-934A-30BE8821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EF8-CAB2-4C1F-9954-6F0C01E6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179-3F8D-43F0-BF52-A9CC578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1DEE-CDB2-4753-9E66-076AD12575C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F8F-CEBD-48A9-8A66-879DBF3E05D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arrollo de Aplicaciones Web en Plataforma Ja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né Díaz Monteneg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tubre de 200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s Ejercic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páginas jsp (Java Server Page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Servlet y páginas JSP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res capas, implementación de conectividad a base de datos usando JSP – Servlet y DB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un documento HTML,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inicio.html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ormulario con dos campos de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Destino del formulario: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respuesta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la página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respuesta.jsp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cibir formul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catenar ambas palabr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viarlas a pantall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mplearemos el mismo documento,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nicio.html.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destino del formulario debe ser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ConcatenaServle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el Servlet ConcatenaServlet.jav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imos el formul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catenamos las palabr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samos un bean para enviar el resul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la página respuesta2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e el bean con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pliega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7:18:45Z</dcterms:created>
  <dc:creator>rdm.gral</dc:creator>
  <dc:description/>
  <dc:language>en-US</dc:language>
  <cp:lastModifiedBy>rdm.gral</cp:lastModifiedBy>
  <dcterms:modified xsi:type="dcterms:W3CDTF">2004-10-26T17:45:36Z</dcterms:modified>
  <cp:revision>1</cp:revision>
  <dc:subject/>
  <dc:title>Desarrollo de Aplicaciones Web en Plataforma Java</dc:title>
</cp:coreProperties>
</file>