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6C1-630C-47BF-AB2E-13B181B1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39D-C95D-47A2-AEBC-35C62660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74E-041C-4D22-BD2F-4C0F98CE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940-8FAB-4BD9-A248-0D9BF3C1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C0F2-A977-48CD-B91F-ABC31410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00A6-B9B6-4DBE-8A8F-7E9CE207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BD3C-C40D-4FFD-8D41-5A2C4052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286F-6444-4098-AC63-D2574E38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D69C-302D-4124-9482-794DE24C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DB7F-8DDD-4004-AE89-632B434A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F2AA-147D-46AE-8C11-A5E94708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0C5-61E4-41E9-B277-858C5028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AAB2-9344-4C11-B8DA-52A34088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67CA-158C-4570-B873-0F97B2D1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7054-6731-4DBD-9AE3-A228806D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374B-B393-44A4-B854-810C9907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8699-B140-4729-A18F-AC2C658F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4A6-09F0-4C86-A731-D5113426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FCC-4B1C-4481-97A5-0EEA68CB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B69-A456-4836-8984-28ED58EC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1EF-744E-4EDC-9B5E-8BC16BEC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B30-C3EE-4386-9BB7-10AE7CE5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44FF-EF30-4195-9BBF-6F009507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1E9-1A0E-482C-AB0C-A34ABA7C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A4BF-062E-4160-988E-CDCF6017CC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7FDD-36ED-49C7-BA60-FD89D657B67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arrollo de Aplicaciones Web en Plataforma Jav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né Díaz Monteneg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ctubre de 200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es Ejercic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atenador de palabras usando páginas jsp (Java Server Page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atenador de palabras usando Servlet y páginas JSP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Tres capas, implementación de conectividad a base de datos usando JSP – Servlet y DB2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mer Ejercicio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mer Ejercicio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struir un documento HTML, </a:t>
            </a:r>
            <a:r>
              <a:rPr b="0" i="1" lang="es-ES" sz="3200" spc="-1" strike="noStrike">
                <a:solidFill>
                  <a:srgbClr val="40458c"/>
                </a:solidFill>
                <a:latin typeface="Tahoma"/>
              </a:rPr>
              <a:t>inicio.html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Formulario con dos campos de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Destino del formulario: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respuesta.j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struir la página </a:t>
            </a:r>
            <a:r>
              <a:rPr b="0" i="1" lang="es-ES" sz="3200" spc="-1" strike="noStrike">
                <a:solidFill>
                  <a:srgbClr val="40458c"/>
                </a:solidFill>
                <a:latin typeface="Tahoma"/>
              </a:rPr>
              <a:t>respuesta.jsp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cibir formul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catenar ambas palabr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viarlas a pantall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ndo Ejercicio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ndo Ejercicio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mplearemos el mismo documento,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inicio.html.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destino del formulario debe ser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ConcatenaServle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truimos el Servlet ConcatenaServlet.jav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cibimos el formul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catenamos las palabr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samos un bean para enviar el resul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truimos la página respuesta2.j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cibe el bean con la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pliega la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7:18:45Z</dcterms:created>
  <dc:creator>rdm.gral</dc:creator>
  <dc:description/>
  <dc:language>en-US</dc:language>
  <cp:lastModifiedBy>rdm.gral</cp:lastModifiedBy>
  <dcterms:modified xsi:type="dcterms:W3CDTF">2004-10-26T17:45:36Z</dcterms:modified>
  <cp:revision>1</cp:revision>
  <dc:subject/>
  <dc:title>Desarrollo de Aplicaciones Web en Plataforma Java</dc:title>
</cp:coreProperties>
</file>