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5CC9-1CA2-4CF9-8B57-66CD15CDC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A459-9534-4A00-BDED-4FAF4973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4B49-FA20-4530-8590-EC19713F9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7E23-BF80-4128-8A77-19B2DC980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3035-FE0F-44C9-AB95-B0CC4806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6415-6445-49C4-9204-1D30B216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2C4C-4D17-4B4F-872C-3F7548BC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C822-094F-47AB-B9BF-B7A63D0B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D975-F3E0-4A2B-ADE1-02C1A69B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7B37-DD60-495C-87D4-74C0A5DC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D7C8-9B05-4B21-AE6C-87FAE1B1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3557-CBD5-44C0-AA72-38123082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6036-3B38-4A66-9DF0-F9407BE16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lase Auxiliar Nº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ópicos de Economía Mund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61080" y="530064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ANY JAIMOVICH B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elo 2x2x2 (2 países, 2 bienes, 2 facto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sma tecnología disponible para ambos paí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fecta movilidad de factores entre s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elo 2x2x2 (2 países, 2 bienes, 2 facto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sma tecnología disponible para ambos paí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fecta movilidad de factores entre s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smas preferencias de los consumidores en ambos paí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ema de H – 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Un país exportará el bien que es intensivo en su factor más abundant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ema de H – 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ejempl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ile es relativamente más abundante en recursos naturales que Japón, por lo que exporta productos que los incorporan (cátodos de cobre, fruta fresc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ema de H – 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ejempl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ina es más abundante en mano de obra que Chile, le importamos rop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ema de H – 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ejempl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A  es más abundante en K humano calificado, le importamos ideas (softwares, libros de marketing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ecto distributi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pongamos que existen 2 factores: capital y trabajo en país 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factor relativamente más abundante es el trabajo, por lo tanto en autarquía será mal remunera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ecto distributi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n embargo, si se produce apertura comercial, el país exportará el bien intensivo en trabajo, debido a H – 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ecto distributi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lo tanto, aumentará w, y además disminuirá P (por las importaciones), lo que lleva a un aumento del poder adquisitivo y del bienest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ecto distributi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do bien………. p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.- ¿Por qué comerciar?: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Modelo del Siglo 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or qué comerci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los precios internacionales son iguales a los de autarquía no hay incentivos para comerci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(siempre y cuando los bienes sean homogéne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ecto distribu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n embargo, disminuirá la renta del capital, pues el bien intensivo en ese factor será importa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ecto distribu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conclusión, aumentará el bienestar del factor más abundante, pero disminuirá el del escaso, por tan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fecto distribu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El comercio internacional es beneficioso para la sociedad en general, pero hay sectores que pierden, y por lo tanto deben ser compensados”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merc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movilidad de bienes sustituye a la movilidad de factore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entonces: por qué hay migraciones??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3.- Precio de los fact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gualación internacional del precio de los factor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4.- Especializació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No es completa (como si lo era en Ricardo, lo que es más realista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I.- Modelo H-O: Re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Es H – O una buena explicación para los patrones del comercio internacion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general, las pruebas empíricas muestran que funciona para explicar comercio “interindustrial”, pero  no “intraindustrial” (aprox 60% del total mundial)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I.- Modelo H-O: Re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Es H – O una buena explicación para los patrones del comercio internacion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Vale decir, explica comercio entre países “ricos y pobres” o muy diferentes entre sí.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I.- Modelo H-O: Re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rít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tecnología no está disponible para todos los países por ig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hay convergencia en precio de factores (OBS: Japón – U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y costos de trasporte, aranceles y otras trab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ienes no homogén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I.- Modelo H-O: Re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rít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ferencias no son igu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ctores no son homogén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hay perfecta movilidad de factores entre diferentes secto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.- ¿Por qué comerciar?: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Modelo del Siglo 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or qué los precios son diferen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ferencias en tecnología: Ventajas Comparativas (Modelo de Ricardo, s. XI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Modelo de Factores Espe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respuesta a la última crít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ume que uno de los 2 factores es específico a un sect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ejemplo: existen 2 sectores, minería y agricultura. El trabajo se mueve perfectamente entre ambos, pero el capital es específico a cada u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Modelo de Factores Espe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lo tanto, existirá un salario único en la economía, una renta del capital minero y una renta del capital agríco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Modelo de Factores Espe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lo tanto, existirá un salario único en la economía, una renta del capital minero y una renta del capital agríco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OCURRIRÁ CON UNA APERTURA COMERC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Modelo de Factores Espe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pongamos que el país es relativamente abundante en trabajo, y exporta el bien intensivo en ese fact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lo ta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Modelo de Factores Espe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ocurrirá con lo trabajado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umentará la demanda por trabajadores, por lo tanto el salario de éstos (en ambos sectores). Además, disminuyen los prec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lo tanto, los trabajadores están mej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Modelo de Factores Espe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ocurrirá con el capital agríco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nderá sus productos en el exterior, a un mejor prec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drá comprar bienes agrícolas (por ejemplo fertilizantes) a precio más bar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o deberá pagar un salario may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tanto, el efecto es ambiguo, aunque probablemente mej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Modelo de Factores Espe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ocurrirá con el capital mine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be pagar mayores sal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be enfrentar competencia externa (precios más bajo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lo tanto, está pe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.- Modelo de Factores Espe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uevam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El comercio internacional es beneficioso para la sociedad en general, pero hay sectores que pierden, y por lo tanto deben ser compensados”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……… </a:t>
            </a: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¿CÓM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.- ¿Por qué comerciar?: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Modelo del Siglo 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or qué los precios son diferen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o el modelo ricardiano considera sólo un factor (trabajo), por lo tanto no permite ver efectos redistribu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demás, cada vez parece ser más real que la disponibilidad de tecnologías es a nivel mund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.- ¿Por qué comerciar?: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Modelo del Siglo 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or qué los precios son diferen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modelo base para explicar el comercio internacional durante gran parte del siglo XX fue </a:t>
            </a: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Heckscher- Ohlin</a:t>
            </a: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 (HO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.- ¿Por qué comerciar?: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Modelo del Siglo 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principal idea de H-O es: “si tienes vacas, produce lech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 sea, el comercio internacional se verá motivado por diferencias en la abundancia de facto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puestos del mod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elo 2x2x2 (2 países, 2 bienes, 2 facto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I.- Modelo H-O: Form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elo 2x2x2 (2 países, 2 bienes, 2 facto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sma tecnología disponible para ambos paí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6T13:52:06Z</dcterms:created>
  <dc:creator>..</dc:creator>
  <dc:description/>
  <dc:language>en-US</dc:language>
  <cp:lastModifiedBy>Dii</cp:lastModifiedBy>
  <dcterms:modified xsi:type="dcterms:W3CDTF">2004-09-07T19:20:33Z</dcterms:modified>
  <cp:revision>76</cp:revision>
  <dc:subject/>
  <dc:title>Clase Auxiliar Nº2</dc:title>
</cp:coreProperties>
</file>