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CA19D-A42E-4832-8760-897CDBC2E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BCE80-298B-4DCA-A723-FB64F879E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D1FE3-ADD8-4D40-880C-3F432EC83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DAE38-FB86-4C5A-95DE-5A1DB9ABB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63CF-22B4-4A3B-B8AB-8AC99CC26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986A-B576-4B63-B871-29462A7A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C939-F07B-4AB4-9566-5C8D913AD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0CF9-9541-4513-ADD2-11EFA831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AAC92-9945-4A5C-9597-74948F8F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B00D-0EC6-4876-A01B-52AB9BEEE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15A7-8BBA-480A-87F7-5A6A0C68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67AA-42ED-4E11-8BF2-5AE1EF339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EE78-769C-4D54-9B2F-E61E4DED0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nomía Internacional</a:t>
            </a:r>
            <a:br>
              <a:rPr sz="4400"/>
            </a:br>
            <a:r>
              <a:rPr b="0" lang="es-ES_tradnl" sz="3600" spc="-1" strike="noStrike">
                <a:solidFill>
                  <a:srgbClr val="000000"/>
                </a:solidFill>
                <a:latin typeface="Arial"/>
              </a:rPr>
              <a:t>CLASE AUXILIAR Nº4</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MONETARIO INTERNACIONAL</a:t>
            </a:r>
            <a:endParaRPr b="0" lang="en-US" sz="3200" spc="-1" strike="noStrike">
              <a:solidFill>
                <a:srgbClr val="000000"/>
              </a:solidFill>
              <a:latin typeface="Arial"/>
            </a:endParaRPr>
          </a:p>
        </p:txBody>
      </p:sp>
      <p:sp>
        <p:nvSpPr>
          <p:cNvPr id="43" name=""/>
          <p:cNvSpPr/>
          <p:nvPr/>
        </p:nvSpPr>
        <p:spPr>
          <a:xfrm>
            <a:off x="6089760" y="5661000"/>
            <a:ext cx="250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NY JAIMOVICH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jaimovi@ing.uchile.c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1" name=""/>
          <p:cNvSpPr/>
          <p:nvPr/>
        </p:nvSpPr>
        <p:spPr>
          <a:xfrm>
            <a:off x="755640" y="1341360"/>
            <a:ext cx="7777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crea el FMI y el WB, además de un acuerdo para una Unión de Comercio Mundial, que dio paso al GATT (antecesor de la OM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abor inicial del FMI era ayudar a financiar descalces que pusieran el peligro el TCF.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ermitían devaluaciones controladas, y se comienzan a observar las primeras crisis de balanza de pag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3"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crisis de balanza de pago comienzan a debilitar el sistema, el que termina por ceder con la guerra de Vietnam (Caso BundesBan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cae en 1973, y comienza la era de diferentes tipos de cambio: Fijo, flexible, reptan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5" name=""/>
          <p:cNvSpPr/>
          <p:nvPr/>
        </p:nvSpPr>
        <p:spPr>
          <a:xfrm>
            <a:off x="755640" y="1341360"/>
            <a:ext cx="777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ualmente conviven diferentes políticas monetarias a nivel mundial. Si bien la experiencia de la fijación del tipo de cambio (“caja de convertibilidad”), apoyada por el FMI, no dio resultados positivos, hay países que han logrado éxitos por esa vía, como Ch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tros países han decidido adoptar una moneda común (y por tanto políticas monetarias comunes), y otros han debido adoptar a la “fuerza” monedas extranjeras (dolarización en Ecu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Chile se tiene un sistema de tipo de cambio flexible, con algunas intervenciones discrecionales del B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ancla nominal” son las metas de inflación, y la oferta de dinero es exógena, necesaria para cubrir la demand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sto, se requiere gran confianza en la autoridad moneta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9" name=""/>
          <p:cNvSpPr/>
          <p:nvPr/>
        </p:nvSpPr>
        <p:spPr>
          <a:xfrm>
            <a:off x="755640" y="134136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1" name=""/>
          <p:cNvSpPr/>
          <p:nvPr/>
        </p:nvSpPr>
        <p:spPr>
          <a:xfrm>
            <a:off x="755640" y="1341360"/>
            <a:ext cx="7777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inflación internacional: PP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tasa de interés internacional: PT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bilidad de precios para el intercamb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neda depreciada: estimula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3"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olapsa el tipo de cambio fij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ierde el “barómetro” de la economí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variables reales siguen funcionan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ado que no hay ajustes vía tipo de cambio, el ajuste es vía variables reales: salarios. Si hay rigideces laborales, desemple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ay ataques especulativos, que hacen que la devaluación sea una “profesía autocumpl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5"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ntes de los 70’s, lo más importante era la balanza comecial, sin embargo se vuelve importante la cuanta de capitales, y por tanto el equilibrio importante es el de Balanza de Pag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P = CC + C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 la existencia de movilidad de capitales y tipos de cambio flexibles se producen ataques especulativos debidos a los “capitales golondrina” o “maripo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speculaciones se deben entender en el contexto de la PTI: las ganancias de los inversionistas internacionales se producen tanto por los diferenciales de tasa de interés como por riesgo cambiari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moneda local se está apreciando, y las expectativas son que eso siga así, el inversionista gana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9"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LA CLASE DE HOY</a:t>
            </a:r>
            <a:endParaRPr b="0" lang="en-US" sz="2000" spc="-1" strike="noStrike">
              <a:solidFill>
                <a:srgbClr val="000000"/>
              </a:solidFill>
              <a:latin typeface="Arial"/>
            </a:endParaRPr>
          </a:p>
        </p:txBody>
      </p:sp>
      <p:sp>
        <p:nvSpPr>
          <p:cNvPr id="45" name=""/>
          <p:cNvSpPr/>
          <p:nvPr/>
        </p:nvSpPr>
        <p:spPr>
          <a:xfrm>
            <a:off x="755640" y="1700280"/>
            <a:ext cx="7777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reve historia de del sistema monetar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en la actual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vilidad de capitales (aplicación): Efecto de los capitales golondr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rquitectura financi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1"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3" name=""/>
          <p:cNvSpPr/>
          <p:nvPr/>
        </p:nvSpPr>
        <p:spPr>
          <a:xfrm>
            <a:off x="755640" y="1341360"/>
            <a:ext cx="7777080" cy="48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levarse su dinero, el inversionista cambia los pesos por dólares, obteniendo US$24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5"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al ganancia fue de 140%!!!!!!!!!!</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dos esos niveles de ganancia, muchos inversionistas traerán sus capitales a ese país, con lo que efectivamente se cumplirá la tendencia de apreciación de la moneda.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ste ciclo no es es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7"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moneda constantemente apreciándose, la economía se vuelve poco competitiva, y hay gasto masivo en bienes extranjero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países fijan el tipo de cambio en ese punto (Yu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sto sigue, hay inestabilidad de la balanza de pagos, por lo que la tendencia del TC se debe rever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9" name=""/>
          <p:cNvSpPr/>
          <p:nvPr/>
        </p:nvSpPr>
        <p:spPr>
          <a:xfrm>
            <a:off x="755640" y="1341360"/>
            <a:ext cx="7777080" cy="432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 esa posibilidad, los inversionistas se asustan, ya que si las expectativas sin de apreciación, el ciclo anterior de ganancias, se vuelve en pérdid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mismos US$100 Y 20% interés, pero depreciación del 100%, la inversión terminará $12.000/200 = US$60!!!!, hay pérdidas del 40%.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todos los inversionistas van a huir de esa economía, y la profecía de depreciación se autocumpli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1"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ijo, el sistema colapsa cuando se acaban las reserv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lexible, la depreciación impone fuertes alzas de la inflación y de la tasa de interé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3" name=""/>
          <p:cNvSpPr/>
          <p:nvPr/>
        </p:nvSpPr>
        <p:spPr>
          <a:xfrm>
            <a:off x="755640" y="1341360"/>
            <a:ext cx="777708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ste motivo,  los países buscan cubrirse de los capitales golondrina y estimular sólo la I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aso de Chile en los 90 fue muy exitoso, imponiendo encajes a la entrada de capital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los TLC han puesto trabas para que ese mecanismo pueda volver a operar (no tan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V.- ARQUITECTURA FINANCIERA INTERNACIONAL</a:t>
            </a:r>
            <a:endParaRPr b="0" lang="en-US" sz="2000" spc="-1" strike="noStrike">
              <a:solidFill>
                <a:srgbClr val="000000"/>
              </a:solidFill>
              <a:latin typeface="Arial"/>
            </a:endParaRPr>
          </a:p>
        </p:txBody>
      </p:sp>
      <p:sp>
        <p:nvSpPr>
          <p:cNvPr id="95" name=""/>
          <p:cNvSpPr/>
          <p:nvPr/>
        </p:nvSpPr>
        <p:spPr>
          <a:xfrm>
            <a:off x="755640" y="1341360"/>
            <a:ext cx="777708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SIÓN: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ASI) TODOS QUIEREN CAMBIAR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7"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IS: “LAS RIQUEZAS DEL MUNDO SON ESCASAS, POR LO QUE HAY QUE APODERARSE DE ELL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riquezas eran el oro, la plata y las joy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método de adquirir las riquezas es mediante balanzas comerciales positiv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9" name=""/>
          <p:cNvSpPr/>
          <p:nvPr/>
        </p:nvSpPr>
        <p:spPr>
          <a:xfrm>
            <a:off x="755640" y="1341360"/>
            <a:ext cx="7777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tipos de mercantilismo: El español y el anglo-francé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uáles son los problemas de este sistem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1" name=""/>
          <p:cNvSpPr/>
          <p:nvPr/>
        </p:nvSpPr>
        <p:spPr>
          <a:xfrm>
            <a:off x="755640" y="1341360"/>
            <a:ext cx="7777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imulaba 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po de cambio” constantemente aprecia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eficiencias en la asignación de recurs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del bienestar general (salvo de la cor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3" name=""/>
          <p:cNvSpPr/>
          <p:nvPr/>
        </p:nvSpPr>
        <p:spPr>
          <a:xfrm>
            <a:off x="755640" y="1341360"/>
            <a:ext cx="77770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instaura en UK, dando inicio al dinero fiduciari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se basa en el uso de billetes que pueden convertir su valor en oro en cualquier momen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actica, implica tener un tipo de cambio fijo, en que las balanzas comerciales de todos los países estaban equilibrada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5" name=""/>
          <p:cNvSpPr/>
          <p:nvPr/>
        </p:nvSpPr>
        <p:spPr>
          <a:xfrm>
            <a:off x="755640" y="1341360"/>
            <a:ext cx="7777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1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isis especulativ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stemas poco creíbles (Joh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7"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 ENTRE GUERR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urante la I GM se abandona el patrón oro, para financiar el gasto milit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ués de la guerra, algunos países vuelven al patrón, pero después de la gran depresión, casi todos buscan devaluar para “exportar desemple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atrón oro fue una de las causas de la transmisión de la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9"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uerdo monetario internacional de los países ganadores de la II GM (1944).</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áctica se fija el “patrón dólar”, todos los países del mundo debían fijar su tipo de cambio al dólar, y USA fijaba el dólar al or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se podía cambiar dólares por oro en cualquier mom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2:59:44Z</dcterms:created>
  <dc:creator>..</dc:creator>
  <dc:description/>
  <dc:language>en-US</dc:language>
  <cp:lastModifiedBy>..</cp:lastModifiedBy>
  <dcterms:modified xsi:type="dcterms:W3CDTF">2004-10-25T15:46:31Z</dcterms:modified>
  <cp:revision>52</cp:revision>
  <dc:subject/>
  <dc:title>Economía Internacional CLASE AUXILIAR Nº5</dc:title>
</cp:coreProperties>
</file>