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5F3280-B0AD-4072-9D21-2E197B2775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2AAB6A-43F2-42CA-8459-F7DCBDC12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85952-A3FD-4D82-97EA-8D6F8E093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56390C-CF6B-4EB9-96B4-50778B033C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982CA-3315-4864-87D9-BED136E7C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35984-C079-4F9B-8F04-CD873DC88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F73C5-B7D6-430E-B665-597DBC077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E976C-CA66-4D18-B8C0-AF01BEA8BB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8BFA6A-E784-4468-82CD-C760171C33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0699EC-1E84-4420-990A-E49D6B7B64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3C33E-4E0C-4B31-BA48-FA0A247B41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CC5CD-4A22-4FC7-967E-AFDDEFE6DD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46A01-A0B8-47E8-948A-DC36D8A91E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90792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Economía Internacional</a:t>
            </a:r>
            <a:br>
              <a:rPr sz="4400"/>
            </a:br>
            <a:r>
              <a:rPr b="0" lang="es-ES_tradnl" sz="3600" spc="-1" strike="noStrike">
                <a:solidFill>
                  <a:srgbClr val="000000"/>
                </a:solidFill>
                <a:latin typeface="Arial"/>
              </a:rPr>
              <a:t>CLASE AUXILIAR Nº4</a:t>
            </a:r>
            <a:endParaRPr b="0" lang="en-US" sz="36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STEMA MONETARIO INTERNACIONAL</a:t>
            </a:r>
            <a:endParaRPr b="0" lang="en-US" sz="3200" spc="-1" strike="noStrike">
              <a:solidFill>
                <a:srgbClr val="000000"/>
              </a:solidFill>
              <a:latin typeface="Arial"/>
            </a:endParaRPr>
          </a:p>
        </p:txBody>
      </p:sp>
      <p:sp>
        <p:nvSpPr>
          <p:cNvPr id="43" name=""/>
          <p:cNvSpPr/>
          <p:nvPr/>
        </p:nvSpPr>
        <p:spPr>
          <a:xfrm>
            <a:off x="6089760" y="5661000"/>
            <a:ext cx="2501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ANY JAIMOVICH B.</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djaimovi@ing.uchile.cl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61" name=""/>
          <p:cNvSpPr/>
          <p:nvPr/>
        </p:nvSpPr>
        <p:spPr>
          <a:xfrm>
            <a:off x="755640" y="1341360"/>
            <a:ext cx="777708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crea el FMI y el WB, además de un acuerdo para una Unión de Comercio Mundial, que dio paso al GATT (antecesor de la OMC).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 labor inicial del FMI era ayudar a financiar descalces que pusieran el peligro el TCF.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ermitían devaluaciones controladas, y se comienzan a observar las primeras crisis de balanza de pago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63" name=""/>
          <p:cNvSpPr/>
          <p:nvPr/>
        </p:nvSpPr>
        <p:spPr>
          <a:xfrm>
            <a:off x="755640" y="1341360"/>
            <a:ext cx="7777080" cy="3225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crisis de balanza de pago comienzan a debilitar el sistema, el que termina por ceder con la guerra de Vietnam (Caso BundesBan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cae en 1973, y comienza la era de diferentes tipos de cambio: Fijo, flexible, reptante, etc…</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5" name=""/>
          <p:cNvSpPr/>
          <p:nvPr/>
        </p:nvSpPr>
        <p:spPr>
          <a:xfrm>
            <a:off x="755640" y="1341360"/>
            <a:ext cx="777708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tualmente conviven diferentes políticas monetarias a nivel mundial. Si bien la experiencia de la fijación del tipo de cambio (“caja de convertibilidad”), apoyada por el FMI, no dio resultados positivos, hay países que han logrado éxitos por esa vía, como Chi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Otros países han decidido adoptar una moneda común (y por tanto políticas monetarias comunes), y otros han debido adoptar a la “fuerza” monedas extranjeras (dolarización en Ecuado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7" name=""/>
          <p:cNvSpPr/>
          <p:nvPr/>
        </p:nvSpPr>
        <p:spPr>
          <a:xfrm>
            <a:off x="755640" y="1341360"/>
            <a:ext cx="77770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Chile se tiene un sistema de tipo de cambio flexible, con algunas intervenciones discrecionales del BC.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ancla nominal” son las metas de inflación, y la oferta de dinero es exógena, necesaria para cubrir la demanda.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ara esto, se requiere gran confianza en la autoridad monetari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69" name=""/>
          <p:cNvSpPr/>
          <p:nvPr/>
        </p:nvSpPr>
        <p:spPr>
          <a:xfrm>
            <a:off x="755640" y="1341360"/>
            <a:ext cx="777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qué algunas economía prefieren el tipo de cambio fi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71" name=""/>
          <p:cNvSpPr/>
          <p:nvPr/>
        </p:nvSpPr>
        <p:spPr>
          <a:xfrm>
            <a:off x="755640" y="1341360"/>
            <a:ext cx="7777080" cy="3416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algunas economía prefieren el tipo de cambio fij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vergencia a la inflación internacional: PPP</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vergencia a la tasa de interés internacional: PTI</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abilidad de precios para el intercambio internacion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neda depreciada: estimula X</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 SISTEMA MONETARIO EN LA ACTUALIDAD</a:t>
            </a:r>
            <a:endParaRPr b="0" lang="en-US" sz="2000" spc="-1" strike="noStrike">
              <a:solidFill>
                <a:srgbClr val="000000"/>
              </a:solidFill>
              <a:latin typeface="Arial"/>
            </a:endParaRPr>
          </a:p>
        </p:txBody>
      </p:sp>
      <p:sp>
        <p:nvSpPr>
          <p:cNvPr id="73" name=""/>
          <p:cNvSpPr/>
          <p:nvPr/>
        </p:nvSpPr>
        <p:spPr>
          <a:xfrm>
            <a:off x="755640" y="1341360"/>
            <a:ext cx="77770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colapsa el tipo de cambio fij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pierde el “barómetro” de la economí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variables reales siguen funcionand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ado que no hay ajustes vía tipo de cambio, el ajuste es vía variables reales: salarios. Si hay rigideces laborales, desemple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ay ataques especulativos, que hacen que la devaluación sea una “profesía autocumpli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5"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ntes de los 70’s, lo más importante era la balanza comecial, sin embargo se vuelve importante la cuanta de capitales, y por tanto el equilibrio importante es el de Balanza de Pago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P = CC + CK</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on la existencia de movilidad de capitales y tipos de cambio flexibles se producen ataques especulativos debidos a los “capitales golondrina” o “maripos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7" name=""/>
          <p:cNvSpPr/>
          <p:nvPr/>
        </p:nvSpPr>
        <p:spPr>
          <a:xfrm>
            <a:off x="755640" y="1341360"/>
            <a:ext cx="777708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especulaciones se deben entender en el contexto de la PTI: las ganancias de los inversionistas internacionales se producen tanto por los diferenciales de tasa de interés como por riesgo cambiari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moneda local se está apreciando, y las expectativas son que eso siga así, el inversionista ganar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79" name=""/>
          <p:cNvSpPr/>
          <p:nvPr/>
        </p:nvSpPr>
        <p:spPr>
          <a:xfrm>
            <a:off x="755640" y="1341360"/>
            <a:ext cx="7777080" cy="230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LA CLASE DE HOY</a:t>
            </a:r>
            <a:endParaRPr b="0" lang="en-US" sz="2000" spc="-1" strike="noStrike">
              <a:solidFill>
                <a:srgbClr val="000000"/>
              </a:solidFill>
              <a:latin typeface="Arial"/>
            </a:endParaRPr>
          </a:p>
        </p:txBody>
      </p:sp>
      <p:sp>
        <p:nvSpPr>
          <p:cNvPr id="45" name=""/>
          <p:cNvSpPr/>
          <p:nvPr/>
        </p:nvSpPr>
        <p:spPr>
          <a:xfrm>
            <a:off x="755640" y="1700280"/>
            <a:ext cx="7777080" cy="24940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reve historia de del sistema monetario internacional</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monetario en la actualidad</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Movilidad de capitales (aplicación): Efecto de los capitales golondrina</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rquitectura financiera internac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1"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tasa es 20%, al cabo de un tiempo el inversionista tendrá $12.000. Sin embargo, la moneda se está apreciando. Supongamos que en ese tiempo pasa a 50 $/U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3" name=""/>
          <p:cNvSpPr/>
          <p:nvPr/>
        </p:nvSpPr>
        <p:spPr>
          <a:xfrm>
            <a:off x="755640" y="1341360"/>
            <a:ext cx="7777080" cy="487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os pasos son los siguiente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uando el inversionista llega, el TC está, digamos, a 100 $/US$. Si el inversionista trae 100 dólares, los cambia y tiene $10.000, y los invierte.</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 la tasa es 20%, al cabo de un tiempo el inversionista tendrá $12.000. Sin embargo, la moneda se está apreciando. Supongamos que en ese tiempo pasa a 50 $/US$. </a:t>
            </a:r>
            <a:endParaRPr b="0" lang="en-US" sz="2400" spc="-1" strike="noStrike">
              <a:solidFill>
                <a:srgbClr val="000000"/>
              </a:solidFill>
              <a:latin typeface="Arial"/>
            </a:endParaRPr>
          </a:p>
          <a:p>
            <a:pPr marL="343080" indent="-343080">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ra llevarse su dinero, el inversionista cambia los pesos por dólares, obteniendo US$240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5" name=""/>
          <p:cNvSpPr/>
          <p:nvPr/>
        </p:nvSpPr>
        <p:spPr>
          <a:xfrm>
            <a:off x="755640" y="1341360"/>
            <a:ext cx="7777080" cy="32256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lo tanto, al ganancia fue de 140%!!!!!!!!!!</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ados esos niveles de ganancia, muchos inversionistas traerán sus capitales a ese país, con lo que efectivamente se cumplirá la tendencia de apreciación de la moneda.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n embargo, este ciclo no es establ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7" name=""/>
          <p:cNvSpPr/>
          <p:nvPr/>
        </p:nvSpPr>
        <p:spPr>
          <a:xfrm>
            <a:off x="755640" y="1341360"/>
            <a:ext cx="7777080" cy="39571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a moneda constantemente apreciándose, la economía se vuelve poco competitiva, y hay gasto masivo en bienes extranjero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lgunos países fijan el tipo de cambio en ese punto (Yuan)</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esto sigue, hay inestabilidad de la balanza de pagos, por lo que la tendencia del TC se debe revertir.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89" name=""/>
          <p:cNvSpPr/>
          <p:nvPr/>
        </p:nvSpPr>
        <p:spPr>
          <a:xfrm>
            <a:off x="755640" y="1341360"/>
            <a:ext cx="7777080" cy="43228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nte esa posibilidad, los inversionistas se asustan, ya que si las expectativas sin de apreciación, el ciclo anterior de ganancias, se vuelve en pérdida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 los mismos US$100 Y 20% interés, pero depreciación del 100%, la inversión terminará $12.000/200 = US$60!!!!, hay pérdidas del 40%.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lo tanto, todos los inversionistas van a huir de esa economía, y la profecía de depreciación se autocumplirá.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91" name=""/>
          <p:cNvSpPr/>
          <p:nvPr/>
        </p:nvSpPr>
        <p:spPr>
          <a:xfrm>
            <a:off x="755640" y="1341360"/>
            <a:ext cx="7777080" cy="2303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se producen las especulacione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ay tipo de cambio fijo, el sistema colapsa cuando se acaban las reservas.</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i hay tipo de cambio flexible, la depreciación impone fuertes alzas de la inflación y de la tasa de interé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II.- MOVIMIENTO DE CAPITALES</a:t>
            </a:r>
            <a:endParaRPr b="0" lang="en-US" sz="2000" spc="-1" strike="noStrike">
              <a:solidFill>
                <a:srgbClr val="000000"/>
              </a:solidFill>
              <a:latin typeface="Arial"/>
            </a:endParaRPr>
          </a:p>
        </p:txBody>
      </p:sp>
      <p:sp>
        <p:nvSpPr>
          <p:cNvPr id="93" name=""/>
          <p:cNvSpPr/>
          <p:nvPr/>
        </p:nvSpPr>
        <p:spPr>
          <a:xfrm>
            <a:off x="755640" y="1341360"/>
            <a:ext cx="7777080" cy="26694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este motivo,  los países buscan cubrirse de los capitales golondrina y estimular sólo la IED.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l caso de Chile en los 90 fue muy exitoso, imponiendo encajes a la entrada de capitales. </a:t>
            </a:r>
            <a:endParaRPr b="0" lang="en-US" sz="24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hora los TLC han puesto trabas para que ese mecanismo pueda volver a operar (no tanta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V.- ARQUITECTURA FINANCIERA INTERNACIONAL</a:t>
            </a:r>
            <a:endParaRPr b="0" lang="en-US" sz="2000" spc="-1" strike="noStrike">
              <a:solidFill>
                <a:srgbClr val="000000"/>
              </a:solidFill>
              <a:latin typeface="Arial"/>
            </a:endParaRPr>
          </a:p>
        </p:txBody>
      </p:sp>
      <p:sp>
        <p:nvSpPr>
          <p:cNvPr id="95" name=""/>
          <p:cNvSpPr/>
          <p:nvPr/>
        </p:nvSpPr>
        <p:spPr>
          <a:xfrm>
            <a:off x="755640" y="1341360"/>
            <a:ext cx="7777080" cy="10159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ISCUSIÓN: </a:t>
            </a:r>
            <a:endParaRPr b="0" lang="en-US" sz="2400" spc="-1" strike="noStrike">
              <a:solidFill>
                <a:srgbClr val="000000"/>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OR QUÉ (CASI) TODOS QUIEREN CAMBIAR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47" name=""/>
          <p:cNvSpPr/>
          <p:nvPr/>
        </p:nvSpPr>
        <p:spPr>
          <a:xfrm>
            <a:off x="755640" y="1341360"/>
            <a:ext cx="7777080" cy="4338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ESIS: “LAS RIQUEZAS DEL MUNDO SON ESCASAS, POR LO QUE HAY QUE APODERARSE DE ELL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Las riquezas eran el oro, la plata y las joy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método de adquirir las riquezas es mediante balanzas comerciales positiv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49" name=""/>
          <p:cNvSpPr/>
          <p:nvPr/>
        </p:nvSpPr>
        <p:spPr>
          <a:xfrm>
            <a:off x="755640" y="1341360"/>
            <a:ext cx="777708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os tipos de mercantilismo: El español y el anglo-francé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uáles son los problemas de este sistema??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1" name=""/>
          <p:cNvSpPr/>
          <p:nvPr/>
        </p:nvSpPr>
        <p:spPr>
          <a:xfrm>
            <a:off x="755640" y="1341360"/>
            <a:ext cx="777708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DAD MEDIA: MERCANTILISMO</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stimulaba hiperinf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tipo de cambio” constantemente apreciado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eficiencias en la asignación de recursos </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érdidas del bienestar general (salvo de la corte)</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3" name=""/>
          <p:cNvSpPr/>
          <p:nvPr/>
        </p:nvSpPr>
        <p:spPr>
          <a:xfrm>
            <a:off x="755640" y="1341360"/>
            <a:ext cx="7777080" cy="5450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RÓN ORO (s. XVIII – 194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e instaura en UK, dando inicio al dinero fiduciari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sistema monetario se basa en el uso de billetes que pueden convertir su valor en oro en cualquier moment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la practica, implica tener un tipo de cambio fijo, en que las balanzas comerciales de todos los países estaban equilibrada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5" name=""/>
          <p:cNvSpPr/>
          <p:nvPr/>
        </p:nvSpPr>
        <p:spPr>
          <a:xfrm>
            <a:off x="755640" y="1341360"/>
            <a:ext cx="7777080" cy="3240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ATRÓN ORO (s. XVIII – 191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roblem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Hiperinflacione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Crisis especulativas</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Sistemas poco creíbles (John Law)</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7" name=""/>
          <p:cNvSpPr/>
          <p:nvPr/>
        </p:nvSpPr>
        <p:spPr>
          <a:xfrm>
            <a:off x="755640" y="1341360"/>
            <a:ext cx="7777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PERÍODO ENTRE GUERR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urante la I GM se abandona el patrón oro, para financiar el gasto militar.</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spués de la guerra, algunos países vuelven al patrón, pero después de la gran depresión, casi todos buscan devaluar para “exportar desemple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l patrón oro fue una de las causas de la transmisión de la crisi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4360" y="549360"/>
            <a:ext cx="7772400" cy="43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ff"/>
                </a:solidFill>
                <a:latin typeface="Arial"/>
              </a:rPr>
              <a:t>I.- BREVE HISTORIA DEL SMI</a:t>
            </a:r>
            <a:endParaRPr b="0" lang="en-US" sz="2000" spc="-1" strike="noStrike">
              <a:solidFill>
                <a:srgbClr val="000000"/>
              </a:solidFill>
              <a:latin typeface="Arial"/>
            </a:endParaRPr>
          </a:p>
        </p:txBody>
      </p:sp>
      <p:sp>
        <p:nvSpPr>
          <p:cNvPr id="59" name=""/>
          <p:cNvSpPr/>
          <p:nvPr/>
        </p:nvSpPr>
        <p:spPr>
          <a:xfrm>
            <a:off x="755640" y="1341360"/>
            <a:ext cx="777708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MI POST-GUERRA: BRETTON-WOOD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uerdo monetario internacional de los países ganadores de la II GM (1944).</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En la práctica se fija el “patrón dólar”, todos los países del mundo debían fijar su tipo de cambio al dólar, y USA fijaba el dólar al oro.</a:t>
            </a:r>
            <a:endParaRPr b="0" lang="en-US" sz="2400" spc="-1" strike="noStrike">
              <a:solidFill>
                <a:srgbClr val="000000"/>
              </a:solidFill>
              <a:latin typeface="Arial"/>
            </a:endParaRPr>
          </a:p>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Por lo tanto, se podía cambiar dólares por oro en cualquier momento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25T12:59:44Z</dcterms:created>
  <dc:creator>..</dc:creator>
  <dc:description/>
  <dc:language>en-US</dc:language>
  <cp:lastModifiedBy>..</cp:lastModifiedBy>
  <dcterms:modified xsi:type="dcterms:W3CDTF">2004-10-25T15:46:31Z</dcterms:modified>
  <cp:revision>52</cp:revision>
  <dc:subject/>
  <dc:title>Economía Internacional CLASE AUXILIAR Nº5</dc:title>
</cp:coreProperties>
</file>