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08C09-0F18-4A26-8975-280ABD34C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298EF-1F1A-42B0-8162-8DA792C06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7F34C-78CE-4DDA-BF7D-FDA5886BC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1249A-89D6-4A22-B255-BA9011D21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BB170-D485-4AF7-B3FB-96FFBBCA9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1B0D0-6369-4E89-9CE7-AFD20DC00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CB707-C83A-4F84-AAC1-9EC860A05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B7249-C9D3-431F-BCE2-97577BC70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CF0F6-EAE6-4FEB-A67F-7E8A2361E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167B1-B5E9-4BEB-97BD-BDD2CEE55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593FC-7FDD-4768-8388-DFE73D3B6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311EC-33B3-4AF1-92DA-22B911957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3F1D-84CF-4D6D-8CF0-A268082256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lase Auxiliar Nº3</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2924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ópicos de Economía Mundia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3061080" y="5300640"/>
            <a:ext cx="2517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NY JAIMOVICH B.</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8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8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89"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93"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94" name=""/>
          <p:cNvSpPr/>
          <p:nvPr/>
        </p:nvSpPr>
        <p:spPr>
          <a:xfrm>
            <a:off x="1403280" y="3789360"/>
            <a:ext cx="151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916360" y="3789360"/>
            <a:ext cx="0" cy="216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26920" y="3645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n</a:t>
            </a:r>
            <a:endParaRPr b="0" lang="en-US" sz="1800" spc="-1" strike="noStrike">
              <a:solidFill>
                <a:srgbClr val="000000"/>
              </a:solidFill>
              <a:latin typeface="Arial"/>
            </a:endParaRPr>
          </a:p>
        </p:txBody>
      </p:sp>
      <p:sp>
        <p:nvSpPr>
          <p:cNvPr id="97" name=""/>
          <p:cNvSpPr/>
          <p:nvPr/>
        </p:nvSpPr>
        <p:spPr>
          <a:xfrm>
            <a:off x="262728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n</a:t>
            </a:r>
            <a:endParaRPr b="0" lang="en-US" sz="1800" spc="-1" strike="noStrike">
              <a:solidFill>
                <a:srgbClr val="000000"/>
              </a:solidFill>
              <a:latin typeface="Arial"/>
            </a:endParaRPr>
          </a:p>
        </p:txBody>
      </p:sp>
      <p:sp>
        <p:nvSpPr>
          <p:cNvPr id="98" name=""/>
          <p:cNvSpPr/>
          <p:nvPr/>
        </p:nvSpPr>
        <p:spPr>
          <a:xfrm>
            <a:off x="2916360" y="3789360"/>
            <a:ext cx="0" cy="50328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0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 mismo ocurrirá para todas las unidades consumidas menores que Q*, por lo ta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03"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07"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08"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12"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13" name=""/>
          <p:cNvSpPr/>
          <p:nvPr/>
        </p:nvSpPr>
        <p:spPr>
          <a:xfrm>
            <a:off x="2916360" y="3789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19280" y="299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35280" y="3141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050920" y="3284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268360" y="3429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484360" y="3500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700360" y="3645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132000" y="3860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348000" y="407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2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2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29"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33"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34" name=""/>
          <p:cNvSpPr/>
          <p:nvPr/>
        </p:nvSpPr>
        <p:spPr>
          <a:xfrm>
            <a:off x="2916360" y="3789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619280" y="299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835280" y="3141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050920" y="3284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268360" y="3429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84360" y="3500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700360" y="3645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132000" y="3860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3348000" y="407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03280" y="2852640"/>
            <a:ext cx="2376720" cy="1440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2050920" y="3141360"/>
            <a:ext cx="2592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719240" y="2924280"/>
            <a:ext cx="373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CEDENTE DEL CONSUMIDOR</a:t>
            </a:r>
            <a:endParaRPr b="0" lang="en-US" sz="1800" spc="-1" strike="noStrike">
              <a:solidFill>
                <a:srgbClr val="000000"/>
              </a:solidFill>
              <a:latin typeface="Arial"/>
            </a:endParaRPr>
          </a:p>
        </p:txBody>
      </p:sp>
      <p:sp>
        <p:nvSpPr>
          <p:cNvPr id="146"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48"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tanto, el valor del excedente del consumidor ser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 – P*) Q*</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3780000" y="422100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427640" y="429264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5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ismo tipo de análisis se puede aplicar a los productor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El precio al que venden es el costo marginal de la última unidad producida, por lo que las unidades anteriores tuvieron costos marginales menores y hay un exced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5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5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59"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63" name=""/>
          <p:cNvSpPr/>
          <p:nvPr/>
        </p:nvSpPr>
        <p:spPr>
          <a:xfrm>
            <a:off x="241128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n</a:t>
            </a:r>
            <a:endParaRPr b="0" lang="en-US" sz="1800" spc="-1" strike="noStrike">
              <a:solidFill>
                <a:srgbClr val="000000"/>
              </a:solidFill>
              <a:latin typeface="Arial"/>
            </a:endParaRPr>
          </a:p>
        </p:txBody>
      </p:sp>
      <p:sp>
        <p:nvSpPr>
          <p:cNvPr id="164" name=""/>
          <p:cNvSpPr/>
          <p:nvPr/>
        </p:nvSpPr>
        <p:spPr>
          <a:xfrm>
            <a:off x="2627280" y="4869000"/>
            <a:ext cx="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1403280" y="4869000"/>
            <a:ext cx="122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67" name=""/>
          <p:cNvSpPr/>
          <p:nvPr/>
        </p:nvSpPr>
        <p:spPr>
          <a:xfrm>
            <a:off x="900000" y="47242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n</a:t>
            </a:r>
            <a:endParaRPr b="0" lang="en-US" sz="1800" spc="-1" strike="noStrike">
              <a:solidFill>
                <a:srgbClr val="000000"/>
              </a:solidFill>
              <a:latin typeface="Arial"/>
            </a:endParaRPr>
          </a:p>
        </p:txBody>
      </p:sp>
      <p:sp>
        <p:nvSpPr>
          <p:cNvPr id="168"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70"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ductor está dispuesto a vender la unidad Qn al precio Pn, pero recibe el precio P*, por lo que recibe una utilidad de 1*(P*- Pn).</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7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tanto, el “excedente del productor” será:</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7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7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79"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83"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84" name=""/>
          <p:cNvSpPr/>
          <p:nvPr/>
        </p:nvSpPr>
        <p:spPr>
          <a:xfrm flipV="1">
            <a:off x="1403280" y="4292640"/>
            <a:ext cx="2376720" cy="122400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cc0000"/>
                </a:solidFill>
                <a:uFillTx/>
                <a:latin typeface="Arial"/>
              </a:rPr>
              <a:t>ANÁLISIS DE BIENESTAR EN EL COMERCIO INTERNACIONAL</a:t>
            </a:r>
            <a:r>
              <a:rPr b="0"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FOQUE DE EQUILIBRIO PAR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8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do que en competencia perfecta tenemos que las utilidades son nulas, podemos interpretar el excedente del productor como los ingresos que permiten pagar los costos no directos de producción (especialmente los costos fijos: arriendo, gastos generales, etc..)</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8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EQUILIBRIO DE MERCAD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E TENDRÁ: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91"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QUILIBRIO DE MERCAD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95"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96"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00"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01" name=""/>
          <p:cNvSpPr/>
          <p:nvPr/>
        </p:nvSpPr>
        <p:spPr>
          <a:xfrm flipV="1">
            <a:off x="1403280" y="4292640"/>
            <a:ext cx="2376720" cy="122400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403280" y="2852640"/>
            <a:ext cx="2376720" cy="1440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205" name=""/>
          <p:cNvSpPr/>
          <p:nvPr/>
        </p:nvSpPr>
        <p:spPr>
          <a:xfrm>
            <a:off x="5724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0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hora estudiaremos lo que ocurre cuando un mercado se abre al exterior.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pongamos que ahora el bien puede ser comprado en el exterior a un precio Pc, con   Pc &lt;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09" name="PlaceHolder 2"/>
          <p:cNvSpPr>
            <a:spLocks noGrp="1"/>
          </p:cNvSpPr>
          <p:nvPr>
            <p:ph type="subTitle"/>
          </p:nvPr>
        </p:nvSpPr>
        <p:spPr>
          <a:xfrm>
            <a:off x="755280" y="620640"/>
            <a:ext cx="7777080" cy="5616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pertura Comercial</a:t>
            </a:r>
            <a:endParaRPr b="0" lang="en-US" sz="2400" spc="-1" strike="noStrike">
              <a:solidFill>
                <a:srgbClr val="000000"/>
              </a:solidFill>
              <a:latin typeface="Arial"/>
            </a:endParaRPr>
          </a:p>
        </p:txBody>
      </p:sp>
      <p:sp>
        <p:nvSpPr>
          <p:cNvPr id="210" name=""/>
          <p:cNvSpPr/>
          <p:nvPr/>
        </p:nvSpPr>
        <p:spPr>
          <a:xfrm flipV="1">
            <a:off x="1906560" y="16934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906560" y="52228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474920" y="16938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13" name=""/>
          <p:cNvSpPr/>
          <p:nvPr/>
        </p:nvSpPr>
        <p:spPr>
          <a:xfrm>
            <a:off x="6661080" y="52228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14" name=""/>
          <p:cNvSpPr/>
          <p:nvPr/>
        </p:nvSpPr>
        <p:spPr>
          <a:xfrm flipV="1">
            <a:off x="1906560" y="25574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906560" y="3565440"/>
            <a:ext cx="2376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282920" y="35654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330200" y="34225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18" name=""/>
          <p:cNvSpPr/>
          <p:nvPr/>
        </p:nvSpPr>
        <p:spPr>
          <a:xfrm>
            <a:off x="4067280" y="529416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19" name=""/>
          <p:cNvSpPr/>
          <p:nvPr/>
        </p:nvSpPr>
        <p:spPr>
          <a:xfrm>
            <a:off x="1906560" y="2125800"/>
            <a:ext cx="424800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27640" y="23414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221" name=""/>
          <p:cNvSpPr/>
          <p:nvPr/>
        </p:nvSpPr>
        <p:spPr>
          <a:xfrm>
            <a:off x="6227640" y="45734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222" name=""/>
          <p:cNvSpPr/>
          <p:nvPr/>
        </p:nvSpPr>
        <p:spPr>
          <a:xfrm>
            <a:off x="1906560" y="414972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330200" y="4005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224" name=""/>
          <p:cNvSpPr/>
          <p:nvPr/>
        </p:nvSpPr>
        <p:spPr>
          <a:xfrm>
            <a:off x="3132000" y="4149720"/>
            <a:ext cx="0" cy="1079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219640" y="4149720"/>
            <a:ext cx="0" cy="1079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700360" y="5229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227" name=""/>
          <p:cNvSpPr/>
          <p:nvPr/>
        </p:nvSpPr>
        <p:spPr>
          <a:xfrm>
            <a:off x="4859280" y="5229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228" name=""/>
          <p:cNvSpPr/>
          <p:nvPr/>
        </p:nvSpPr>
        <p:spPr>
          <a:xfrm flipH="1" rot="5400000">
            <a:off x="3922920" y="4725000"/>
            <a:ext cx="431640" cy="2160360"/>
          </a:xfrm>
          <a:custGeom>
            <a:avLst/>
            <a:gdLst>
              <a:gd name="textAreaLeft" fmla="*/ 275400 w 431640"/>
              <a:gd name="textAreaRight" fmla="*/ 431640 w 431640"/>
              <a:gd name="textAreaTop" fmla="*/ 148680 h 2160360"/>
              <a:gd name="textAreaBottom" fmla="*/ 2011680 h 2160360"/>
            </a:gdLst>
            <a:ahLst/>
            <a:rect l="textAreaLeft" t="textAreaTop" r="textAreaRight" b="textAreaBottom"/>
            <a:pathLst>
              <a:path w="21600" h="21600">
                <a:moveTo>
                  <a:pt x="21600" y="0"/>
                </a:moveTo>
                <a:cubicBezTo>
                  <a:pt x="16200" y="0"/>
                  <a:pt x="10800" y="2378"/>
                  <a:pt x="10800" y="4755"/>
                </a:cubicBezTo>
                <a:lnTo>
                  <a:pt x="10800" y="4799"/>
                </a:lnTo>
                <a:cubicBezTo>
                  <a:pt x="10800" y="7177"/>
                  <a:pt x="5400" y="9554"/>
                  <a:pt x="0" y="9554"/>
                </a:cubicBezTo>
                <a:cubicBezTo>
                  <a:pt x="5400" y="9554"/>
                  <a:pt x="10800" y="11932"/>
                  <a:pt x="10800" y="14309"/>
                </a:cubicBezTo>
                <a:lnTo>
                  <a:pt x="10800" y="16845"/>
                </a:lnTo>
                <a:cubicBezTo>
                  <a:pt x="10800" y="19223"/>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348000" y="609300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3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do que el precio internacional es menor, la oferta nacional se reducirá (hasta OFFc) y la cantidad demandada nacional aumentará (hasta DDAc), por lo que la diferencia será importada.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o……. ¿Qué ocurre con el bienest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33"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l lado de la ofer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utarquía se tiene:</a:t>
            </a:r>
            <a:endParaRPr b="0" lang="en-US" sz="2800" spc="-1" strike="noStrike">
              <a:solidFill>
                <a:srgbClr val="000000"/>
              </a:solidFill>
              <a:latin typeface="Arial"/>
            </a:endParaRPr>
          </a:p>
        </p:txBody>
      </p:sp>
      <p:sp>
        <p:nvSpPr>
          <p:cNvPr id="236"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39"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40"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44"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45" name=""/>
          <p:cNvSpPr/>
          <p:nvPr/>
        </p:nvSpPr>
        <p:spPr>
          <a:xfrm flipV="1">
            <a:off x="1403280" y="4292640"/>
            <a:ext cx="2376720" cy="122400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con la apertura del comercio:</a:t>
            </a:r>
            <a:endParaRPr b="0" lang="en-US" sz="2800" spc="-1" strike="noStrike">
              <a:solidFill>
                <a:srgbClr val="000000"/>
              </a:solidFill>
              <a:latin typeface="Arial"/>
            </a:endParaRPr>
          </a:p>
        </p:txBody>
      </p:sp>
      <p:sp>
        <p:nvSpPr>
          <p:cNvPr id="249"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52"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53"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57"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58" name=""/>
          <p:cNvSpPr/>
          <p:nvPr/>
        </p:nvSpPr>
        <p:spPr>
          <a:xfrm flipV="1">
            <a:off x="1403280" y="4797360"/>
            <a:ext cx="1440000" cy="71928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260" name=""/>
          <p:cNvSpPr/>
          <p:nvPr/>
        </p:nvSpPr>
        <p:spPr>
          <a:xfrm>
            <a:off x="1403280" y="479736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26920" y="458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63"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tanto, el comercio implicará una reducción del excedente del productor, y por ende de su bienest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CONOMÍA SE UTILIZAN DIFERENTES MEDIDAS DEL BIENESTAR, RELACIONADAS CON LA TEORIA MICROECONÓMIC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MÁS UTILIZADAS SON LAS DEL “EXCEDENTE DEL CONSUMIDOR” Y “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65"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tanto, el comercio implicará una reducción del excedente del productor, y por ende de su bienestar.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QUE OCURRIRÁ CON EL CONSUMI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utarquía se tiene:</a:t>
            </a:r>
            <a:endParaRPr b="0" lang="en-US" sz="2800" spc="-1" strike="noStrike">
              <a:solidFill>
                <a:srgbClr val="000000"/>
              </a:solidFill>
              <a:latin typeface="Arial"/>
            </a:endParaRPr>
          </a:p>
        </p:txBody>
      </p:sp>
      <p:sp>
        <p:nvSpPr>
          <p:cNvPr id="268"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71"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72"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75"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76" name=""/>
          <p:cNvSpPr/>
          <p:nvPr/>
        </p:nvSpPr>
        <p:spPr>
          <a:xfrm>
            <a:off x="1403280" y="2852640"/>
            <a:ext cx="2376720" cy="1440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24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con la apertura del comerci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84"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85"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88"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89" name=""/>
          <p:cNvSpPr/>
          <p:nvPr/>
        </p:nvSpPr>
        <p:spPr>
          <a:xfrm>
            <a:off x="1403280" y="2852640"/>
            <a:ext cx="3168720" cy="194472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724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292" name=""/>
          <p:cNvSpPr/>
          <p:nvPr/>
        </p:nvSpPr>
        <p:spPr>
          <a:xfrm>
            <a:off x="1403280" y="479736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826920" y="458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294" name=""/>
          <p:cNvSpPr/>
          <p:nvPr/>
        </p:nvSpPr>
        <p:spPr>
          <a:xfrm>
            <a:off x="1403280" y="4292640"/>
            <a:ext cx="230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9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tanto, el comercio implicará un aumento de el excedente del consumidor, y por tanto de su bienestar.</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aumento es superior a la pérdida de los productores, por lo que el comercio internacional es beneficioso.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99" name="PlaceHolder 2"/>
          <p:cNvSpPr>
            <a:spLocks noGrp="1"/>
          </p:cNvSpPr>
          <p:nvPr>
            <p:ph type="subTitle"/>
          </p:nvPr>
        </p:nvSpPr>
        <p:spPr>
          <a:xfrm>
            <a:off x="755280" y="620640"/>
            <a:ext cx="7777080" cy="5616720"/>
          </a:xfrm>
          <a:prstGeom prst="rect">
            <a:avLst/>
          </a:prstGeom>
          <a:noFill/>
          <a:ln w="0">
            <a:noFill/>
          </a:ln>
        </p:spPr>
        <p:txBody>
          <a:bodyPr lIns="90000" rIns="90000" tIns="46800" bIns="46800" anchor="t">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beneficios del comercio internacional serán:</a:t>
            </a:r>
            <a:endParaRPr b="0" lang="en-US" sz="2600" spc="-1" strike="noStrike">
              <a:solidFill>
                <a:srgbClr val="000000"/>
              </a:solidFill>
              <a:latin typeface="Arial"/>
            </a:endParaRPr>
          </a:p>
        </p:txBody>
      </p:sp>
      <p:sp>
        <p:nvSpPr>
          <p:cNvPr id="300" name=""/>
          <p:cNvSpPr/>
          <p:nvPr/>
        </p:nvSpPr>
        <p:spPr>
          <a:xfrm flipV="1">
            <a:off x="1763640" y="198252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763640" y="551196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332000" y="198288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03" name=""/>
          <p:cNvSpPr/>
          <p:nvPr/>
        </p:nvSpPr>
        <p:spPr>
          <a:xfrm>
            <a:off x="6518160" y="55119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04" name=""/>
          <p:cNvSpPr/>
          <p:nvPr/>
        </p:nvSpPr>
        <p:spPr>
          <a:xfrm flipV="1">
            <a:off x="1763640" y="284652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763640" y="385452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140360" y="385452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187280" y="37116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08" name=""/>
          <p:cNvSpPr/>
          <p:nvPr/>
        </p:nvSpPr>
        <p:spPr>
          <a:xfrm>
            <a:off x="3924360" y="55832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09" name=""/>
          <p:cNvSpPr/>
          <p:nvPr/>
        </p:nvSpPr>
        <p:spPr>
          <a:xfrm>
            <a:off x="1763640" y="241452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84720" y="26305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11" name=""/>
          <p:cNvSpPr/>
          <p:nvPr/>
        </p:nvSpPr>
        <p:spPr>
          <a:xfrm>
            <a:off x="6084720" y="4862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12" name=""/>
          <p:cNvSpPr/>
          <p:nvPr/>
        </p:nvSpPr>
        <p:spPr>
          <a:xfrm>
            <a:off x="1763640" y="443700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18728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14" name=""/>
          <p:cNvSpPr/>
          <p:nvPr/>
        </p:nvSpPr>
        <p:spPr>
          <a:xfrm>
            <a:off x="2989440" y="4438800"/>
            <a:ext cx="0" cy="10792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076720" y="4438800"/>
            <a:ext cx="0" cy="10792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557440" y="55180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17" name=""/>
          <p:cNvSpPr/>
          <p:nvPr/>
        </p:nvSpPr>
        <p:spPr>
          <a:xfrm>
            <a:off x="4716360" y="551808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318" name=""/>
          <p:cNvSpPr/>
          <p:nvPr/>
        </p:nvSpPr>
        <p:spPr>
          <a:xfrm>
            <a:off x="3059280" y="3860640"/>
            <a:ext cx="2017440" cy="5763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V="1">
            <a:off x="4284720" y="3716280"/>
            <a:ext cx="208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443640" y="3141720"/>
            <a:ext cx="270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6372360" y="3500280"/>
            <a:ext cx="230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S DEL COMERC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323"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1: Volvemos a la misma conclusión de la clase auxiliar anterior:</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a:t>
            </a:r>
            <a:r>
              <a:rPr b="0" lang="es-ES_tradnl" sz="3200" spc="-1" strike="noStrike">
                <a:solidFill>
                  <a:srgbClr val="ff0000"/>
                </a:solidFill>
                <a:latin typeface="Arial"/>
              </a:rPr>
              <a:t>El comercio internacional es beneficioso para la sociedad en general, pero hay sectores que pierden, y por lo tanto pueden ser compensados”</a:t>
            </a:r>
            <a:r>
              <a:rPr b="0" lang="es-ES_tradnl" sz="3200" spc="-1" strike="noStrike">
                <a:solidFill>
                  <a:srgbClr val="000000"/>
                </a:solidFill>
                <a:latin typeface="Arial"/>
              </a:rPr>
              <a:t>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325"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Qué pasaría si Pc &gt; P*???</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32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Qué pasaría si Pc &gt; P*???</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aís exportaría el bien en vez de importarl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ste caso, es importante saber si el país es “grande o chico”, en el sentido de si afecta o no a los precios internacional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2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hora estudiaremos lo que ocurre con el bienestar si, una vez realizada la apertura comercial, se aplican aranceles al bien importad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3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ituación con apertura era la siguient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
          <p:cNvSpPr/>
          <p:nvPr/>
        </p:nvSpPr>
        <p:spPr>
          <a:xfrm flipV="1">
            <a:off x="1908000" y="234108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908000" y="587052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476360" y="234144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35" name=""/>
          <p:cNvSpPr/>
          <p:nvPr/>
        </p:nvSpPr>
        <p:spPr>
          <a:xfrm>
            <a:off x="6662880" y="5870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36" name=""/>
          <p:cNvSpPr/>
          <p:nvPr/>
        </p:nvSpPr>
        <p:spPr>
          <a:xfrm flipV="1">
            <a:off x="1908000" y="320508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908000" y="27734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229440" y="29894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39" name=""/>
          <p:cNvSpPr/>
          <p:nvPr/>
        </p:nvSpPr>
        <p:spPr>
          <a:xfrm>
            <a:off x="6229440" y="522144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40" name=""/>
          <p:cNvSpPr/>
          <p:nvPr/>
        </p:nvSpPr>
        <p:spPr>
          <a:xfrm>
            <a:off x="1908000" y="501336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332000" y="4653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42" name=""/>
          <p:cNvSpPr/>
          <p:nvPr/>
        </p:nvSpPr>
        <p:spPr>
          <a:xfrm>
            <a:off x="2771640" y="501336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580000" y="501336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340000" y="5877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45" name=""/>
          <p:cNvSpPr/>
          <p:nvPr/>
        </p:nvSpPr>
        <p:spPr>
          <a:xfrm>
            <a:off x="5291280" y="5877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4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NÁLISIS SERÁ DE EQUILIBRIO PARCIAL, LO QUE SIGNIFICA QUE SE CENTRARÁ EN EL ESTUDIO DE LAS CONSECUENCIAS DE LO QUE OCURRE EN UN SOLO MERCADO, SIN VER QUÉ OCURRE EN LOS DEMÁ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4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se aplica un arancel de monto T, implica que ahora el precio pagado por el bien será    Pc + 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nueva situación ser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49"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ituación con apertura era la siguient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53"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54"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57"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58"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60"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63"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364"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366"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7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OCURRIRÁ CON EL BIENESTA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73"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CEDENTE DEL CONSUMIDO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77"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78"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81"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82"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84"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87"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388"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390"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394" name=""/>
          <p:cNvSpPr/>
          <p:nvPr/>
        </p:nvSpPr>
        <p:spPr>
          <a:xfrm>
            <a:off x="4716360" y="3933720"/>
            <a:ext cx="863640" cy="503280"/>
          </a:xfrm>
          <a:prstGeom prst="rtTriangl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908000" y="3933720"/>
            <a:ext cx="2808360" cy="503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908000" y="3933720"/>
            <a:ext cx="28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1908000" y="3933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9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Y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01"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CEDENTE DEL PRODUCTO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405"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406"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409"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410"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412"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415"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416"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418"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422" name=""/>
          <p:cNvSpPr/>
          <p:nvPr/>
        </p:nvSpPr>
        <p:spPr>
          <a:xfrm flipV="1">
            <a:off x="2771640" y="3933720"/>
            <a:ext cx="1008360" cy="50328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1908000" y="3933720"/>
            <a:ext cx="863640" cy="503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25"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27"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OBIERNO: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431"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432"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435"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436"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438"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441"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442"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444"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448" name=""/>
          <p:cNvSpPr/>
          <p:nvPr/>
        </p:nvSpPr>
        <p:spPr>
          <a:xfrm>
            <a:off x="3708360" y="3933720"/>
            <a:ext cx="1008000" cy="503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50"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 RECAUDACIÓ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RGO, SU BIENESTAR AUMENT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52"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que la pérdida de bienestar será: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456"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457"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460"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461"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463"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466"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467"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469"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473" name=""/>
          <p:cNvSpPr/>
          <p:nvPr/>
        </p:nvSpPr>
        <p:spPr>
          <a:xfrm>
            <a:off x="4716360" y="3933720"/>
            <a:ext cx="863640" cy="50328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2771640" y="3933720"/>
            <a:ext cx="935280" cy="50328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5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ide el nivel de bienestar que alcanzan los consumidores en un determinado mercado.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entra en la idea de que “el precio es la utilidad marginal de la última unidad pagada, por lo que habrá beneficio positivo por las otras unidades consumi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76"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1: ¿QUIÉN PROMOVERÁ A LOS ARANCEL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78"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1: ¿QUIÉN PROMOVERÁ A LOS ARANCELE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ductores de aquellos sectores menos productivos respecto al resto del mundo (Periodo ISI, agricultur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80"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DE QUÉ DEPENDERÁ EL IMPACTO EN EL BENEFICIO QUE PROVOQUE UN CAMBIO (APERTURA O ARANC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8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DE QUÉ DEPENDERÁ EL IMPACTO EN EL BENEFICIO QUE PROVOQUE UN CAMBIO (APERTURA O ARANCEL)?</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s elasticidades de la oferta y la demanda, por tanto. Gráficamente, de las pendient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53"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57"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58"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403280" y="4292640"/>
            <a:ext cx="237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62"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64"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los consumidores estarán dispuestos a pagar un precio mayor por cantidades menores a Q*, ya que sus utilidades marginales son may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66"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70"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71"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75"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76" name=""/>
          <p:cNvSpPr/>
          <p:nvPr/>
        </p:nvSpPr>
        <p:spPr>
          <a:xfrm>
            <a:off x="1403280" y="3789360"/>
            <a:ext cx="151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916360" y="3789360"/>
            <a:ext cx="0" cy="216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826920" y="3645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n</a:t>
            </a:r>
            <a:endParaRPr b="0" lang="en-US" sz="1800" spc="-1" strike="noStrike">
              <a:solidFill>
                <a:srgbClr val="000000"/>
              </a:solidFill>
              <a:latin typeface="Arial"/>
            </a:endParaRPr>
          </a:p>
        </p:txBody>
      </p:sp>
      <p:sp>
        <p:nvSpPr>
          <p:cNvPr id="79" name=""/>
          <p:cNvSpPr/>
          <p:nvPr/>
        </p:nvSpPr>
        <p:spPr>
          <a:xfrm>
            <a:off x="262728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n</a:t>
            </a:r>
            <a:endParaRPr b="0" lang="en-US" sz="1800" spc="-1" strike="noStrike">
              <a:solidFill>
                <a:srgbClr val="000000"/>
              </a:solidFill>
              <a:latin typeface="Arial"/>
            </a:endParaRPr>
          </a:p>
        </p:txBody>
      </p:sp>
      <p:sp>
        <p:nvSpPr>
          <p:cNvPr id="80"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8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e decir, por la unidad Qn estoy dispuesto a pagar P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precio real que el consumidor paga es P*, por lo que habrá un beneficio, que vale 1*(Pn -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10:58:28Z</dcterms:created>
  <dc:creator>..</dc:creator>
  <dc:description/>
  <dc:language>en-US</dc:language>
  <cp:lastModifiedBy>..</cp:lastModifiedBy>
  <dcterms:modified xsi:type="dcterms:W3CDTF">2004-10-05T15:41:21Z</dcterms:modified>
  <cp:revision>141</cp:revision>
  <dc:subject/>
  <dc:title>Diapositiva 1</dc:title>
</cp:coreProperties>
</file>