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9ADAD-D74F-4AB2-9160-3E57E21B2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0F34E-68D6-4B0A-A453-5EE56E7EE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0AA0B-D0BF-4E2A-AC1D-3FB71819B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19BA2-8981-4429-BB53-4EAFA0FB2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30B0-E3FE-449B-A400-54005AAA2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A9DD3-1781-488F-82CF-B674EA867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1ADA6-6C3C-4D65-AF8E-0A482867C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AC646-2A48-4702-A093-7C509B15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03586-43C7-4EDB-93A1-F1ED4B1F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6E6AC-AAE2-460D-89A6-65827B86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E98D-92E6-4807-8A3E-709A61516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CB7D-5199-4595-850B-57DD80FCF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3D46-6544-4C87-8E45-A8BF60A5E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 Auxiliar Nº3</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924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ópicos de Economía Mundi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61080" y="5300640"/>
            <a:ext cx="2517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Y JAIMOVICH B.</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8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8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9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94"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97"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98" name=""/>
          <p:cNvSpPr/>
          <p:nvPr/>
        </p:nvSpPr>
        <p:spPr>
          <a:xfrm>
            <a:off x="2916360" y="3789360"/>
            <a:ext cx="0" cy="503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 mismo ocurrirá para todas las unidades consumidas menores que Q*, por lo ta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0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0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1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13"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2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2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2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3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34"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2050920" y="3141360"/>
            <a:ext cx="2592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19240" y="2924280"/>
            <a:ext cx="373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EDENTE DEL CONSUMIDOR</a:t>
            </a:r>
            <a:endParaRPr b="0" lang="en-US" sz="1800" spc="-1" strike="noStrike">
              <a:solidFill>
                <a:srgbClr val="000000"/>
              </a:solidFill>
              <a:latin typeface="Arial"/>
            </a:endParaRPr>
          </a:p>
        </p:txBody>
      </p:sp>
      <p:sp>
        <p:nvSpPr>
          <p:cNvPr id="146"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4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valor del excedente del consumidor ser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 – P*) Q*</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780000" y="422100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427640" y="429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ismo tipo de análisis se puede aplicar a los producto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El precio al que venden es el costo marginal de la última unidad producida, por lo que las unidades anteriores tuvieron costos marginales menores y hay un exced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5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5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63" name=""/>
          <p:cNvSpPr/>
          <p:nvPr/>
        </p:nvSpPr>
        <p:spPr>
          <a:xfrm>
            <a:off x="2411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164" name=""/>
          <p:cNvSpPr/>
          <p:nvPr/>
        </p:nvSpPr>
        <p:spPr>
          <a:xfrm>
            <a:off x="2627280" y="486900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403280" y="486900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67" name=""/>
          <p:cNvSpPr/>
          <p:nvPr/>
        </p:nvSpPr>
        <p:spPr>
          <a:xfrm>
            <a:off x="900000" y="4724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168"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ductor está dispuesto a vender la unidad Qn al precio Pn, pero recibe el precio P*, por lo que recibe una utilidad de 1*(P*- P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excedente del productor” será:</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7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7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83"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84"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cc0000"/>
                </a:solidFill>
                <a:uFillTx/>
                <a:latin typeface="Arial"/>
              </a:rPr>
              <a:t>ANÁLISIS DE BIENESTAR EN EL COMERCIO INTERNACIONAL</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FOQUE DE EQUILIBRIO PAR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n competencia perfecta tenemos que las utilidades son nulas, podemos interpretar el excedente del productor como los ingresos que permiten pagar los costos no directos de producción (especialmente los costos fijos: arriendo, gastos generales, 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E TEND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91"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95"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96"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00"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01"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05"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uando un mercado se abre al exterio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ongamos que ahora el bien puede ser comprado en el exterior a un precio Pc, con   Pc &lt;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pertura Comercial</a:t>
            </a:r>
            <a:endParaRPr b="0" lang="en-US" sz="2400" spc="-1" strike="noStrike">
              <a:solidFill>
                <a:srgbClr val="000000"/>
              </a:solidFill>
              <a:latin typeface="Arial"/>
            </a:endParaRPr>
          </a:p>
        </p:txBody>
      </p:sp>
      <p:sp>
        <p:nvSpPr>
          <p:cNvPr id="210" name=""/>
          <p:cNvSpPr/>
          <p:nvPr/>
        </p:nvSpPr>
        <p:spPr>
          <a:xfrm flipV="1">
            <a:off x="1906560" y="16934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906560" y="52228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74920" y="16938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3" name=""/>
          <p:cNvSpPr/>
          <p:nvPr/>
        </p:nvSpPr>
        <p:spPr>
          <a:xfrm>
            <a:off x="6661080" y="52228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4" name=""/>
          <p:cNvSpPr/>
          <p:nvPr/>
        </p:nvSpPr>
        <p:spPr>
          <a:xfrm flipV="1">
            <a:off x="1906560" y="25574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906560" y="3565440"/>
            <a:ext cx="2376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282920" y="35654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330200" y="34225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8" name=""/>
          <p:cNvSpPr/>
          <p:nvPr/>
        </p:nvSpPr>
        <p:spPr>
          <a:xfrm>
            <a:off x="4067280" y="52941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9" name=""/>
          <p:cNvSpPr/>
          <p:nvPr/>
        </p:nvSpPr>
        <p:spPr>
          <a:xfrm>
            <a:off x="1906560" y="2125800"/>
            <a:ext cx="42480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27640" y="23414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21" name=""/>
          <p:cNvSpPr/>
          <p:nvPr/>
        </p:nvSpPr>
        <p:spPr>
          <a:xfrm>
            <a:off x="6227640" y="45734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22" name=""/>
          <p:cNvSpPr/>
          <p:nvPr/>
        </p:nvSpPr>
        <p:spPr>
          <a:xfrm>
            <a:off x="1906560" y="414972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330200" y="4005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24" name=""/>
          <p:cNvSpPr/>
          <p:nvPr/>
        </p:nvSpPr>
        <p:spPr>
          <a:xfrm>
            <a:off x="313200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1964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70036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227" name=""/>
          <p:cNvSpPr/>
          <p:nvPr/>
        </p:nvSpPr>
        <p:spPr>
          <a:xfrm>
            <a:off x="485928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228" name=""/>
          <p:cNvSpPr/>
          <p:nvPr/>
        </p:nvSpPr>
        <p:spPr>
          <a:xfrm flipH="1" rot="5400000">
            <a:off x="3922920" y="4725000"/>
            <a:ext cx="431640" cy="2160360"/>
          </a:xfrm>
          <a:custGeom>
            <a:avLst/>
            <a:gdLst>
              <a:gd name="textAreaLeft" fmla="*/ 275400 w 431640"/>
              <a:gd name="textAreaRight" fmla="*/ 431640 w 431640"/>
              <a:gd name="textAreaTop" fmla="*/ 148680 h 2160360"/>
              <a:gd name="textAreaBottom" fmla="*/ 2011680 h 2160360"/>
            </a:gdLst>
            <a:ahLst/>
            <a:rect l="textAreaLeft" t="textAreaTop" r="textAreaRight" b="textAreaBottom"/>
            <a:pathLst>
              <a:path w="21600" h="21600">
                <a:moveTo>
                  <a:pt x="21600" y="0"/>
                </a:moveTo>
                <a:cubicBezTo>
                  <a:pt x="16200" y="0"/>
                  <a:pt x="10800" y="2378"/>
                  <a:pt x="10800" y="4755"/>
                </a:cubicBezTo>
                <a:lnTo>
                  <a:pt x="10800" y="4799"/>
                </a:lnTo>
                <a:cubicBezTo>
                  <a:pt x="10800" y="7177"/>
                  <a:pt x="5400" y="9554"/>
                  <a:pt x="0" y="9554"/>
                </a:cubicBezTo>
                <a:cubicBezTo>
                  <a:pt x="5400" y="9554"/>
                  <a:pt x="10800" y="11932"/>
                  <a:pt x="10800" y="14309"/>
                </a:cubicBezTo>
                <a:lnTo>
                  <a:pt x="10800" y="16845"/>
                </a:lnTo>
                <a:cubicBezTo>
                  <a:pt x="10800" y="19223"/>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348000" y="6093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l precio internacional es menor, la oferta nacional se reducirá (hasta OFFc) y la cantidad demandada nacional aumentará (hasta DDAc), por lo que la diferencia será importada.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o……. ¿Qué ocurre con el bienest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l lado de la ofer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36"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39"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0"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44"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5"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p:txBody>
      </p:sp>
      <p:sp>
        <p:nvSpPr>
          <p:cNvPr id="249"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2"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3"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8" name=""/>
          <p:cNvSpPr/>
          <p:nvPr/>
        </p:nvSpPr>
        <p:spPr>
          <a:xfrm flipV="1">
            <a:off x="1403280" y="4797360"/>
            <a:ext cx="1440000" cy="719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60"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CONOMÍA SE UTILIZAN DIFERENTES MEDIDAS DEL BIENESTAR, RELACIONADAS CON LA TEORIA MICROECONÓMIC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MÁS UTILIZADAS SON LAS DEL “EXCEDENTE DEL CONSUMIDOR” Y “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QUE OCURRIRÁ CON E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68"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1"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5"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6"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4"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5"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8"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9" name=""/>
          <p:cNvSpPr/>
          <p:nvPr/>
        </p:nvSpPr>
        <p:spPr>
          <a:xfrm>
            <a:off x="1403280" y="2852640"/>
            <a:ext cx="3168720" cy="194472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92"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94" name=""/>
          <p:cNvSpPr/>
          <p:nvPr/>
        </p:nvSpPr>
        <p:spPr>
          <a:xfrm>
            <a:off x="1403280" y="429264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 aumento de el excedente del consumidor, y por tanto de su bienesta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aumento es superior a la pérdida de los productores, por lo que el comercio internacional es beneficioso.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beneficios del comercio internacional serán:</a:t>
            </a:r>
            <a:endParaRPr b="0" lang="en-US" sz="2600" spc="-1" strike="noStrike">
              <a:solidFill>
                <a:srgbClr val="000000"/>
              </a:solidFill>
              <a:latin typeface="Arial"/>
            </a:endParaRPr>
          </a:p>
        </p:txBody>
      </p:sp>
      <p:sp>
        <p:nvSpPr>
          <p:cNvPr id="300" name=""/>
          <p:cNvSpPr/>
          <p:nvPr/>
        </p:nvSpPr>
        <p:spPr>
          <a:xfrm flipV="1">
            <a:off x="1763640" y="198252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63640" y="551196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32000" y="19828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3" name=""/>
          <p:cNvSpPr/>
          <p:nvPr/>
        </p:nvSpPr>
        <p:spPr>
          <a:xfrm>
            <a:off x="6518160" y="55119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4" name=""/>
          <p:cNvSpPr/>
          <p:nvPr/>
        </p:nvSpPr>
        <p:spPr>
          <a:xfrm flipV="1">
            <a:off x="1763640" y="284652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63640" y="385452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140360" y="385452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187280" y="37116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8" name=""/>
          <p:cNvSpPr/>
          <p:nvPr/>
        </p:nvSpPr>
        <p:spPr>
          <a:xfrm>
            <a:off x="3924360" y="55832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9" name=""/>
          <p:cNvSpPr/>
          <p:nvPr/>
        </p:nvSpPr>
        <p:spPr>
          <a:xfrm>
            <a:off x="1763640" y="241452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84720" y="2630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11" name=""/>
          <p:cNvSpPr/>
          <p:nvPr/>
        </p:nvSpPr>
        <p:spPr>
          <a:xfrm>
            <a:off x="6084720" y="4862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12" name=""/>
          <p:cNvSpPr/>
          <p:nvPr/>
        </p:nvSpPr>
        <p:spPr>
          <a:xfrm>
            <a:off x="1763640" y="443700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8728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14" name=""/>
          <p:cNvSpPr/>
          <p:nvPr/>
        </p:nvSpPr>
        <p:spPr>
          <a:xfrm>
            <a:off x="298944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07672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557440" y="55180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17" name=""/>
          <p:cNvSpPr/>
          <p:nvPr/>
        </p:nvSpPr>
        <p:spPr>
          <a:xfrm>
            <a:off x="4716360" y="55180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18" name=""/>
          <p:cNvSpPr/>
          <p:nvPr/>
        </p:nvSpPr>
        <p:spPr>
          <a:xfrm>
            <a:off x="3059280" y="3860640"/>
            <a:ext cx="2017440" cy="576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4284720" y="371628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43640" y="3141720"/>
            <a:ext cx="27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6372360" y="350028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S DEL COMER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Volvemos a la misma conclusión de la clase auxiliar anterio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a:t>
            </a:r>
            <a:r>
              <a:rPr b="0" lang="es-ES_tradnl" sz="3200" spc="-1" strike="noStrike">
                <a:solidFill>
                  <a:srgbClr val="ff0000"/>
                </a:solidFill>
                <a:latin typeface="Arial"/>
              </a:rPr>
              <a:t>El comercio internacional es beneficioso para la sociedad en general, pero hay sectores que pierden, y por lo tanto pueden ser compensados”</a:t>
            </a:r>
            <a:r>
              <a:rPr b="0" lang="es-ES_tradnl" sz="3200" spc="-1" strike="noStrike">
                <a:solidFill>
                  <a:srgbClr val="000000"/>
                </a:solidFill>
                <a:latin typeface="Arial"/>
              </a:rPr>
              <a: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aís exportaría el bien en vez de importarl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ste caso, es importante saber si el país es “grande o chico”, en el sentido de si afecta o no a los precios internaciona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2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on el bienestar si, una vez realizada la apertura comercial, se aplican aranceles al bien importa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flipV="1">
            <a:off x="1908000" y="234108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908000" y="587052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76360" y="2341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35" name=""/>
          <p:cNvSpPr/>
          <p:nvPr/>
        </p:nvSpPr>
        <p:spPr>
          <a:xfrm>
            <a:off x="6662880" y="5870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36" name=""/>
          <p:cNvSpPr/>
          <p:nvPr/>
        </p:nvSpPr>
        <p:spPr>
          <a:xfrm flipV="1">
            <a:off x="1908000" y="320508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908000" y="27734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29440" y="2989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39" name=""/>
          <p:cNvSpPr/>
          <p:nvPr/>
        </p:nvSpPr>
        <p:spPr>
          <a:xfrm>
            <a:off x="6229440" y="522144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40" name=""/>
          <p:cNvSpPr/>
          <p:nvPr/>
        </p:nvSpPr>
        <p:spPr>
          <a:xfrm>
            <a:off x="1908000" y="5013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332000" y="46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42" name=""/>
          <p:cNvSpPr/>
          <p:nvPr/>
        </p:nvSpPr>
        <p:spPr>
          <a:xfrm>
            <a:off x="277164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34000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45" name=""/>
          <p:cNvSpPr/>
          <p:nvPr/>
        </p:nvSpPr>
        <p:spPr>
          <a:xfrm>
            <a:off x="529128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4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NÁLISIS SERÁ DE EQUILIBRIO PARCIAL, LO QUE SIGNIFICA QUE SE CENTRARÁ EN EL ESTUDIO DE LAS CONSECUENCIAS DE LO QUE OCURRE EN UN SOLO MERCADO, SIN VER QUÉ OCURRE EN LOS DEMÁ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se aplica un arancel de monto T, implica que ahora el precio pagado por el bien será    Pc + 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ueva situación ser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9"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53"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54"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57"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58"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60"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63"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64"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66"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OCURRIRÁ CON EL BIENEST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3"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CONSUMID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77"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78"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81"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82"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84"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87"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88"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90"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394" name=""/>
          <p:cNvSpPr/>
          <p:nvPr/>
        </p:nvSpPr>
        <p:spPr>
          <a:xfrm>
            <a:off x="4716360" y="3933720"/>
            <a:ext cx="863640" cy="503280"/>
          </a:xfrm>
          <a:prstGeom prst="rtTriangl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8000" y="3933720"/>
            <a:ext cx="280836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908000" y="3933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1908000" y="393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9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Y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01"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PRODUCT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05"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06"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09"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10"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12"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15"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16"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18"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22" name=""/>
          <p:cNvSpPr/>
          <p:nvPr/>
        </p:nvSpPr>
        <p:spPr>
          <a:xfrm flipV="1">
            <a:off x="2771640" y="3933720"/>
            <a:ext cx="1008360" cy="503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08000" y="3933720"/>
            <a:ext cx="863640" cy="503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7"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OBIERNO: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32"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35"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36"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38"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41"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42"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44"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48" name=""/>
          <p:cNvSpPr/>
          <p:nvPr/>
        </p:nvSpPr>
        <p:spPr>
          <a:xfrm>
            <a:off x="3708360" y="3933720"/>
            <a:ext cx="1008000" cy="503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 RECAUDACIÓ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RGO, SU BIENESTAR 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2"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que la pérdida de bienestar se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56"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57"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60"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61"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63"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66"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67"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69"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73" name=""/>
          <p:cNvSpPr/>
          <p:nvPr/>
        </p:nvSpPr>
        <p:spPr>
          <a:xfrm>
            <a:off x="4716360" y="3933720"/>
            <a:ext cx="86364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2771640" y="3933720"/>
            <a:ext cx="93528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de el nivel de bienestar que alcanzan los consumidores en un determinado mercado.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entra en la idea de que “el precio es la utilidad marginal de la última unidad pagada, por lo que habrá beneficio positivo por las otras unidades consum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6"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ductores de aquellos sectores menos productivos respecto al resto del mundo (Periodo ISI, agricultur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elasticidades de la oferta y la demanda, por tanto. Gráficamente, de las pendient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5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5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403280" y="4292640"/>
            <a:ext cx="23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6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4"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los consumidores estarán dispuestos a pagar un precio mayor por cantidades menores a Q*, ya que sus utilidades marginales son may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6"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0"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1"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5"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6"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79"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80"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e decir, por la unidad Qn estoy dispuesto a pagar P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precio real que el consumidor paga es P*, por lo que habrá un beneficio, que vale 1*(Pn -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0:58:28Z</dcterms:created>
  <dc:creator>..</dc:creator>
  <dc:description/>
  <dc:language>en-US</dc:language>
  <cp:lastModifiedBy>..</cp:lastModifiedBy>
  <dcterms:modified xsi:type="dcterms:W3CDTF">2004-10-05T15:41:21Z</dcterms:modified>
  <cp:revision>141</cp:revision>
  <dc:subject/>
  <dc:title>Diapositiva 1</dc:title>
</cp:coreProperties>
</file>