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157-88D1-4CBB-BB1D-1ED10DA7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30E-3D26-4F73-B57A-36546A0A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F27-F5A5-4549-A429-773D684E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5C2-40DC-4725-84F9-CEDE907C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AC3-B03B-4EBF-B342-FA3AE977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526-6040-4B50-9B76-A6F3AF6F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398-09BA-4693-B0CD-9C57000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C83-4076-46A2-ABC0-EC2DD8EC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CA6-9180-4DEA-BF62-23F58ABC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B5E-534F-40A5-AA23-3D3F505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F24-C148-41D7-9CEE-92C2506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B11-744A-40E4-8183-FB256EC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D10-ACFE-4D80-997B-DEB59ACAE55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4365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Economía con 2 sectores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En busca de la FP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s sectores: “Mantequilla y Cañones” (Ref: Samuel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tación total de factores de la econom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ch = Lm +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ch = Km + K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7928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STO ES INEFICIENTE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apacidad o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3284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80200" y="57531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32000" y="59500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4653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9440" y="4646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500280"/>
            <a:ext cx="180036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54920" y="3278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668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2920" y="5681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4149720"/>
            <a:ext cx="58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8800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050560" y="58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501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763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8800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17236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HAY MUC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- “Burdo Repaso de la Teo. Microeconóm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tiene un conjunto de tecnologías convexos, que combina insumos para obtener produ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 = F(L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n. de Producción es la máxima producción posible de obtener dados determinad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va de Cont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07664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6120" y="5753160"/>
            <a:ext cx="410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rva de Contra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Conju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bilidades eficientes de 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cañones y mantequi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de Fac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0360" y="575316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S: Los cañones son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nsivos e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.- Por fin: La F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3206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24000" y="3710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4933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436572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386064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29080" y="39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24600" y="3567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321300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4240" y="291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378936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4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1280" y="3284640"/>
            <a:ext cx="0" cy="230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7280" y="32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47640" y="3789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97280" y="316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17800" y="3638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2624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888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tiene esa for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aumenta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de la economí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2413080" y="2852640"/>
            <a:ext cx="7921440" cy="547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140360" y="400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7560" y="2276640"/>
            <a:ext cx="50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n las posibilidades de producir ambos bienes, pero más del que es intensivo en capital, o sea, cañ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 es lo mismo qu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eso Técnico sesgado hacia  el capi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sólo en la producción de la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se desplaza la Fn. de Producción de la mantequ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Productividad de la mantequ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295280" y="2743200"/>
            <a:ext cx="563832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97000"/>
          <a:ext cx="77058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705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aumenta la productividad total de factores, “A” – residuo de So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1904760" y="2743200"/>
            <a:ext cx="68572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52680" y="3504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267080" y="4495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......... ¿Es realista suponer que las economías están en la F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el corto plazo, parece que no (“contabilidad del crecimiento”: aprox. 65% del aumento en productividad se puede obtener reasignando factores en Chile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P, el supuesto parece ser razonable .......¿cuándo es el 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37386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06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hora que conocemos la FPP, ¿¿dónde produciremo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penderá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ferencias por bi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samient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 Carácterísticas d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sta ahora, se ha visto la teo. Del productor, pero falta incorporar la teo. Del consumido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la repasaremos, pero bastará con decir que los individuos tienen preferencias representadas por curvas de utilidad, que pueden ser sumadas de alguna for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esto, se obtendrá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RVA DE UTILIDA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forma en que se sumen, indicará la “ideología de la socie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tarismo (Sumato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wls (“MaxiMi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BS: Ojo con el teo. de imposibilidad de Arrow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 + Ut.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040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82440" y="556272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=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0200" y="3465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 = 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3120" y="61866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S: Consumo = Producción, porque no hay ahorr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ncuentran los preci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361240" y="92160"/>
            <a:ext cx="10972440" cy="454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289548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4890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Pc/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hay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s todo lo que hemos visto hasta ahora es en autarquí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queda para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el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igualan l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parán las decisiones de consumo y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00360" y="3068640"/>
            <a:ext cx="23032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7280" y="3141360"/>
            <a:ext cx="28814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32000" y="3284640"/>
            <a:ext cx="2664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64000" y="3428640"/>
            <a:ext cx="25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95640" y="364464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27640" y="3860640"/>
            <a:ext cx="20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932360" y="4076640"/>
            <a:ext cx="1727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65300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jto. De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Fn. de Producción, salen las curvas isocuantas: “diferentes combinaciones de insumos (K,L) que permiten producir una misma cantidad de product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convexas: Si se disminuye la cantidad de un factor, se debe aumentar la del otro, cada vez en mayor proporción. (Son mejores combinaciones balanceadas de insumo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716280"/>
            <a:ext cx="216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5516640"/>
            <a:ext cx="39178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dK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elación Técnica de Sustitu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Productor: Minimiza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20880" y="3370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0880" y="5808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59520" y="5884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141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949480" y="169308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4600" y="5351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8920" y="4076640"/>
            <a:ext cx="1512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24360" y="4149360"/>
            <a:ext cx="1655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3860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va Isocostos: Mismo pago a los fa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0920" y="5518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19640" y="3500280"/>
            <a:ext cx="1008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3068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eficiente de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Q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060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-dK/DL=-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060640"/>
            <a:ext cx="230508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3:20:18Z</dcterms:created>
  <dc:creator>..</dc:creator>
  <dc:description/>
  <dc:language>en-US</dc:language>
  <cp:lastModifiedBy>dii</cp:lastModifiedBy>
  <dcterms:modified xsi:type="dcterms:W3CDTF">2004-08-31T18:41:25Z</dcterms:modified>
  <cp:revision>170</cp:revision>
  <dc:subject/>
  <dc:title>Clase Auxiliar Nº1</dc:title>
</cp:coreProperties>
</file>