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300-4B98-4DA0-A1F6-C1BD0E72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A48-9347-4C31-BEB0-72208C4E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56B-A5D5-4996-8697-83F827EC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FB0-0CAE-402A-B2DE-AB2A1AE7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891-1BAA-4C4B-8177-4CC07875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729-84A5-466D-9BC4-655DB826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569-E125-4553-B3AC-092EF9AA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C9A-E224-4301-9364-5951A945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1A2-6490-4994-A9E5-B7BD060E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C91-4C8C-418C-BB54-0E71F8B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46D-DF97-4205-AB8F-80D738C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DC1-40D8-46F1-9AA2-8FA1835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8676-FC9F-4651-BF39-418057281B3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 Auxiliar Nº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4365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NY JAIMOVICH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Economía con 2 sectores: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En busca de la FP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s sectores: “Mantequilla y Cañones” (Ref: Samuel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tación total de factores de la econom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ch = Lm +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ch = Km + K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213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7928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25080" y="306864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85264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49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580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STO ES INEFICIENTE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capacidad oc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5080" y="306864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285264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549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580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20000" y="3284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80200" y="57531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32000" y="59500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465300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“optimo de Pareto” ser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42560" y="2373840"/>
            <a:ext cx="273708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0000" y="385920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33498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“optimo de Pareto” ser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642560" y="2373840"/>
            <a:ext cx="273708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20000" y="385920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33498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9440" y="4646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500280"/>
            <a:ext cx="180036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54920" y="3278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668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52920" y="5681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4149720"/>
            <a:ext cx="58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8800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050560" y="58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501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763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8800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17236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2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HAY MUC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BIN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.- “Burdo Repaso de la Teo. Microeconóm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tiene un conjunto de tecnologías convexos, que combina insumos para obtener produ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 = F(L,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n. de Producción es la máxima producción posible de obtener dados determinados insu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va de Contr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076640"/>
            <a:ext cx="1081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6120" y="5753160"/>
            <a:ext cx="410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rva de Contra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Conju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bilidades eficientes de pro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cañones y mantequi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nsidad de Facto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20360" y="575316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S: Los cañones son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nsivos en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.- Por fin: La F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35280" y="32068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564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24000" y="37101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4933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436572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386064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29080" y="3998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24600" y="3567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40000" y="321300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24240" y="291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378936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94520" y="34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1280" y="3284640"/>
            <a:ext cx="0" cy="230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7280" y="328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547640" y="378936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97280" y="316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17800" y="3638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26240" y="558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8880" y="558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tiene esa form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aumenta 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de la economí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-2413080" y="2852640"/>
            <a:ext cx="7921440" cy="547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140360" y="400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57560" y="2276640"/>
            <a:ext cx="50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n las posibilidades de producir ambos bienes, pero más del que es intensivo en capital, o sea, cañ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o es lo mismo que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eso Técnico sesgado hacia  el capit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hay progreso técnico sólo en la producción de la mantequi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o sea, se desplaza la Fn. de Producción de la mantequ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 Productividad de la mantequ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13372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1295280" y="2743200"/>
            <a:ext cx="563832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1197000"/>
          <a:ext cx="770580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7058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hay progreso técnico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o sea, aumenta la productividad total de factores, “A” – residuo de So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13372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1904760" y="2743200"/>
            <a:ext cx="68572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352680" y="35049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267080" y="4495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......... ¿Es realista suponer que las economías están en la FP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el corto plazo, parece que no (“contabilidad del crecimiento”: aprox. 65% del aumento en productividad se puede obtener reasignando factores en Chile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LP, el supuesto parece ser razonable .......¿cuándo es el 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37386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060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hora que conocemos la FPP, ¿¿dónde produciremo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penderá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ferencias por bi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nsamient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 Carácterísticas de los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e incorporará las preferencias de los individu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e incorporará las preferencias de los individu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sta ahora, se ha visto la teo. Del productor, pero falta incorporar la teo. Del consumido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la repasaremos, pero bastará con decir que los individuos tienen preferencias representadas por curvas de utilidad, que pueden ser sumadas de alguna for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 esto, se obtendrá 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RVA DE UTILIDA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forma en que se sumen, indicará la “ideología de la socied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tilitarismo (Sumato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wls (“MaxiMi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BS: Ojo con el teo. de imposibilidad de Arrow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29600" y="6518160"/>
            <a:ext cx="812880" cy="337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581200" y="2971800"/>
            <a:ext cx="59428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816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K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24400" y="259092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= f(K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556000" y="1844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5229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995640" y="227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n. de Produc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Frontera de eficienci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513520" y="204840"/>
            <a:ext cx="10972440" cy="45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 + Ut.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513520" y="204840"/>
            <a:ext cx="10972440" cy="45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0040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23520" y="365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82440" y="556272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= 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0200" y="34653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 = 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33120" y="6186600"/>
            <a:ext cx="56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S: Consumo = Producción, porque no hay ahorr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encuentran los preci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361240" y="92160"/>
            <a:ext cx="10972440" cy="454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2895480"/>
            <a:ext cx="3810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489096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Pc/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asa si hay comercio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s todo lo que hemos visto hasta ahora es en autarquí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queda para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el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igualan los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parán las decisiones de consumo y produ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9600" y="6518160"/>
            <a:ext cx="812880" cy="337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581200" y="2971800"/>
            <a:ext cx="59428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16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K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24400" y="259092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= f(K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56000" y="1844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5229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95640" y="227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n. de Produc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Frontera de eficienci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00360" y="3068640"/>
            <a:ext cx="230328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7280" y="3141360"/>
            <a:ext cx="28814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132000" y="3284640"/>
            <a:ext cx="2664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564000" y="3428640"/>
            <a:ext cx="2520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995640" y="3644640"/>
            <a:ext cx="2232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27640" y="3860640"/>
            <a:ext cx="2016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932360" y="4076640"/>
            <a:ext cx="1727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65300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429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jto. De Tecn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a Fn. de Producción, salen las curvas isocuantas: “diferentes combinaciones de insumos (K,L) que permiten producir una misma cantidad de product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convexas: Si se disminuye la cantidad de un factor, se debe aumentar la del otro, cada vez en mayor proporción. (Son mejores combinaciones balanceadas de insumo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 de Isocu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92520" y="2649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92520" y="5087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30800" y="5164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421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021120" y="9727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49720" y="66744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554280" y="2869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25880" y="4630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54480" y="42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83080" y="3792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39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 de Isocu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92520" y="2649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92520" y="5087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30800" y="5164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21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021120" y="9727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249720" y="66744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554280" y="2869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25880" y="4630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54480" y="42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83080" y="3792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39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716280"/>
            <a:ext cx="2160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5516640"/>
            <a:ext cx="391788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-dK/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Relación Técnica de Sustituci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ximización de Productor: Minimiza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20880" y="33703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20880" y="5808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59520" y="5884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141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949480" y="169308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4600" y="5351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8920" y="4076640"/>
            <a:ext cx="151272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924360" y="4149360"/>
            <a:ext cx="1655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3860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va Isocostos: Mismo pago a los fa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0920" y="5518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r/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19640" y="3500280"/>
            <a:ext cx="100800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3068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ción eficiente de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Q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2060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-dK/DL=-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2060640"/>
            <a:ext cx="230508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13:20:18Z</dcterms:created>
  <dc:creator>..</dc:creator>
  <dc:description/>
  <dc:language>en-US</dc:language>
  <cp:lastModifiedBy>dii</cp:lastModifiedBy>
  <dcterms:modified xsi:type="dcterms:W3CDTF">2004-08-31T18:41:25Z</dcterms:modified>
  <cp:revision>170</cp:revision>
  <dc:subject/>
  <dc:title>Clase Auxiliar Nº1</dc:title>
</cp:coreProperties>
</file>