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78C-30B8-412F-96D5-F91FC481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E29-140F-4B65-82A7-8F1FEAA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760-189F-4999-BD23-D2D585F3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0F5-83D6-4160-B830-F50F50D0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72E-178C-4251-889D-DE3A52A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F4F-B50D-48B1-BAFA-B68EAF4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893-0726-4008-8D31-7C241D98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89C-4149-4F29-A898-569E7C44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425-A946-4EF3-A6AC-483B794D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1B1-3C2D-4AE8-8144-D6C5EDC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636-785E-4C68-92BA-A9AFD0A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8CE-E5A8-4EE6-8A46-B3789843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DFD3-16F2-4825-95F5-3F089BB38A0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4365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Economía con 2 sectores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En busca de la FP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s sectores: “Mantequilla y Cañones” (Ref: Samuel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tación total de factores de la econom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ch = Lm +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Kch = Km + K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979280" y="2421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STO ES INEFICIENTE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apacidad oci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986920" y="280620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5080" y="306864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47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79280" y="4653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558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9440" y="44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270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32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4005360"/>
            <a:ext cx="792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2852640"/>
            <a:ext cx="865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49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580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20000" y="3284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80200" y="57531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32000" y="595008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4653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“optimo de Pareto” ser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42560" y="2373840"/>
            <a:ext cx="273708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20000" y="3859200"/>
            <a:ext cx="158328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33498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9440" y="4646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500280"/>
            <a:ext cx="180036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54920" y="3278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6680" y="2349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52920" y="5681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4149720"/>
            <a:ext cx="58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8800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050560" y="58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501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63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364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8800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17236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236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HAY MUC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.- “Burdo Repaso de la Teo. Microeconóm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tiene un conjunto de tecnologías convexos, que combina insumos para obtener produ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 = F(L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n. de Producción es la máxima producción posible de obtener dados determinad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va de Cont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4076640"/>
            <a:ext cx="1081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6120" y="5753160"/>
            <a:ext cx="410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rva de Contra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Conju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bilidades eficientes de 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cañones y mantequi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.- Economía con 2 sectores: “En busca de la FP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de Facto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7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4229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6371640" y="173268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75280" y="3141720"/>
            <a:ext cx="1584000" cy="172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2708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636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0" y="364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3080" y="47322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218920" y="202140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23280" y="3430440"/>
            <a:ext cx="158328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997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76720" y="4084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0360" y="5753160"/>
            <a:ext cx="32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S: Los cañones son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nsivos en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II.- Por fin: La F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2708280"/>
            <a:ext cx="5832720" cy="287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272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79280" y="220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393372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332000" y="2565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066560" y="2166480"/>
            <a:ext cx="2736360" cy="239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43280" y="365112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35280" y="3206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555280" y="2669040"/>
            <a:ext cx="2736360" cy="239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4154400"/>
            <a:ext cx="1584000" cy="17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4000" y="37101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4933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50920" y="2708280"/>
            <a:ext cx="5834160" cy="2881440"/>
          </a:xfrm>
          <a:custGeom>
            <a:avLst/>
            <a:gdLst/>
            <a:ahLst/>
            <a:rect l="l" t="t" r="r" b="b"/>
            <a:pathLst>
              <a:path w="3675" h="1815">
                <a:moveTo>
                  <a:pt x="0" y="1815"/>
                </a:moveTo>
                <a:cubicBezTo>
                  <a:pt x="68" y="1539"/>
                  <a:pt x="136" y="1263"/>
                  <a:pt x="363" y="1089"/>
                </a:cubicBezTo>
                <a:cubicBezTo>
                  <a:pt x="590" y="915"/>
                  <a:pt x="1066" y="848"/>
                  <a:pt x="1361" y="772"/>
                </a:cubicBezTo>
                <a:cubicBezTo>
                  <a:pt x="1656" y="696"/>
                  <a:pt x="1890" y="688"/>
                  <a:pt x="2132" y="635"/>
                </a:cubicBezTo>
                <a:cubicBezTo>
                  <a:pt x="2374" y="582"/>
                  <a:pt x="2556" y="560"/>
                  <a:pt x="2813" y="454"/>
                </a:cubicBezTo>
                <a:cubicBezTo>
                  <a:pt x="3070" y="348"/>
                  <a:pt x="3539" y="76"/>
                  <a:pt x="36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436572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40360" y="386064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2908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24600" y="356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321300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24240" y="291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378936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4520" y="34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11280" y="3284640"/>
            <a:ext cx="0" cy="230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7280" y="328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47640" y="3789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7280" y="3160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17800" y="3638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2624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8880" y="5589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tiene esa form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aumenta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de la economí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-2413080" y="2852640"/>
            <a:ext cx="7921440" cy="547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140360" y="4005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57560" y="2276640"/>
            <a:ext cx="50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n las posibilidades de producir ambos bienes, pero más del que es intensivo en capital, o sea, cañ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 es lo mismo qu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eso Técnico sesgado hacia  el capit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sólo en la producción de la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se desplaza la Fn. de Producción de la mantequ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Productividad de la mantequ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295280" y="2743200"/>
            <a:ext cx="563832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1197000"/>
          <a:ext cx="77058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705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pasa si hay progreso técnico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o sea, aumenta la productividad total de factores, “A” – residuo de So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133720" y="2971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43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1904760" y="2743200"/>
            <a:ext cx="68572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52680" y="35049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267080" y="4495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......... ¿Es realista suponer que las economías están en la F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corto plazo, parece que no (“contabilidad del crecimiento”: aprox. 65% del aumento en productividad se puede obtener reasignando factores en Chile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LP, el supuesto parece ser razonable .......¿cuándo es el 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Fronter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es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7400" y="37386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06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hora que conocemos la FPP, ¿¿dónde produciremo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penderá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ferencias por bi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samiento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 Carácterísticas de los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e incorporará las preferencias de los individu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sta ahora, se ha visto la teo. Del productor, pero falta incorporar la teo. Del consumido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la repasaremos, pero bastará con decir que los individuos tienen preferencias representadas por curvas de utilidad, que pueden ser sumadas de alguna 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esto, se obtendrá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RVA DE UTILIDAD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forma en que se sumen, indicará la “ideología de la socie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tarismo (Sumato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wls (“MaxiMi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OBS: Ojo con el teo. de imposibilidad de Arrow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PP + Ut.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3520" y="204840"/>
            <a:ext cx="10972440" cy="45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5235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82440" y="556272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= X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0200" y="3465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 = X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33120" y="61866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S: Consumo = Producción, porque no hay ahorro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V.- Equilibrio Gene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ncuentran los preci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54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7640" y="558972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3080" y="5537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ñ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75240" y="2133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e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260360" y="3141720"/>
            <a:ext cx="5616000" cy="489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361240" y="92160"/>
            <a:ext cx="10972440" cy="454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78" y="1740"/>
                </a:moveTo>
                <a:arcTo wR="10800" hR="10800" stAng="-3421650" swAng="3421650"/>
                <a:lnTo>
                  <a:pt x="10800" y="10800"/>
                </a:lnTo>
                <a:close/>
              </a:path>
              <a:path fill="none" w="21600" h="21600">
                <a:moveTo>
                  <a:pt x="16678" y="1740"/>
                </a:moveTo>
                <a:arcTo wR="10800" hR="10800" stAng="-3421650" swAng="342165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32000" y="358632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33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3100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289548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489096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Pc/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hay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s todo lo que hemos visto hasta ahora es en autarquí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queda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el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igualan l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eparán las decisiones de consumo y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29600" y="6518160"/>
            <a:ext cx="812880" cy="3373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81200" y="2971800"/>
            <a:ext cx="59428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16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K,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24400" y="259092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= f(K,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56000" y="1844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522936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2276640"/>
            <a:ext cx="505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1197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341360"/>
            <a:ext cx="33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n. de Produc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Frontera de eficienci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00360" y="3068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7280" y="3141360"/>
            <a:ext cx="28814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32000" y="3284640"/>
            <a:ext cx="2664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564000" y="3428640"/>
            <a:ext cx="2520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95640" y="3644640"/>
            <a:ext cx="2232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7640" y="3860640"/>
            <a:ext cx="20160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932360" y="4076640"/>
            <a:ext cx="1727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653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jto. De Tecn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 la Fn. de Producción, salen las curvas isocuantas: “diferentes combinaciones de insumos (K,L) que permiten producir una misma cantidad de product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convexas: Si se disminuye la cantidad de un factor, se debe aumentar la del otro, cada vez en mayor proporción. (Son mejores combinaciones balanceadas de insumo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pa de Isocuan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92520" y="2649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92520" y="5087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0800" y="5164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21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021120" y="9727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249720" y="66744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554280" y="286920"/>
            <a:ext cx="365688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25880" y="4630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4480" y="4249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00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83080" y="3792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Tahoma"/>
              </a:rPr>
              <a:t>Q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3933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39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716280"/>
            <a:ext cx="2160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5516640"/>
            <a:ext cx="391788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-dK/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elación Técnica de Sustitu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eoría del Prod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Productor: Minimiza co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20880" y="33703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20880" y="5808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9520" y="5884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3141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949480" y="1693080"/>
            <a:ext cx="365688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4600" y="5351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ahoma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8920" y="4076640"/>
            <a:ext cx="151272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24360" y="4149360"/>
            <a:ext cx="1655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va Isocostos: Mismo pago a los 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0920" y="5518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r/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19640" y="3500280"/>
            <a:ext cx="100800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3068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eficiente de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Q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060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-dK/DL=-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060640"/>
            <a:ext cx="230508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13:20:18Z</dcterms:created>
  <dc:creator>..</dc:creator>
  <dc:description/>
  <dc:language>en-US</dc:language>
  <cp:lastModifiedBy>dii</cp:lastModifiedBy>
  <dcterms:modified xsi:type="dcterms:W3CDTF">2004-08-31T18:41:25Z</dcterms:modified>
  <cp:revision>170</cp:revision>
  <dc:subject/>
  <dc:title>Clase Auxiliar Nº1</dc:title>
</cp:coreProperties>
</file>