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5B54-E03D-4244-87EE-A8183B17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FCB8-B766-49BD-AB25-A679ACB6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9D31-278C-4DAF-9953-BA612131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3F76-35B3-4705-9B28-B5B54682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2F19-F6A2-4EF9-A7B3-8C887587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81C5-5EE5-40FD-A728-F67930A4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71A1-25C1-42A6-9DB7-36C90306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70C4-6352-4E7C-B1F2-6731BA0D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3F40-C14A-49A0-BD82-3D9A28F0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5550-8227-4D54-8B33-D28D4B9B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5A5D-F4C1-48CB-AE0C-385D39D6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414C-7383-4510-BBCD-C29E9CBB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6F46-13CD-427B-A04E-AD2260875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gister en Gestión y Dirección de Empresas         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Raphael Bergoe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Primavera,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Tópicos de Economía Mund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sión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66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9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ueva Teoría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de Krug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guales tecnologías y preferencias entre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P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es-P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PE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P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es-P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PE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ero econom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ías de escala y “amor por varieda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-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20, i = A,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3716280"/>
            <a:ext cx="484200" cy="246240"/>
          </a:xfrm>
          <a:prstGeom prst="rightArrow">
            <a:avLst>
              <a:gd name="adj1" fmla="val 50000"/>
              <a:gd name="adj2" fmla="val 491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0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ueva Teoría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tarqu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= 10, idem para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10, para 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3505320"/>
            <a:ext cx="484200" cy="245880"/>
          </a:xfrm>
          <a:prstGeom prst="rightArrow">
            <a:avLst>
              <a:gd name="adj1" fmla="val 50000"/>
              <a:gd name="adj2" fmla="val 4923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1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ueva Teoría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A especializado en 1, B especializado en 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20 – 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20 – 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WTrad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Trade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Trad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15 + 0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Autarquí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Autarquía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5 + 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5120" y="5697360"/>
            <a:ext cx="484200" cy="246240"/>
          </a:xfrm>
          <a:prstGeom prst="rightArrow">
            <a:avLst>
              <a:gd name="adj1" fmla="val 50000"/>
              <a:gd name="adj2" fmla="val 491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2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ueva Teoría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lica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ercio intra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ercio entre países iguales (desarrollad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s en distribución de Y no significa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3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ueva Teoría</a:t>
            </a: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op 10 Beer Brands US (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 Light: 16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weiser: 16.3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s Light: 8.18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er Lite: 7.77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Light: 4.03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ch: 3.73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ona Extra: 3.02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ch Light: 2.72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er High Life: 2.62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er Genuine Draft: 2.62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top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67.4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barrels in millions 20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0666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4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Global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3505320"/>
            <a:ext cx="144792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4572000"/>
            <a:ext cx="144792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2362320"/>
            <a:ext cx="144792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480" y="24382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2560" y="3581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3400" y="45720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03848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5909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90920" y="2666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2666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4724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25909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343400" y="4800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962520" y="3962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2133720"/>
            <a:ext cx="32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nadá y USA comercio intraindustri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nadá y USA con México comercio inter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5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Aranceles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strumentos de Política Co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rvas oferta de exportaciones y demanda por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rt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excedent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r arancel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–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r subsidio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u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u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–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6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Aranceles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ranceles: Uniformes o diferenc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or qu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é bajar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bajar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7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Aranceles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Por qu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é bajarl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iciencia: potencia uso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umenta competitividad real de produ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 poder monopó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 desviación de comer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entivos: fomenta 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 lobby y corru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Favore el crecimiento eco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ómico sos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8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Aranceles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enestar: reduce precios para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umenta competitividad real de produ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 poder monopó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 desviación de comerci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1/20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Sector externo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El sector ext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Balanza Pagos  </a:t>
            </a:r>
            <a:r>
              <a:rPr b="0" lang="es-P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1. Cuenta corriente = X -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2. Cuenta de capitales = K* -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Diferencia es el cambio en reser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0666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9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Aranceles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ómo bajarl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adualidad: beneficiosa porque da tiempo para reconversión (reasignación de recursos, inform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tarda beneficios, da tiempo para lobby de perdedores, reduce credibilidad de la política, costos 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20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Aranceles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Diferenci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nera incentivos incor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bienes de capital, perjudica a la mano de o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staculiza creación de nuevas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mueve desarrollo de ndustrias de ensamblaj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 bajo valor agre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2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Tipo de cambio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inero, Precios y Tipo de Cambio: Concep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Tipo de cambio (e) es el  precio de una moneda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términos de o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Usaremos: e </a:t>
            </a:r>
            <a:r>
              <a:rPr b="0" lang="es-PE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precio del dólar en términos de p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s-PE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valor real realtivo de estas monedas = eP*/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Durante los 90s, caída real del dólar = 2%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ño. Japón 50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990720"/>
            <a:ext cx="815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3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Tipo de cambio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($/US)(US/canasta USA)/($/canasta Chil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canasta en Chile / canasta en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Exportaciones e importaciones = f (R) pero no f 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aridad cambiaria =&gt; P = eP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ranceles, costos de transporte, cortes de p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(“Bic Mac parity”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914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Raphael Bergoeing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4/20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 Tipo de cambio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El enfoque monetario de la balanza de pa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Por qué se fija el tipo de cambi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e fijo =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Cómo se fija el tipo de cambi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uste automático: s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, BP déficit, RI caen, M ca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ta que inflaciones se igua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Tipo de cambio fijo: Chile, Méxic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ent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914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5/20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Paridad financiera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idad financi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+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1/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(1+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) E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+ (E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+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/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lo tanto, si Ks se mueven libremente y el 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cambio está fijo (o esperado fijo) =&gt;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6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Ventajas Comparativas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o de Rica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or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quilibrio economía cer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quilibrio economía abi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ancias del inter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blemas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7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Ventajas Comparativas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blemas del modelo de Rica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ancias agregadas pero pérdidas secto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ercio interindustrial aumenta opciones de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umo agregado pero reduce ingreso real de factor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pecífico (intensivamente utilizado) en el sector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stituidor de import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omercio intraindustr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8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ueva Teoría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a teoría” de 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datos muestran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ercio entre países desarroll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ercio intraindus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veces, efectos en distribución de Y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gnifica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3T16:31:56Z</dcterms:created>
  <dc:creator>Paul D. McNelis</dc:creator>
  <dc:description/>
  <dc:language>en-US</dc:language>
  <cp:lastModifiedBy>Dany</cp:lastModifiedBy>
  <cp:lastPrinted>1999-01-04T20:30:38Z</cp:lastPrinted>
  <dcterms:modified xsi:type="dcterms:W3CDTF">2004-08-23T20:38:34Z</dcterms:modified>
  <cp:revision>119</cp:revision>
  <dc:subject/>
  <dc:title>Macroeconomía (Parte 1)                  Banco Central del Perú</dc:title>
</cp:coreProperties>
</file>