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BC4-12F1-4303-8BFB-CB125483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FEE-7DF1-4A56-9764-F0C2DAB4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E90-A92E-45F0-9159-7586834A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C02-C9D7-4701-B44A-C2E9D6E6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72C-9BC0-4FF4-9536-D1F9754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B45-684C-4EBA-B663-35A0090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513-B067-44AF-AA68-DA1B165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88A-1F07-4FAE-95E8-179E16D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9B3-2A8D-4428-8FF5-2E4611B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DA9-9F7B-4F4F-8B6F-6A62212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A45-32D5-437E-B3C0-5CCCE565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E55-667F-462B-87D8-C78B879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C50-E1F6-4CEA-8D9F-ED9B90D6C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Krug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es tecnologías y preferencias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o econ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ías de escala y “amor por varie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-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, i = 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71628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10, idem para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0, pa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505320"/>
            <a:ext cx="484200" cy="245880"/>
          </a:xfrm>
          <a:prstGeom prst="rightArrow">
            <a:avLst>
              <a:gd name="adj1" fmla="val 50000"/>
              <a:gd name="adj2" fmla="val 4923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1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 especializado en 1, B especializado en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Trade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 + 0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Autarquí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Autarquí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 +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5120" y="569736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iguales (desarrol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en distribución de Y no 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p 10 Beer Brands US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Light: 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weiser: 16.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s Light: 8.18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Lite: 7.7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ight: 4.0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: 3.7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 Extra: 3.0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 Light: 2.7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High Life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Genuine Draft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op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67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arrels in millions 20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4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Global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57200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362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480" y="2438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25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340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90920" y="266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590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343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9625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1337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mercio intraindu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n México comercio inter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5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rumentos de Polític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s oferta de exportaciones y demanda po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excede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arance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subsidio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anceles: Uniformes o difere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: potencia uso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: fomenta 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lobby y corru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Favore el crecimiento ec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ómico sos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estar: reduce precios para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1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Sector extern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El sector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Balanza Pagos 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. Cuenta corriente = X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. Cuenta de capitales = K*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 es el cambio en reser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ualidad: beneficiosa porque da tiempo para reconversión (reasignación de recursos,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tarda beneficios, da tiempo para lobby de perdedores, reduce credibilidad de la política, cos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iferenci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 incentivos incor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bienes de capital, perjudica a la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aculiza creación de nuev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ueve desarrollo de ndustrias de ensamblaj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bajo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nero, Precios y Tipo de Cambio: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 de cambio (e) es el  precio de una mone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érminos de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aremos: e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precio del dólar en términos de p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valor real realtivo de estas monedas = eP*/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urante los 90s, caída real del dólar = 2%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ño. Japón 5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Tipo de cambi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($/US)(US/canasta USA)/($/canasta Chi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anasta en Chile / canasta en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ones e importaciones = f (R) pero no f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aridad cambiaria =&gt; P = e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ranceles, costos de transporte, cortes de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“Bic Mac parity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4/20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enfoque monetario de la balanza de 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qué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 fijo =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e automático: 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, BP déficit, RI caen, M ca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ta que inflaciones se igua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ipo de cambio fijo: Chile, Méx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5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Paridad financier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dad financi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/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+ (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tanto, si Ks se mueven libremente y 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ambio está fijo (o esperado fijo) 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o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blemas del 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agregadas pero pérdida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o interindustrial aumenta opcione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agregado pero reduce ingreso real de fa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ífico (intensivamente utilizado) en el s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ituidor de impor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ercio intraindustr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teoría”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atos muestra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desarroll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veces, efectos en distribución de Y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8:34Z</dcterms:modified>
  <cp:revision>119</cp:revision>
  <dc:subject/>
  <dc:title>Macroeconomía (Parte 1)                  Banco Central del Perú</dc:title>
</cp:coreProperties>
</file>