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731-27F2-4657-B10F-8BF3A9F5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77D-F3D1-46C1-BBDD-B63D7286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033-CA6D-4239-8124-8640002E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B52-01BC-456F-A417-C78C867F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CDD-DB58-4018-B9C0-D2F431E7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64F-A81C-406C-8267-4AADC7B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486-555B-4971-89AD-76168D9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660-9C58-4FA2-98F8-0DDDA376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C3B-E946-4F6A-82A9-5E90A46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59A-6822-401A-AD77-460C6C1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81E-9255-46E4-AC41-CDF35ED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1D0-A317-4033-A237-18BE1D50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44D-9D21-45ED-9EAA-983F85A0A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Kru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es tecnologías y preferencias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o econ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ías de escala y “amor por varie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-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, i = 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71628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10, idem para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0, pa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484200" cy="245880"/>
          </a:xfrm>
          <a:prstGeom prst="rightArrow">
            <a:avLst>
              <a:gd name="adj1" fmla="val 50000"/>
              <a:gd name="adj2" fmla="val 4923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1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 especializado en 1, B especializado en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Trad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 + 0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Autarquí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Autarquí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5120" y="569736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iguales (desarrol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en distribución de Y no 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p 10 Beer Brands U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Light: 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weiser: 16.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s Light: 8.18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Lite: 7.7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ight: 4.0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: 3.7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 Extra: 3.0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 Light: 2.7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High Life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Genuine Draft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op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67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arrels in millions 20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4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Global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57200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362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2438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25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40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266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625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1337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mercio intraindu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n México comercio inter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5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rumentos de Polític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s oferta de exportaciones y demanda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exced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arance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subsidi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anceles: Uniformes o dif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: potencia uso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: fomenta 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bby y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Favore el crecimiento ec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ómico sos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tar: reduce precios para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1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Sector extern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sector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Balanza Pagos 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. Cuenta corriente = X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. Cuenta de capitales = K*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 es el cambio en reser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ualidad: beneficiosa porque da tiempo para reconversión (reasignación de recursos,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tarda beneficios, da tiempo para lobby de perdedores, reduce credibilidad de la política, cos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iferenci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 incentivos incor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bienes de capital, perjudica a la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aculiza creación de nuev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ueve desarrollo de ndustrias de ensamblaj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bajo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nero, Precios y Tipo de Cambio: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 de cambio (e) es el  precio de una mone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érminos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aremos: e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recio del dólar en términos de p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valor real realtivo de estas monedas = eP*/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urante los 90s, caída real del dólar = 2%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ño. Japón 5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Tipo de cambi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($/US)(US/canasta USA)/($/canasta Chi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anasta en Chile / canasta e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ones e importaciones = f (R) pero no f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aridad cambiaria =&gt; P = e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ranceles, costos de transporte, cortes de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“Bic Mac parity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4/20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enfoque monetario de la balanza de 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qué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 fijo =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e automático: 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, BP déficit, RI caen, M ca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ta que inflaciones se igua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ipo de cambio fijo: Chile, Méx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5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Paridad financier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dad financi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/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+ (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tanto, si Ks se mueven libremente y 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mbio está fijo (o esperado fijo) 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s del 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agregadas pero pérdid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o interindustrial aumenta opcion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agregado pero reduce ingreso real de fa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ífico (intensivamente utilizado) en el s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ituidor de impor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ercio intraindustr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teoría”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muestra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desarroll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veces, efectos en distribución de Y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8:34Z</dcterms:modified>
  <cp:revision>119</cp:revision>
  <dc:subject/>
  <dc:title>Macroeconomía (Parte 1)                  Banco Central del Perú</dc:title>
</cp:coreProperties>
</file>