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2F0C-C105-45F6-A09B-C7E991F4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E40-9B49-469B-AE96-9A959E98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327-2574-4DCE-A16A-582D3055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0E8-1829-4DBF-A263-F3AD1611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20C-FDB9-4FC9-8359-9C3580DC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266-AF1C-48EB-9B97-D538749C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2C22-C280-456D-B130-756991E3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51A-2BF4-46DC-B7B6-ACA8EB18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69A-0856-43C6-8E15-BA06940F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8F6-9840-460A-87A1-D60BFDB4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B62-95F4-4520-9A3D-48CAA3AD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4E1-F7EB-4106-9092-21FBE623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91A8-DD12-4E45-90CE-66CE263A4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gister en Gestión y Dirección de Empresas         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Raphael Bergoe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Primavera,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sió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66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2" marL="1017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Diferencia de Y/N entre país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ongam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3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0,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nología:  Y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Si USA 8 veces más rico que chile, con K/N 4 vec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grande, TFP 5,5 veces más gra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0666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371600" y="3657600"/>
                <a:ext cx="60958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s</m:t>
                                    </m:r>
                                  </m:sup>
                                </m:sSup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s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h</m:t>
                                    </m:r>
                                  </m:sup>
                                </m:sSup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h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s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h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us</m:t>
                                        </m:r>
                                      </m:sup>
                                    </m:sSup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us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h</m:t>
                                        </m:r>
                                      </m:sup>
                                    </m:sSup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h</m:t>
                                        </m:r>
                                      </m:sup>
                                    </m:sSup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57200" y="30492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9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Acumulación o eficiencia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69343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bilidad de crecimien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nología:  Y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0666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76520" y="4191120"/>
                <a:ext cx="69339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57200" y="30492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10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Acumulación o eficiencia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11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Contabilidad crecimiento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34160" cy="31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Raphael Bergoeing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Introducción 12/25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Temas Claves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Ganancia total del comercio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: generalmente aumentan la eficiencia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las opciones de consum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Pero, ganancias sectoriales del comercio: algunos factores produ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pierden. Esto explica grupos anti-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Países grandes pueden alterar precios (términos de intercambio)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restricciones pero costos de guerra comecial no deseado. Acuer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Comerciales pueden dar más poder a países pequeños (para evi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uso de barreras no arancelari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Hay experiencias de proteccionismo transitorio que parecen exit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(Japón, Brasil). Pero costos de lobby no deseados.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8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8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8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8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8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8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8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8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13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Temas Claves</a:t>
            </a: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aracterísticas generales del modelo expor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hile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Los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Características de las 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Com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Algunos ejemplos exitosos: salmón, vino, forestal, frutí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8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8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8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8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8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8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8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8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14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Temas Clav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Modelo Chile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Nivel Exp = US$ 1,1 b en 1970,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US$ 18 b en 2002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% del PIB Exp = 16% en 1970,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40% en 2002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recimiento anual Exp = 10% T, 11% NoCu (85-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iversificac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ón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Exp Cu/T = 80% 1970,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37% 2002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N Emp Exp + 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0m = 40 en 1986,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230 en 2002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2193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15/25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Temas Clav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Modelo Chile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D: 60% RN, 35% R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90% basadas en RN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L: 30% RN, 30% R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312408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16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Temas Clav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102440" cy="492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17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Temas Clav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929280" cy="480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18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Temas Clav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929280" cy="480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Raphael Bergoeing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Introducción 1/25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           Contenido del Curso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Introducción y hechos estili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videncia empírica: comercio y desarrollo económico (datos.p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Temas claves: ganancias sociales y pérdidas privadas; política industr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onceptos claves: TFP, ganancias del comercio, fuentes del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Teorí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Fundamentos: Tipo de cambio y cuenta nac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Teoría de comercio: Ventajas comparativas y comercio intraindustr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Teoría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olítica comercial: aranceles y economía polí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spectos financieros del comercio 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nadores y perdedores: grupos de poder y proteccion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ultilaralismo o regionalismo (Mercosur y Nafta) (chile.pdf)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conomía Regional (regional.pp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bre: Desafíos pendientes. (cobre.ppt)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ercio y crecimiento (Bcentral.pdf, Cep.pdf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83808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19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Temas Clav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Producción y precios: autarquía vs. inter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Modelo 2 bienes, 1 persona, producido es consum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de – of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eno uso de recurs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o de oportunidad (precio rela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952880"/>
            <a:ext cx="585720" cy="292320"/>
          </a:xfrm>
          <a:prstGeom prst="rightArrow">
            <a:avLst>
              <a:gd name="adj1" fmla="val 50000"/>
              <a:gd name="adj2" fmla="val 5009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20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Temas Claves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Gancias de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Modelo 2 bienes, 2 personas (paí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jas comparativas vs. absol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ancias de consu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ncias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+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+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5486400"/>
            <a:ext cx="585720" cy="291960"/>
          </a:xfrm>
          <a:prstGeom prst="rightArrow">
            <a:avLst>
              <a:gd name="adj1" fmla="val 50000"/>
              <a:gd name="adj2" fmla="val 5015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21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Temas Clav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Fuentes de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iferencias en tecnologías: Vino a Canad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iferencias en preferencias: Locos a Jap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22/25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ferencias tecnológica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914400" y="13716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586728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981080"/>
            <a:ext cx="2819520" cy="3886200"/>
          </a:xfrm>
          <a:custGeom>
            <a:avLst/>
            <a:gdLst/>
            <a:ahLst/>
            <a:rect l="l" t="t" r="r" b="b"/>
            <a:pathLst>
              <a:path w="1776" h="2448">
                <a:moveTo>
                  <a:pt x="0" y="0"/>
                </a:moveTo>
                <a:cubicBezTo>
                  <a:pt x="452" y="204"/>
                  <a:pt x="904" y="408"/>
                  <a:pt x="1200" y="816"/>
                </a:cubicBezTo>
                <a:cubicBezTo>
                  <a:pt x="1496" y="1224"/>
                  <a:pt x="1680" y="2176"/>
                  <a:pt x="1776" y="24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1295280"/>
            <a:ext cx="457200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autarquí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&gt;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comerci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&gt;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be en R (exp) y cae en A (i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914400" y="2743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27432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4038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914040" y="41148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5867280"/>
            <a:ext cx="190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93680" y="5904000"/>
            <a:ext cx="1081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438280"/>
            <a:ext cx="8542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962520"/>
            <a:ext cx="774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560" y="5904000"/>
            <a:ext cx="77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480" y="1219320"/>
            <a:ext cx="77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429000"/>
            <a:ext cx="6019920" cy="2438280"/>
          </a:xfrm>
          <a:custGeom>
            <a:avLst/>
            <a:gdLst/>
            <a:ahLst/>
            <a:rect l="l" t="t" r="r" b="b"/>
            <a:pathLst>
              <a:path w="3792" h="1536">
                <a:moveTo>
                  <a:pt x="0" y="0"/>
                </a:moveTo>
                <a:cubicBezTo>
                  <a:pt x="740" y="88"/>
                  <a:pt x="1480" y="176"/>
                  <a:pt x="2112" y="432"/>
                </a:cubicBezTo>
                <a:cubicBezTo>
                  <a:pt x="2744" y="688"/>
                  <a:pt x="3512" y="1352"/>
                  <a:pt x="3792" y="1536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4760" y="441972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tilidad con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772400" y="5028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133720"/>
            <a:ext cx="3808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133720"/>
            <a:ext cx="0" cy="373356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1676520"/>
            <a:ext cx="6477120" cy="3657600"/>
          </a:xfrm>
          <a:custGeom>
            <a:avLst/>
            <a:gdLst/>
            <a:ahLst/>
            <a:rect l="l" t="t" r="r" b="b"/>
            <a:pathLst>
              <a:path w="4080" h="2304">
                <a:moveTo>
                  <a:pt x="0" y="0"/>
                </a:moveTo>
                <a:cubicBezTo>
                  <a:pt x="172" y="184"/>
                  <a:pt x="344" y="368"/>
                  <a:pt x="672" y="624"/>
                </a:cubicBezTo>
                <a:cubicBezTo>
                  <a:pt x="1000" y="880"/>
                  <a:pt x="1400" y="1256"/>
                  <a:pt x="1968" y="1536"/>
                </a:cubicBezTo>
                <a:cubicBezTo>
                  <a:pt x="2536" y="1816"/>
                  <a:pt x="3308" y="2060"/>
                  <a:pt x="4080" y="23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1523880"/>
            <a:ext cx="6477120" cy="3657600"/>
          </a:xfrm>
          <a:custGeom>
            <a:avLst/>
            <a:gdLst/>
            <a:ahLst/>
            <a:rect l="l" t="t" r="r" b="b"/>
            <a:pathLst>
              <a:path w="4080" h="2304">
                <a:moveTo>
                  <a:pt x="0" y="0"/>
                </a:moveTo>
                <a:cubicBezTo>
                  <a:pt x="172" y="184"/>
                  <a:pt x="344" y="368"/>
                  <a:pt x="672" y="624"/>
                </a:cubicBezTo>
                <a:cubicBezTo>
                  <a:pt x="1000" y="880"/>
                  <a:pt x="1400" y="1256"/>
                  <a:pt x="1968" y="1536"/>
                </a:cubicBezTo>
                <a:cubicBezTo>
                  <a:pt x="2536" y="1816"/>
                  <a:pt x="3308" y="2060"/>
                  <a:pt x="4080" y="23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4952880"/>
            <a:ext cx="0" cy="91440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14040" y="4876920"/>
            <a:ext cx="47242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8880" y="1865160"/>
            <a:ext cx="601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71000" y="5979960"/>
            <a:ext cx="601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9240" y="4761000"/>
            <a:ext cx="60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7040" y="5904000"/>
            <a:ext cx="60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3505320"/>
            <a:ext cx="0" cy="236196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914400" y="3505320"/>
            <a:ext cx="274320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99760" y="5943600"/>
            <a:ext cx="822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5800" y="3236760"/>
            <a:ext cx="822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23/25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ferencias en preferencia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914400" y="13716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86728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1143000"/>
            <a:ext cx="403848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autarquí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&gt;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comerci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&gt;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be en R (exp) y cae en A (i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990360" y="25909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4114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914400" y="41148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5943600"/>
            <a:ext cx="137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61800" y="5943600"/>
            <a:ext cx="1081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2362320"/>
            <a:ext cx="8542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3809880"/>
            <a:ext cx="774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62560" y="5904000"/>
            <a:ext cx="77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480" y="1219320"/>
            <a:ext cx="77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4760" y="441972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tilidad con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010280" y="51055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981080"/>
            <a:ext cx="99072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1981080"/>
            <a:ext cx="0" cy="396252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4495680"/>
            <a:ext cx="0" cy="137160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990720" y="4495680"/>
            <a:ext cx="49528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9600" y="1865160"/>
            <a:ext cx="58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68440" y="5943600"/>
            <a:ext cx="58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5440" y="4572000"/>
            <a:ext cx="59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11840" y="5943600"/>
            <a:ext cx="59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048120"/>
            <a:ext cx="0" cy="281916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914040" y="3124080"/>
            <a:ext cx="297180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51320" y="5943600"/>
            <a:ext cx="835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8640" y="3048120"/>
            <a:ext cx="835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2514600"/>
            <a:ext cx="5105520" cy="3352680"/>
          </a:xfrm>
          <a:custGeom>
            <a:avLst/>
            <a:gdLst/>
            <a:ahLst/>
            <a:rect l="l" t="t" r="r" b="b"/>
            <a:pathLst>
              <a:path w="3216" h="2112">
                <a:moveTo>
                  <a:pt x="0" y="0"/>
                </a:moveTo>
                <a:cubicBezTo>
                  <a:pt x="692" y="16"/>
                  <a:pt x="1384" y="32"/>
                  <a:pt x="1920" y="384"/>
                </a:cubicBezTo>
                <a:cubicBezTo>
                  <a:pt x="2456" y="736"/>
                  <a:pt x="2836" y="1424"/>
                  <a:pt x="3216" y="21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1447920"/>
            <a:ext cx="3962160" cy="1269720"/>
          </a:xfrm>
          <a:custGeom>
            <a:avLst/>
            <a:gdLst/>
            <a:ahLst/>
            <a:rect l="l" t="t" r="r" b="b"/>
            <a:pathLst>
              <a:path w="2496" h="800">
                <a:moveTo>
                  <a:pt x="0" y="0"/>
                </a:moveTo>
                <a:cubicBezTo>
                  <a:pt x="152" y="272"/>
                  <a:pt x="304" y="544"/>
                  <a:pt x="720" y="672"/>
                </a:cubicBezTo>
                <a:cubicBezTo>
                  <a:pt x="1136" y="800"/>
                  <a:pt x="1816" y="784"/>
                  <a:pt x="2496" y="7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2286000"/>
            <a:ext cx="2819160" cy="3276720"/>
          </a:xfrm>
          <a:custGeom>
            <a:avLst/>
            <a:gdLst/>
            <a:ahLst/>
            <a:rect l="l" t="t" r="r" b="b"/>
            <a:pathLst>
              <a:path w="1776" h="2064">
                <a:moveTo>
                  <a:pt x="0" y="0"/>
                </a:moveTo>
                <a:cubicBezTo>
                  <a:pt x="116" y="452"/>
                  <a:pt x="232" y="904"/>
                  <a:pt x="528" y="1248"/>
                </a:cubicBezTo>
                <a:cubicBezTo>
                  <a:pt x="824" y="1592"/>
                  <a:pt x="1300" y="1828"/>
                  <a:pt x="1776" y="2064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1168560"/>
            <a:ext cx="3962520" cy="1269720"/>
          </a:xfrm>
          <a:custGeom>
            <a:avLst/>
            <a:gdLst/>
            <a:ahLst/>
            <a:rect l="l" t="t" r="r" b="b"/>
            <a:pathLst>
              <a:path w="2496" h="800">
                <a:moveTo>
                  <a:pt x="0" y="0"/>
                </a:moveTo>
                <a:cubicBezTo>
                  <a:pt x="152" y="272"/>
                  <a:pt x="304" y="544"/>
                  <a:pt x="720" y="672"/>
                </a:cubicBezTo>
                <a:cubicBezTo>
                  <a:pt x="1136" y="800"/>
                  <a:pt x="1816" y="784"/>
                  <a:pt x="2496" y="7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1828800"/>
            <a:ext cx="2819520" cy="3276720"/>
          </a:xfrm>
          <a:custGeom>
            <a:avLst/>
            <a:gdLst/>
            <a:ahLst/>
            <a:rect l="l" t="t" r="r" b="b"/>
            <a:pathLst>
              <a:path w="1776" h="2064">
                <a:moveTo>
                  <a:pt x="0" y="0"/>
                </a:moveTo>
                <a:cubicBezTo>
                  <a:pt x="116" y="452"/>
                  <a:pt x="232" y="904"/>
                  <a:pt x="528" y="1248"/>
                </a:cubicBezTo>
                <a:cubicBezTo>
                  <a:pt x="824" y="1592"/>
                  <a:pt x="1300" y="1828"/>
                  <a:pt x="1776" y="2064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219320" y="13712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4160" y="129528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tilidad con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0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24/25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Ganancia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914400" y="13716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586728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1143000"/>
            <a:ext cx="40384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país exporta bien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comerc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1(Q1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C1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2(C2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Q2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9140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96200" y="5943600"/>
            <a:ext cx="904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2362320"/>
            <a:ext cx="8542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2560" y="5904000"/>
            <a:ext cx="77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480" y="1219320"/>
            <a:ext cx="77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981080"/>
            <a:ext cx="19810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3581280"/>
            <a:ext cx="0" cy="228600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3120" y="1865160"/>
            <a:ext cx="49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14040" y="3505320"/>
            <a:ext cx="350532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12400" y="5943600"/>
            <a:ext cx="535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5840" y="3276720"/>
            <a:ext cx="54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2514600"/>
            <a:ext cx="5105520" cy="3352680"/>
          </a:xfrm>
          <a:custGeom>
            <a:avLst/>
            <a:gdLst/>
            <a:ahLst/>
            <a:rect l="l" t="t" r="r" b="b"/>
            <a:pathLst>
              <a:path w="3216" h="2112">
                <a:moveTo>
                  <a:pt x="0" y="0"/>
                </a:moveTo>
                <a:cubicBezTo>
                  <a:pt x="692" y="16"/>
                  <a:pt x="1384" y="32"/>
                  <a:pt x="1920" y="384"/>
                </a:cubicBezTo>
                <a:cubicBezTo>
                  <a:pt x="2456" y="736"/>
                  <a:pt x="2836" y="1424"/>
                  <a:pt x="3216" y="21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1549440"/>
            <a:ext cx="3962160" cy="1270080"/>
          </a:xfrm>
          <a:custGeom>
            <a:avLst/>
            <a:gdLst/>
            <a:ahLst/>
            <a:rect l="l" t="t" r="r" b="b"/>
            <a:pathLst>
              <a:path w="2496" h="800">
                <a:moveTo>
                  <a:pt x="0" y="0"/>
                </a:moveTo>
                <a:cubicBezTo>
                  <a:pt x="152" y="272"/>
                  <a:pt x="304" y="544"/>
                  <a:pt x="720" y="672"/>
                </a:cubicBezTo>
                <a:cubicBezTo>
                  <a:pt x="1136" y="800"/>
                  <a:pt x="1816" y="784"/>
                  <a:pt x="2496" y="7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905120" y="13712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2209680"/>
            <a:ext cx="48769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1600200"/>
            <a:ext cx="419112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244520"/>
            <a:ext cx="3962160" cy="1270080"/>
          </a:xfrm>
          <a:custGeom>
            <a:avLst/>
            <a:gdLst/>
            <a:ahLst/>
            <a:rect l="l" t="t" r="r" b="b"/>
            <a:pathLst>
              <a:path w="2496" h="800">
                <a:moveTo>
                  <a:pt x="0" y="0"/>
                </a:moveTo>
                <a:cubicBezTo>
                  <a:pt x="152" y="272"/>
                  <a:pt x="304" y="544"/>
                  <a:pt x="720" y="672"/>
                </a:cubicBezTo>
                <a:cubicBezTo>
                  <a:pt x="1136" y="800"/>
                  <a:pt x="1816" y="784"/>
                  <a:pt x="2496" y="7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1981080"/>
            <a:ext cx="0" cy="3886200"/>
          </a:xfrm>
          <a:prstGeom prst="line">
            <a:avLst/>
          </a:prstGeom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70960" y="5943600"/>
            <a:ext cx="549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60760" y="495288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P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Teoría I 25/25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Ventajas Comparativas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síntes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fuente tradicional de comercio es la diferencia en precios autárquicos entre países. Estos pueden diferir por distintas tecnologías o preferencias. El país que tiene el precio relativo más bajo exporta ese bien e importa el otro. Con comercio el precio del bien exportado aumenta. La producción doméstica del bien exportado aumenta y su consumo doméstico ca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bienestar aumenta en ambos paí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2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Exigencias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lo: clase diversa, curso inten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ción: fund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de apo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untes y bibli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 de la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ea (40%): Teoría y lecturas: grupos de 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en (60%): Apl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3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Evidencia Empírica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Hechos estili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íses desarrollados y en desarrollo (Latinwatch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to y largo plaz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hile: 1960 /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cimiento, inf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éficit fis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érminos de inter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4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Evidencia Empírica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133720" y="16765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52578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454560"/>
            <a:ext cx="5181480" cy="1726920"/>
          </a:xfrm>
          <a:custGeom>
            <a:avLst/>
            <a:gdLst/>
            <a:ahLst/>
            <a:rect l="l" t="t" r="r" b="b"/>
            <a:pathLst>
              <a:path w="3264" h="1088">
                <a:moveTo>
                  <a:pt x="0" y="1088"/>
                </a:moveTo>
                <a:cubicBezTo>
                  <a:pt x="188" y="624"/>
                  <a:pt x="376" y="160"/>
                  <a:pt x="672" y="80"/>
                </a:cubicBezTo>
                <a:cubicBezTo>
                  <a:pt x="968" y="0"/>
                  <a:pt x="1344" y="520"/>
                  <a:pt x="1776" y="608"/>
                </a:cubicBezTo>
                <a:cubicBezTo>
                  <a:pt x="2208" y="696"/>
                  <a:pt x="3016" y="608"/>
                  <a:pt x="3264" y="6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9840" y="141120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99360" y="545004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5/25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Evidencia Empírica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34240" cy="377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6/25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Evidencia Empírica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imes New Roman"/>
              </a:rPr>
              <a:t>Desarrollo econó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Kal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Datos chilenos y regularidades inter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Riqueza y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Fuentes del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imes New Roman"/>
              </a:rPr>
              <a:t>Ciclo econó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Kydland y Pres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Datos chilenos y regularidades inter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 Datos.pd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5943600"/>
            <a:ext cx="539640" cy="274680"/>
          </a:xfrm>
          <a:prstGeom prst="rightArrow">
            <a:avLst>
              <a:gd name="adj1" fmla="val 50000"/>
              <a:gd name="adj2" fmla="val 4911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7/25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Conceptos clave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Conceptos Clave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GB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v/s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cimiento v/s n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o v/s per-cap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bienest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entas nacional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GB (100) = C(64)+I(23)+G(12)+X(25)-M(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- I = Cta.C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8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Temas Clav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Comercio: ciclo y 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ntes del cic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r qué suaviz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Rol de la política macroeconóm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fecto del 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Qué explica las diferencias en Y/N? (en t y en t+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iciencia y acum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formas estruc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Grupos de p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fecto del 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3T16:31:56Z</dcterms:created>
  <dc:creator>Paul D. McNelis</dc:creator>
  <dc:description/>
  <dc:language>en-US</dc:language>
  <cp:lastModifiedBy>Dany</cp:lastModifiedBy>
  <cp:lastPrinted>1999-01-04T20:30:38Z</cp:lastPrinted>
  <dcterms:modified xsi:type="dcterms:W3CDTF">2004-08-23T20:32:35Z</dcterms:modified>
  <cp:revision>147</cp:revision>
  <dc:subject/>
  <dc:title>Macroeconomía (Parte 1)                  Banco Central del Perú</dc:title>
</cp:coreProperties>
</file>