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36A-F676-406A-A3C2-78F7EA99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F29-A387-46C2-88E0-16166D79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4DA6-9977-4501-BEE3-614721CE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43F-5004-4F4B-8E40-73F685C5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326-186C-44CD-BEE4-10B2E32E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38B-2654-412B-8457-93B2AC23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8C6-5217-4205-A9A5-3FF3F1F9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5DAF-170B-4D8D-8437-61868222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2F9-C671-4408-B2AC-1DDAA2D8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431-6955-48A5-8427-66A61531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2C4-CE5B-466E-83E7-90DB3797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AA5-BE47-46B5-9380-FE481A51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38CC-3DD1-40B8-87D3-6764C75B6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ister en Gestión y Dirección de Empresas         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Raphael Bergoe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Primavera,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sió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066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2" marL="1017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Diferencia de Y/N entre país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ongamo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0,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nología:  Y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i USA 8 veces más rico que chile, con K/N 4 vec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grande, TFP 5,5 veces más gra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371600" y="3657600"/>
                <a:ext cx="60958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s</m:t>
                                    </m:r>
                                  </m:sup>
                                </m:sSup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s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h</m:t>
                                    </m:r>
                                  </m:sup>
                                </m:sSup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h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us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h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s</m:t>
                                        </m:r>
                                      </m:sup>
                                    </m:sSup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us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h</m:t>
                                        </m:r>
                                      </m:sup>
                                    </m:sSup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h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457200" y="30492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9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Acumulación o eficiencia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69343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bilidad de crecimien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nología:  Y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0666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76520" y="4191120"/>
                <a:ext cx="69339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457200" y="30492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0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Acumulación o eficiencia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1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Contabilidad crecimiento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534160" cy="311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Raphael Bergoeing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Introducción 12/25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Temas Claves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Ganancia total del comercio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: generalmente aumentan la eficiencia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las opciones de consumi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Pero, ganancias sectoriales del comercio: algunos factores produ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pierden. Esto explica grupos anti-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Países grandes pueden alterar precios (términos de intercambio) 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stricciones pero costos de guerra comecial no deseado. Acuer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Comerciales pueden dar más poder a países pequeños (para evi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uso de barreras no arancelari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Hay experiencias de proteccionismo transitorio que parecen exit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(Japón, Brasil). Pero costos de lobby no deseados. 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8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8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0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0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3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aracterísticas generales del modelo expor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hile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Los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Características de las 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Compos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Algunos ejemplos exitosos: salmón, vino, forestal, frutí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8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8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8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8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82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8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4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Modelo Chile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Nivel Exp = US$ 1,1 b en 1970,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US$ 18 b en 2002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% del PIB Exp = 16% en 1970,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40% en 2002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recimiento anual Exp = 10% T, 11% NoCu (85-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iversificac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ón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Exp Cu/T = 80% 1970,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37% 2002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N Emp Exp + 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0m = 40 en 1986,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230 en 2002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2193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5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Modelo Chile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D: 60% RN, 35% R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90% basadas en RN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L: 30% RN, 30% R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95680" y="31240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6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102440" cy="492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7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929280" cy="48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8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29280" cy="480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Raphael Bergoeing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Introducción 1/25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        Contenido del Curso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Introducción y hechos estiliz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videncia empírica: comercio y desarrollo económico (datos.p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Temas claves: ganancias sociales y pérdidas privadas; política industr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nceptos claves: TFP, ganancias del comercio, fuentes del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Teorí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Fundamentos: Tipo de cambio y cuenta nacio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Teoría de comercio: Ventajas comparativas y comercio intraindustr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Teoría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olítica comercial: aranceles y economía pol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Aspectos financieros del comercio inter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dores y perdedores: grupos de poder y proteccioni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ultilaralismo o regionalismo (Mercosur y Nafta) (chile.pdf)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onomía Regional (regional.pp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bre: Desafíos pendientes. (cobre.ppt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ercio y crecimiento (Bcentral.pdf, Cep.pdf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8380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19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Producción y precios: autarquía vs. inter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Modelo 2 bienes, 1 persona, producido es consum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de – of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eno uso de recurs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o de oportunidad (precio rela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952880"/>
            <a:ext cx="585720" cy="292320"/>
          </a:xfrm>
          <a:prstGeom prst="rightArrow">
            <a:avLst>
              <a:gd name="adj1" fmla="val 50000"/>
              <a:gd name="adj2" fmla="val 5009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20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Gancias de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Modelo 2 bienes, 2 personas (paí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ajas comparativas vs. absol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ancias de consu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ncias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 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+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+ 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5486400"/>
            <a:ext cx="585720" cy="291960"/>
          </a:xfrm>
          <a:prstGeom prst="rightArrow">
            <a:avLst>
              <a:gd name="adj1" fmla="val 50000"/>
              <a:gd name="adj2" fmla="val 5015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0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21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Fuentes de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iferencias en tecnologías: Vino a 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Diferencias en preferencias: Locos a Jap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1430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22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ferencias tecnológica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914400" y="13716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586728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981080"/>
            <a:ext cx="2819520" cy="3886200"/>
          </a:xfrm>
          <a:custGeom>
            <a:avLst/>
            <a:gdLst/>
            <a:ahLst/>
            <a:rect l="l" t="t" r="r" b="b"/>
            <a:pathLst>
              <a:path w="1776" h="2448">
                <a:moveTo>
                  <a:pt x="0" y="0"/>
                </a:moveTo>
                <a:cubicBezTo>
                  <a:pt x="452" y="204"/>
                  <a:pt x="904" y="408"/>
                  <a:pt x="1200" y="816"/>
                </a:cubicBezTo>
                <a:cubicBezTo>
                  <a:pt x="1496" y="1224"/>
                  <a:pt x="1680" y="2176"/>
                  <a:pt x="1776" y="24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1295280"/>
            <a:ext cx="457200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autarquí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&gt;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comerci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&gt;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be en R (exp) y cae en A (i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14400" y="2743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27432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4038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91404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5867280"/>
            <a:ext cx="1905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93680" y="5904000"/>
            <a:ext cx="1081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438280"/>
            <a:ext cx="8542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962520"/>
            <a:ext cx="774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62560" y="5904000"/>
            <a:ext cx="77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480" y="1219320"/>
            <a:ext cx="77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429000"/>
            <a:ext cx="6019920" cy="2438280"/>
          </a:xfrm>
          <a:custGeom>
            <a:avLst/>
            <a:gdLst/>
            <a:ahLst/>
            <a:rect l="l" t="t" r="r" b="b"/>
            <a:pathLst>
              <a:path w="3792" h="1536">
                <a:moveTo>
                  <a:pt x="0" y="0"/>
                </a:moveTo>
                <a:cubicBezTo>
                  <a:pt x="740" y="88"/>
                  <a:pt x="1480" y="176"/>
                  <a:pt x="2112" y="432"/>
                </a:cubicBezTo>
                <a:cubicBezTo>
                  <a:pt x="2744" y="688"/>
                  <a:pt x="3512" y="1352"/>
                  <a:pt x="3792" y="1536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4760" y="44197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tilidad con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772400" y="5028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133720"/>
            <a:ext cx="380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133720"/>
            <a:ext cx="0" cy="373356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1676520"/>
            <a:ext cx="6477120" cy="3657600"/>
          </a:xfrm>
          <a:custGeom>
            <a:avLst/>
            <a:gdLst/>
            <a:ahLst/>
            <a:rect l="l" t="t" r="r" b="b"/>
            <a:pathLst>
              <a:path w="4080" h="2304">
                <a:moveTo>
                  <a:pt x="0" y="0"/>
                </a:moveTo>
                <a:cubicBezTo>
                  <a:pt x="172" y="184"/>
                  <a:pt x="344" y="368"/>
                  <a:pt x="672" y="624"/>
                </a:cubicBezTo>
                <a:cubicBezTo>
                  <a:pt x="1000" y="880"/>
                  <a:pt x="1400" y="1256"/>
                  <a:pt x="1968" y="1536"/>
                </a:cubicBezTo>
                <a:cubicBezTo>
                  <a:pt x="2536" y="1816"/>
                  <a:pt x="3308" y="2060"/>
                  <a:pt x="4080" y="23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1523880"/>
            <a:ext cx="6477120" cy="3657600"/>
          </a:xfrm>
          <a:custGeom>
            <a:avLst/>
            <a:gdLst/>
            <a:ahLst/>
            <a:rect l="l" t="t" r="r" b="b"/>
            <a:pathLst>
              <a:path w="4080" h="2304">
                <a:moveTo>
                  <a:pt x="0" y="0"/>
                </a:moveTo>
                <a:cubicBezTo>
                  <a:pt x="172" y="184"/>
                  <a:pt x="344" y="368"/>
                  <a:pt x="672" y="624"/>
                </a:cubicBezTo>
                <a:cubicBezTo>
                  <a:pt x="1000" y="880"/>
                  <a:pt x="1400" y="1256"/>
                  <a:pt x="1968" y="1536"/>
                </a:cubicBezTo>
                <a:cubicBezTo>
                  <a:pt x="2536" y="1816"/>
                  <a:pt x="3308" y="2060"/>
                  <a:pt x="4080" y="23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4952880"/>
            <a:ext cx="0" cy="91440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14040" y="4876920"/>
            <a:ext cx="47242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8880" y="1865160"/>
            <a:ext cx="60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71000" y="5979960"/>
            <a:ext cx="60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9240" y="4761000"/>
            <a:ext cx="60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7040" y="5904000"/>
            <a:ext cx="60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3505320"/>
            <a:ext cx="0" cy="236196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914400" y="3505320"/>
            <a:ext cx="274320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99760" y="5943600"/>
            <a:ext cx="822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5800" y="3236760"/>
            <a:ext cx="822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23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ferencias en preferencia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914400" y="13716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86728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1143000"/>
            <a:ext cx="403848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autarquí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&gt;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comerci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&gt;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be en R (exp) y cae en A (i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990360" y="25909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114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914400" y="41148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5943600"/>
            <a:ext cx="137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61800" y="5943600"/>
            <a:ext cx="1081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2362320"/>
            <a:ext cx="85428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3809880"/>
            <a:ext cx="774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2560" y="5904000"/>
            <a:ext cx="77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80" y="1219320"/>
            <a:ext cx="77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4760" y="441972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tilidad con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010280" y="51055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81080"/>
            <a:ext cx="9907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1981080"/>
            <a:ext cx="0" cy="396252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4495680"/>
            <a:ext cx="0" cy="137160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990720" y="4495680"/>
            <a:ext cx="49528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9600" y="1865160"/>
            <a:ext cx="58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68440" y="5943600"/>
            <a:ext cx="58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5440" y="457200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11840" y="5943600"/>
            <a:ext cx="59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3048120"/>
            <a:ext cx="0" cy="281916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914040" y="3124080"/>
            <a:ext cx="297180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51320" y="5943600"/>
            <a:ext cx="835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8640" y="3048120"/>
            <a:ext cx="835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A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2514600"/>
            <a:ext cx="5105520" cy="3352680"/>
          </a:xfrm>
          <a:custGeom>
            <a:avLst/>
            <a:gdLst/>
            <a:ahLst/>
            <a:rect l="l" t="t" r="r" b="b"/>
            <a:pathLst>
              <a:path w="3216" h="2112">
                <a:moveTo>
                  <a:pt x="0" y="0"/>
                </a:moveTo>
                <a:cubicBezTo>
                  <a:pt x="692" y="16"/>
                  <a:pt x="1384" y="32"/>
                  <a:pt x="1920" y="384"/>
                </a:cubicBezTo>
                <a:cubicBezTo>
                  <a:pt x="2456" y="736"/>
                  <a:pt x="2836" y="1424"/>
                  <a:pt x="3216" y="21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1447920"/>
            <a:ext cx="3962160" cy="1269720"/>
          </a:xfrm>
          <a:custGeom>
            <a:avLst/>
            <a:gdLst/>
            <a:ahLst/>
            <a:rect l="l" t="t" r="r" b="b"/>
            <a:pathLst>
              <a:path w="2496" h="800">
                <a:moveTo>
                  <a:pt x="0" y="0"/>
                </a:moveTo>
                <a:cubicBezTo>
                  <a:pt x="152" y="272"/>
                  <a:pt x="304" y="544"/>
                  <a:pt x="720" y="672"/>
                </a:cubicBezTo>
                <a:cubicBezTo>
                  <a:pt x="1136" y="800"/>
                  <a:pt x="1816" y="784"/>
                  <a:pt x="2496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2286000"/>
            <a:ext cx="2819160" cy="3276720"/>
          </a:xfrm>
          <a:custGeom>
            <a:avLst/>
            <a:gdLst/>
            <a:ahLst/>
            <a:rect l="l" t="t" r="r" b="b"/>
            <a:pathLst>
              <a:path w="1776" h="2064">
                <a:moveTo>
                  <a:pt x="0" y="0"/>
                </a:moveTo>
                <a:cubicBezTo>
                  <a:pt x="116" y="452"/>
                  <a:pt x="232" y="904"/>
                  <a:pt x="528" y="1248"/>
                </a:cubicBezTo>
                <a:cubicBezTo>
                  <a:pt x="824" y="1592"/>
                  <a:pt x="1300" y="1828"/>
                  <a:pt x="1776" y="2064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1168560"/>
            <a:ext cx="3962520" cy="1269720"/>
          </a:xfrm>
          <a:custGeom>
            <a:avLst/>
            <a:gdLst/>
            <a:ahLst/>
            <a:rect l="l" t="t" r="r" b="b"/>
            <a:pathLst>
              <a:path w="2496" h="800">
                <a:moveTo>
                  <a:pt x="0" y="0"/>
                </a:moveTo>
                <a:cubicBezTo>
                  <a:pt x="152" y="272"/>
                  <a:pt x="304" y="544"/>
                  <a:pt x="720" y="672"/>
                </a:cubicBezTo>
                <a:cubicBezTo>
                  <a:pt x="1136" y="800"/>
                  <a:pt x="1816" y="784"/>
                  <a:pt x="2496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1828800"/>
            <a:ext cx="2819520" cy="3276720"/>
          </a:xfrm>
          <a:custGeom>
            <a:avLst/>
            <a:gdLst/>
            <a:ahLst/>
            <a:rect l="l" t="t" r="r" b="b"/>
            <a:pathLst>
              <a:path w="1776" h="2064">
                <a:moveTo>
                  <a:pt x="0" y="0"/>
                </a:moveTo>
                <a:cubicBezTo>
                  <a:pt x="116" y="452"/>
                  <a:pt x="232" y="904"/>
                  <a:pt x="528" y="1248"/>
                </a:cubicBezTo>
                <a:cubicBezTo>
                  <a:pt x="824" y="1592"/>
                  <a:pt x="1300" y="1828"/>
                  <a:pt x="1776" y="2064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219320" y="13712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4160" y="129528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tilidad con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0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eoría I 24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Ganancia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914400" y="137160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586728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1143000"/>
            <a:ext cx="40384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país exporta bien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/ 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 comerc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1(Q1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C1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2(C2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Q2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9140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6200" y="5943600"/>
            <a:ext cx="904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2362320"/>
            <a:ext cx="854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62560" y="5904000"/>
            <a:ext cx="77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480" y="1219320"/>
            <a:ext cx="77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81080"/>
            <a:ext cx="198108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3581280"/>
            <a:ext cx="0" cy="228600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3120" y="1865160"/>
            <a:ext cx="49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14040" y="3505320"/>
            <a:ext cx="3505320" cy="0"/>
          </a:xfrm>
          <a:prstGeom prst="line">
            <a:avLst/>
          </a:prstGeom>
          <a:ln cap="rnd" w="936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12400" y="5943600"/>
            <a:ext cx="5356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5840" y="3276720"/>
            <a:ext cx="54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2514600"/>
            <a:ext cx="5105520" cy="3352680"/>
          </a:xfrm>
          <a:custGeom>
            <a:avLst/>
            <a:gdLst/>
            <a:ahLst/>
            <a:rect l="l" t="t" r="r" b="b"/>
            <a:pathLst>
              <a:path w="3216" h="2112">
                <a:moveTo>
                  <a:pt x="0" y="0"/>
                </a:moveTo>
                <a:cubicBezTo>
                  <a:pt x="692" y="16"/>
                  <a:pt x="1384" y="32"/>
                  <a:pt x="1920" y="384"/>
                </a:cubicBezTo>
                <a:cubicBezTo>
                  <a:pt x="2456" y="736"/>
                  <a:pt x="2836" y="1424"/>
                  <a:pt x="3216" y="21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1549440"/>
            <a:ext cx="3962160" cy="1270080"/>
          </a:xfrm>
          <a:custGeom>
            <a:avLst/>
            <a:gdLst/>
            <a:ahLst/>
            <a:rect l="l" t="t" r="r" b="b"/>
            <a:pathLst>
              <a:path w="2496" h="800">
                <a:moveTo>
                  <a:pt x="0" y="0"/>
                </a:moveTo>
                <a:cubicBezTo>
                  <a:pt x="152" y="272"/>
                  <a:pt x="304" y="544"/>
                  <a:pt x="720" y="672"/>
                </a:cubicBezTo>
                <a:cubicBezTo>
                  <a:pt x="1136" y="800"/>
                  <a:pt x="1816" y="784"/>
                  <a:pt x="2496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905120" y="13712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2209680"/>
            <a:ext cx="48769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1600200"/>
            <a:ext cx="419112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244520"/>
            <a:ext cx="3962160" cy="1270080"/>
          </a:xfrm>
          <a:custGeom>
            <a:avLst/>
            <a:gdLst/>
            <a:ahLst/>
            <a:rect l="l" t="t" r="r" b="b"/>
            <a:pathLst>
              <a:path w="2496" h="800">
                <a:moveTo>
                  <a:pt x="0" y="0"/>
                </a:moveTo>
                <a:cubicBezTo>
                  <a:pt x="152" y="272"/>
                  <a:pt x="304" y="544"/>
                  <a:pt x="720" y="672"/>
                </a:cubicBezTo>
                <a:cubicBezTo>
                  <a:pt x="1136" y="800"/>
                  <a:pt x="1816" y="784"/>
                  <a:pt x="2496" y="76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1981080"/>
            <a:ext cx="0" cy="3886200"/>
          </a:xfrm>
          <a:prstGeom prst="line">
            <a:avLst/>
          </a:prstGeom>
          <a:ln w="936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70960" y="5943600"/>
            <a:ext cx="549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60760" y="49528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P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Teoría I 25/25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         Ventajas Comparativas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sínte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fuente tradicional de comercio es la diferencia en precios autárquicos entre países. Estos pueden diferir por distintas tecnologías o preferencias. El país que tiene el precio relativo más bajo exporta ese bien e importa el otro. Con comercio el precio del bien exportado aumenta. La producción doméstica del bien exportado aumenta y su consumo doméstico ca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bienestar aumenta en ambos paí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2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Exigencias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lo: clase diversa, curso inten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: fund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de apoy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untes y bibl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de la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f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ea (40%): Teoría y lecturas: grupos de 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en (60%): Apl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3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Evidencia Empírica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Hechos estil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es desarrollados y en desarrollo (Latinwatch 200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to y largo plaz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hile: 1960 /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imiento, inf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éficit fi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rminos de inter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4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Evidencia Empírica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133720" y="16765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525780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454560"/>
            <a:ext cx="5181480" cy="1726920"/>
          </a:xfrm>
          <a:custGeom>
            <a:avLst/>
            <a:gdLst/>
            <a:ahLst/>
            <a:rect l="l" t="t" r="r" b="b"/>
            <a:pathLst>
              <a:path w="3264" h="1088">
                <a:moveTo>
                  <a:pt x="0" y="1088"/>
                </a:moveTo>
                <a:cubicBezTo>
                  <a:pt x="188" y="624"/>
                  <a:pt x="376" y="160"/>
                  <a:pt x="672" y="80"/>
                </a:cubicBezTo>
                <a:cubicBezTo>
                  <a:pt x="968" y="0"/>
                  <a:pt x="1344" y="520"/>
                  <a:pt x="1776" y="608"/>
                </a:cubicBezTo>
                <a:cubicBezTo>
                  <a:pt x="2208" y="696"/>
                  <a:pt x="3016" y="608"/>
                  <a:pt x="3264" y="6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9840" y="14112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99360" y="545004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5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Evidencia Empírica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34240" cy="37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6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Evidencia Empírica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imes New Roman"/>
              </a:rPr>
              <a:t>Desarrollo econó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Kal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Datos chilenos y regularidade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Riqueza y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Fuentes del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Times New Roman"/>
              </a:rPr>
              <a:t>Ciclo econó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Kydland y Presco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Datos chilenos y regularidade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r Datos.pd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5943600"/>
            <a:ext cx="539640" cy="274680"/>
          </a:xfrm>
          <a:prstGeom prst="rightArrow">
            <a:avLst>
              <a:gd name="adj1" fmla="val 50000"/>
              <a:gd name="adj2" fmla="val 491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7/25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Conceptos clave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Conceptos Clave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GB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v/s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cimiento v/s ni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o v/s per-cap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¿bienest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entas nacional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GB (100) = C(64)+I(23)+G(12)+X(25)-M(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- I = Cta.C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ópicos de Economía Mundial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                Raphael Bergoeing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troducción 8/25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           Temas Clave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Comercio: ciclo y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antes del cic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é suaviz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Rol de la política macroeconóm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fecto del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Qué explica las diferencias en Y/N? (en t y en t+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iciencia y acum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formas estruc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Grupos de po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fecto del 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3T16:31:56Z</dcterms:created>
  <dc:creator>Paul D. McNelis</dc:creator>
  <dc:description/>
  <dc:language>en-US</dc:language>
  <cp:lastModifiedBy>Dany</cp:lastModifiedBy>
  <cp:lastPrinted>1999-01-04T20:30:38Z</cp:lastPrinted>
  <dcterms:modified xsi:type="dcterms:W3CDTF">2004-08-23T20:32:35Z</dcterms:modified>
  <cp:revision>147</cp:revision>
  <dc:subject/>
  <dc:title>Macroeconomía (Parte 1)                  Banco Central del Perú</dc:title>
</cp:coreProperties>
</file>