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A7E-425B-4DFB-832A-173EA1B1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68A-534F-4C13-8472-7908857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D10-1DF0-4B62-8636-5641DAF1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650-786E-4857-829D-34D2B05A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2E6-5B7E-4F7D-AAC9-80A1026A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43C-A489-4F4C-B619-36AB552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74F-F506-4A40-88F9-F902029C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957-B003-41EF-9779-114A52D3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69E-1E5A-44E4-996B-072627C1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671-8CC8-4714-AB93-880DEF2F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B11-7E83-47A4-87C4-747E35B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CA4-5448-445E-A3D7-C0FA831A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1604-A56D-4624-BFD2-3DCA7F1A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1080" y="530064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s preferencias de los consumidores en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n país exportará el bien que es intensivo en su factor más abundan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le es relativamente más abundante en recursos naturales que Japón, por lo que exporta productos que los incorporan (cátodos de cobre, fruta fres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na es más abundante en mano de obra que Chile, le importamos 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 es más abundante en K humano calificado, le importamos ideas (softwares, libros de market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xisten 2 factores: capital y trabajo en país 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factor relativamente más abundante es el trabajo, por lo tanto en autarquía será mal remune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si se produce apertura comercial, el país exportará el bien intensivo en trabajo, debido a H – 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aumentará w, y además disminuirá P (por las importaciones), lo que lleva a un aumento del poder adquisitivo y del bienes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 bien………. p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comerc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s precios internacionales son iguales a los de autarquía no hay incentivos para comerc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iempre y cuando los bienes sean homogén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disminuirá la renta del capital, pues el bien intensivo en ese factor será import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onclusión, aumentará el bienestar del factor más abundante, pero disminuirá el del escaso, por tan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er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vilidad de bienes sustituye a la movilidad de factore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ntonces: por qué hay migraciones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3.- Precio de los f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gualación internacional del precio de los facto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4.- Especializ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 es completa (como si lo era en Ricardo, lo que es más realist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las pruebas empíricas muestran que funciona para explicar comercio “interindustrial”, pero  no “intraindustrial” (aprox 60% del total mundial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ale decir, explica comercio entre países “ricos y pobres” o muy diferentes entre sí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ecnología no está disponible para todos los países por ig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convergencia en precio de factores (OBS: Japón – U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ostos de trasporte, aranceles y otras trab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enes no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erencias no son ig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no son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perfecta movilidad de factores entre diferentes se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tecnología: Ventajas Comparativas (Modelo de Ricardo, s. X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respuesta a la últim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ume que uno de los 2 factores es específico a un se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existen 2 sectores, minería y agricultura. El trabajo se mueve perfectamente entre ambos, pero el capital es específico a cada u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UNA APERTURA COMER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l país es relativamente abundante en trabajo, y exporta el bien intensivo en ese fa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lo trabaj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mentará la demanda por trabajadores, por lo tanto el salario de éstos (en ambos sectores). Además, disminuyen los pre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los trabajadores están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agríc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nderá sus productos en el exterior, a un mejor pre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rá comprar bienes agrícolas (por ejemplo fertilizantes) a precio más ba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deberá pagar un salario ma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tanto, el efecto es ambiguo, aunque probablemente mej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min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pagar mayore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enfrentar competencia externa (precios más baj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stá pe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v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……… 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modelo ricardiano considera sólo un factor (trabajo), por lo tanto no permite ver efectos redistribu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, cada vez parece ser más real que la disponibilidad de tecnologías es a nivel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modelo base para explicar el comercio internacional durante gran parte del siglo XX fue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Heckscher- Ohlin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(H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incipal idea de H-O es: “si tienes vacas, produce lech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sea, el comercio internacional se verá motivado por diferencias en la abundancia de fa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2:06Z</dcterms:created>
  <dc:creator>..</dc:creator>
  <dc:description/>
  <dc:language>en-US</dc:language>
  <cp:lastModifiedBy>Dii</cp:lastModifiedBy>
  <dcterms:modified xsi:type="dcterms:W3CDTF">2004-09-07T19:20:33Z</dcterms:modified>
  <cp:revision>76</cp:revision>
  <dc:subject/>
  <dc:title>Clase Auxiliar Nº2</dc:title>
</cp:coreProperties>
</file>