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A7CA-3115-4CCE-9F4F-B064115D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D63F-A3DC-4A3A-9A0E-72C292A2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E89-2358-477A-A331-BC6E3D9A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877-A471-430F-B818-D1917D31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7D59-6209-477F-9E28-938C591C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630-DF02-4F40-A2D8-8B8D9357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E768-79B0-4ABB-A7F2-BC7440E2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31A6-E5CC-43DB-A16C-9FDEDBF9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BC9-8921-4C0D-A433-822327D7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AC5-5D72-4A01-86DF-FCEF7358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080-D087-4B37-8D7C-637016CD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1CAF-41A4-4D0A-AEB4-B65374FD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C524-EDFC-4512-ABF0-96233E45B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lase Auxiliar Nº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61080" y="530064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NY JAIMOVICH B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2x2x2 (2 países, 2 bienes, 2 fa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sma tecnología disponible para ambos paí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fecta movilidad de factores entre s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2x2x2 (2 países, 2 bienes, 2 fa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sma tecnología disponible para ambos paí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fecta movilidad de factores entre s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smas preferencias de los consumidores en ambos paí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ema de H – 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n país exportará el bien que es intensivo en su factor más abundant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ema de H – 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ejemp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ile es relativamente más abundante en recursos naturales que Japón, por lo que exporta productos que los incorporan (cátodos de cobre, fruta fresc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ema de H – 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ejemp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ina es más abundante en mano de obra que Chile, le importamos rop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ema de H – 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ejemp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A  es más abundante en K humano calificado, le importamos ideas (softwares, libros de marketin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gamos que existen 2 factores: capital y trabajo en país 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factor relativamente más abundante es el trabajo, por lo tanto en autarquía será mal remunera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 embargo, si se produce apertura comercial, el país exportará el bien intensivo en trabajo, debido a H – 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, aumentará w, y además disminuirá P (por las importaciones), lo que lleva a un aumento del poder adquisitivo y del bienest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o bien………. p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.- ¿Por qué comerciar?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o del Siglo 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comerc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los precios internacionales son iguales a los de autarquía no hay incentivos para comerci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siempre y cuando los bienes sean homogéne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 embargo, disminuirá la renta del capital, pues el bien intensivo en ese factor será importa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conclusión, aumentará el bienestar del factor más abundante, pero disminuirá el del escaso, por tan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l comercio internacional es beneficioso para la sociedad en general, pero hay sectores que pierden, y por lo tanto deben ser compensados”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erc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movilidad de bienes sustituye a la movilidad de factore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entonces: por qué hay migraciones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3.- Precio de los fac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gualación internacional del precio de los factor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4.- Especializ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o es completa (como si lo era en Ricardo, lo que es más realista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I.- Modelo H-O: R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s H – O una buena explicación para los patrones del comercio internacion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general, las pruebas empíricas muestran que funciona para explicar comercio “interindustrial”, pero  no “intraindustrial” (aprox 60% del total mundial)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I.- Modelo H-O: R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 H – O una buena explicación para los patrones del comercio internacio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Vale decir, explica comercio entre países “ricos y pobres” o muy diferentes entre sí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I.- Modelo H-O: R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rí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tecnología no está disponible para todos los países por ig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y convergencia en precio de factores (OBS: Japón – U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costos de trasporte, aranceles y otras trab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ienes no homogén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I.- Modelo H-O: R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rí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ferencias no son ig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ctores no son homogén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y perfecta movilidad de factores entre diferentes sect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.- ¿Por qué comerciar?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o del Siglo 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los precios son difere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s en tecnología: Ventajas Comparativas (Modelo de Ricardo, s. XI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respuesta a la última crí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ume que uno de los 2 factores es específico a un sec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ejemplo: existen 2 sectores, minería y agricultura. El trabajo se mueve perfectamente entre ambos, pero el capital es específico a cada u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, existirá un salario único en la economía, una renta del capital minero y una renta del capital agríco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, existirá un salario único en la economía, una renta del capital minero y una renta del capital agríco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OCURRIRÁ CON UNA APERTURA COMER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gamos que el país es relativamente abundante en trabajo, y exporta el bien intensivo en ese fac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ocurrirá con lo trabajado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mentará la demanda por trabajadores, por lo tanto el salario de éstos (en ambos sectores). Además, disminuyen los pre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, los trabajadores están mej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ocurrirá con el capital agríco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nderá sus productos en el exterior, a un mejor pre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drá comprar bienes agrícolas (por ejemplo fertilizantes) a precio más bar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deberá pagar un salario may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tanto, el efecto es ambiguo, aunque probablemente mej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ocurrirá con el capital mine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be pagar mayore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be enfrentar competencia externa (precios más baj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, está pe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ueva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l comercio internacional es beneficioso para la sociedad en general, pero hay sectores que pierden, y por lo tanto deben ser compensados”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……… </a:t>
            </a: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¿CÓ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.- ¿Por qué comerciar?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o del Siglo 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los precios son difere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el modelo ricardiano considera sólo un factor (trabajo), por lo tanto no permite ver efectos redistribu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emás, cada vez parece ser más real que la disponibilidad de tecnologías es a nivel mund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.- ¿Por qué comerciar?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o del Siglo 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los precios son difere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modelo base para explicar el comercio internacional durante gran parte del siglo XX fue </a:t>
            </a: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Heckscher- Ohlin</a:t>
            </a: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 (HO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.- ¿Por qué comerciar?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o del Siglo 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rincipal idea de H-O es: “si tienes vacas, produce lech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 sea, el comercio internacional se verá motivado por diferencias en la abundancia de fact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uestos del mod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2x2x2 (2 países, 2 bienes, 2 fa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2x2x2 (2 países, 2 bienes, 2 fa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sma tecnología disponible para ambos paí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13:52:06Z</dcterms:created>
  <dc:creator>..</dc:creator>
  <dc:description/>
  <dc:language>en-US</dc:language>
  <cp:lastModifiedBy>Dii</cp:lastModifiedBy>
  <dcterms:modified xsi:type="dcterms:W3CDTF">2004-09-07T19:20:33Z</dcterms:modified>
  <cp:revision>76</cp:revision>
  <dc:subject/>
  <dc:title>Clase Auxiliar Nº2</dc:title>
</cp:coreProperties>
</file>