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34FEE-9089-4504-B382-5C9B6F212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457200" y="114300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4681-E398-4B0B-9579-39C7DAC8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C43B5-768E-4C83-A1DC-754592B51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2"/>
          <p:cNvSpPr>
            <a:spLocks noGrp="1"/>
          </p:cNvSpPr>
          <p:nvPr>
            <p:ph/>
          </p:nvPr>
        </p:nvSpPr>
        <p:spPr>
          <a:xfrm>
            <a:off x="45720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6592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7428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6592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7428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50E18-87EB-493E-8108-74C51D2B4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type="subTitle"/>
          </p:nvPr>
        </p:nvSpPr>
        <p:spPr>
          <a:xfrm>
            <a:off x="457200" y="114300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7B47-418B-4B6D-9B6A-1B247EAC8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C2DC4-811F-4274-83E8-632CABCC1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1559-8664-4BD4-BDE9-EECD131DE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8CB37-4C4B-4902-A29E-3FEA01932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E8997-F6DE-42D6-B0FF-55F724FC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9C3C-F72A-43E1-80A2-A121779D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4943-B6CD-45D6-84DE-07DD6A59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4B00A-0EE5-4694-BF03-B5DC790DB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0" name=""/>
          <p:cNvGraphicFramePr/>
          <p:nvPr/>
        </p:nvGraphicFramePr>
        <p:xfrm>
          <a:off x="0" y="6019920"/>
          <a:ext cx="9144000" cy="838080"/>
        </p:xfrm>
        <a:graphic>
          <a:graphicData uri="http://schemas.openxmlformats.org/presentationml/2006/ole">
            <p:oleObj r:id="rId2" spid="">
              <p:embed/>
              <p:pic>
                <p:nvPicPr>
                  <p:cNvPr id="1" name="" descr=""/>
                  <p:cNvPicPr/>
                  <p:nvPr/>
                </p:nvPicPr>
                <p:blipFill>
                  <a:blip r:embed="rId3"/>
                  <a:stretch/>
                </p:blipFill>
                <p:spPr>
                  <a:xfrm>
                    <a:off x="0" y="6019920"/>
                    <a:ext cx="9144000" cy="838080"/>
                  </a:xfrm>
                  <a:prstGeom prst="rect">
                    <a:avLst/>
                  </a:prstGeom>
                  <a:ln w="0">
                    <a:noFill/>
                  </a:ln>
                </p:spPr>
              </p:pic>
            </p:oleObj>
          </a:graphicData>
        </a:graphic>
      </p:graphicFrame>
      <p:graphicFrame>
        <p:nvGraphicFramePr>
          <p:cNvPr id="2" name=""/>
          <p:cNvGraphicFramePr/>
          <p:nvPr/>
        </p:nvGraphicFramePr>
        <p:xfrm>
          <a:off x="0" y="0"/>
          <a:ext cx="9144000" cy="914400"/>
        </p:xfrm>
        <a:graphic>
          <a:graphicData uri="http://schemas.openxmlformats.org/presentationml/2006/ole">
            <p:oleObj r:id="rId4" spid="">
              <p:embed/>
              <p:pic>
                <p:nvPicPr>
                  <p:cNvPr id="3" name="" descr=""/>
                  <p:cNvPicPr/>
                  <p:nvPr/>
                </p:nvPicPr>
                <p:blipFill>
                  <a:blip r:embed="rId5"/>
                  <a:stretch/>
                </p:blipFill>
                <p:spPr>
                  <a:xfrm>
                    <a:off x="0" y="0"/>
                    <a:ext cx="9144000" cy="914400"/>
                  </a:xfrm>
                  <a:prstGeom prst="rect">
                    <a:avLst/>
                  </a:prstGeom>
                  <a:ln w="0">
                    <a:noFill/>
                  </a:ln>
                </p:spPr>
              </p:pic>
            </p:oleObj>
          </a:graphicData>
        </a:graphic>
      </p:graphicFrame>
      <p:sp>
        <p:nvSpPr>
          <p:cNvPr id="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 name="PlaceHolder 2"/>
          <p:cNvSpPr>
            <a:spLocks noGrp="1"/>
          </p:cNvSpPr>
          <p:nvPr>
            <p:ph type="body"/>
          </p:nvPr>
        </p:nvSpPr>
        <p:spPr>
          <a:xfrm>
            <a:off x="457200" y="1143000"/>
            <a:ext cx="8305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0347-E4DE-4F26-814F-00947BCCCEB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6"/>
          <a:stretch/>
        </p:blipFill>
        <p:spPr>
          <a:xfrm>
            <a:off x="4572000" y="342900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590560"/>
            <a:ext cx="8344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ffffff"/>
                </a:solidFill>
                <a:uFillTx/>
                <a:latin typeface="Tahoma"/>
              </a:rPr>
              <a:t>LOS ADR</a:t>
            </a:r>
            <a:r>
              <a:rPr b="1" lang="es-ES" sz="4000" spc="-1" strike="noStrike" u="sng">
                <a:solidFill>
                  <a:srgbClr val="ffffff"/>
                </a:solidFill>
                <a:uFillTx/>
                <a:latin typeface="Tahoma"/>
              </a:rPr>
              <a:t> </a:t>
            </a:r>
            <a:br>
              <a:rPr sz="4000"/>
            </a:br>
            <a:r>
              <a:rPr b="1" lang="es-ES" sz="3600" spc="-1" strike="noStrike" u="sng">
                <a:solidFill>
                  <a:srgbClr val="ffffff"/>
                </a:solidFill>
                <a:uFillTx/>
                <a:latin typeface="Tahoma"/>
              </a:rPr>
              <a:t>(American Depositary Receipt)</a:t>
            </a:r>
            <a:endParaRPr b="0" lang="en-US" sz="3600" spc="-1" strike="noStrike">
              <a:solidFill>
                <a:srgbClr val="ffffff"/>
              </a:solidFill>
              <a:latin typeface="Tahoma"/>
            </a:endParaRPr>
          </a:p>
        </p:txBody>
      </p:sp>
      <p:sp>
        <p:nvSpPr>
          <p:cNvPr id="47" name=""/>
          <p:cNvSpPr/>
          <p:nvPr/>
        </p:nvSpPr>
        <p:spPr>
          <a:xfrm>
            <a:off x="4114800" y="5257800"/>
            <a:ext cx="394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UMNOS:</a:t>
            </a:r>
            <a:r>
              <a:rPr b="1" lang="en-US" sz="1200" spc="-1" strike="noStrike">
                <a:solidFill>
                  <a:srgbClr val="ffffff"/>
                </a:solidFill>
                <a:latin typeface="Times New Roman"/>
              </a:rPr>
              <a:t>	</a:t>
            </a:r>
            <a:r>
              <a:rPr b="1" lang="en-US" sz="1200" spc="-1" strike="noStrike">
                <a:solidFill>
                  <a:srgbClr val="ffffff"/>
                </a:solidFill>
                <a:latin typeface="Times New Roman"/>
              </a:rPr>
              <a:t>DIETTER SCHUCHHARDT TOLOZ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RISTIAN ANDRES VALDES CACE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5" name=""/>
          <p:cNvSpPr/>
          <p:nvPr/>
        </p:nvSpPr>
        <p:spPr>
          <a:xfrm>
            <a:off x="457200" y="1143000"/>
            <a:ext cx="784872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banco de Inversiones es el titular de las acciones, a nombre de los inversionistas que adquirieron los ADR.</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mbién puede convertirse en el banco custodio si es que mantiene estos títulos físicos.</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inversionista puede negociar estos instrumentos:</a:t>
            </a:r>
            <a:endParaRPr b="0" lang="en-US" sz="28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bolsa norteamericana o </a:t>
            </a:r>
            <a:endParaRPr b="0" lang="en-US" sz="24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ertirlos en las acciones que representan y negociarlos en la bolsa Chilena. Mecanismo que se denomina Floback.</a:t>
            </a: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7" name=""/>
          <p:cNvSpPr/>
          <p:nvPr/>
        </p:nvSpPr>
        <p:spPr>
          <a:xfrm>
            <a:off x="800280" y="1752480"/>
            <a:ext cx="78102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i el inversionista extranjero adquiere las acciones en el mercado nacional y las transforma en ADRs para ser transadas en el exterior, se dice que está realizando un Inflow.</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ransacciones de ADR</a:t>
            </a:r>
            <a:endParaRPr b="0" lang="en-US" sz="3600" spc="-1" strike="noStrike">
              <a:solidFill>
                <a:srgbClr val="ffffff"/>
              </a:solidFill>
              <a:latin typeface="Tahoma"/>
            </a:endParaRPr>
          </a:p>
        </p:txBody>
      </p:sp>
      <p:sp>
        <p:nvSpPr>
          <p:cNvPr id="69"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existe diferencia entre el valor de las acciones  equivalentes en la bolsa local, versus el valor del ADR tranzado en NYC. Se puede dar lo siguient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so acciones equivalente mas bajas que el ADR.</a:t>
            </a:r>
            <a:endParaRPr b="0" lang="en-US" sz="24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rredor comprará acciones y emitirá ADR para venderlos en NYC  (Inflow), hasta que la demanda de acciones que genera en el mercado local, impulse el precio de la acción hacia arriba, hasta que ésta se equilibre.</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caso contrario,  compraré ADR para convertirlas en acciones (Flowback) y transarlos como acciones en el mercado loca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 Emitir un ADR</a:t>
            </a:r>
            <a:endParaRPr b="0" lang="en-US" sz="3600" spc="-1" strike="noStrike">
              <a:solidFill>
                <a:srgbClr val="ffffff"/>
              </a:solidFill>
              <a:latin typeface="Tahoma"/>
            </a:endParaRPr>
          </a:p>
        </p:txBody>
      </p:sp>
      <p:sp>
        <p:nvSpPr>
          <p:cNvPr id="71" name=""/>
          <p:cNvSpPr/>
          <p:nvPr/>
        </p:nvSpPr>
        <p:spPr>
          <a:xfrm>
            <a:off x="762120" y="1295280"/>
            <a:ext cx="7619760" cy="4038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der al mercado de capitales extranjeros (Financiamiento).</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jorar  la imagen de la compañía en los mercados externo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ir la base de accionistas lo que le otorga mayor estabilidad al precio de la acció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ede incrementar el valor de la acción local debido al aumento de la demanda externa por la 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l comprador de ADR</a:t>
            </a:r>
            <a:endParaRPr b="0" lang="en-US" sz="3600" spc="-1" strike="noStrike">
              <a:solidFill>
                <a:srgbClr val="ffffff"/>
              </a:solidFill>
              <a:latin typeface="Tahoma"/>
            </a:endParaRPr>
          </a:p>
        </p:txBody>
      </p:sp>
      <p:sp>
        <p:nvSpPr>
          <p:cNvPr id="73" name=""/>
          <p:cNvSpPr/>
          <p:nvPr/>
        </p:nvSpPr>
        <p:spPr>
          <a:xfrm>
            <a:off x="914400" y="1219320"/>
            <a:ext cx="73915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o de diversificación sin los obstáculos de los fondos mutuos, fondos de pensiones u otros instrument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 los costos de custo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e una comparación de títulos de similares compañí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vorece el comercio,los acuerdos y procedimientos de liquidacion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agos de dividendos e intereses son pagados en 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manda de ADR</a:t>
            </a:r>
            <a:endParaRPr b="0" lang="en-US" sz="3600" spc="-1" strike="noStrike">
              <a:solidFill>
                <a:srgbClr val="ffffff"/>
              </a:solidFill>
              <a:latin typeface="Tahoma"/>
            </a:endParaRPr>
          </a:p>
        </p:txBody>
      </p:sp>
      <p:sp>
        <p:nvSpPr>
          <p:cNvPr id="7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manda de ADR ha estado creciendo anualmente entre un 30 y 40%, motivado  principalmente por el deseo de los inversionistas de diversificar su portafolio globalmente.</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chos inversionistas no lo pueden hacer directamente, razón por la cual recurren a los ADR</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también por el menor costo de utilizar esta vía.</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Oferta Pública </a:t>
            </a:r>
            <a:br>
              <a:rPr sz="3200"/>
            </a:br>
            <a:r>
              <a:rPr b="1" lang="en-US" sz="3200" spc="-1" strike="noStrike">
                <a:solidFill>
                  <a:srgbClr val="ffffff"/>
                </a:solidFill>
                <a:latin typeface="Tahoma"/>
              </a:rPr>
              <a:t>de Valores Extranjero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79" name=""/>
          <p:cNvSpPr/>
          <p:nvPr/>
        </p:nvSpPr>
        <p:spPr>
          <a:xfrm>
            <a:off x="838080" y="1371600"/>
            <a:ext cx="76201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Ley Nº18.045 Titulo XXIV contiene las normas aplicables a la oferta pública de valores extranjeros o certificados de depósito de valores representativos de éstos (CDV)</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normas tienen el carácter de operaciones de cambios internacionales para los efectos de lo dispuesto en la Ley Orgánica del Banco Central de Chile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1" name=""/>
          <p:cNvSpPr/>
          <p:nvPr/>
        </p:nvSpPr>
        <p:spPr>
          <a:xfrm>
            <a:off x="826920" y="620640"/>
            <a:ext cx="7479000" cy="3925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peraciones pueden ser desarrolladas en las bolsas de valores referidas en la ley, y deben ser reglamentadas mediante normas internas que éstas adopten, previa aprobación por la Superintendencia de Valores y Seguros (la "Superintendencia"). </a:t>
            </a:r>
            <a:endParaRPr b="0" lang="en-US" sz="2800" spc="-1" strike="noStrike">
              <a:solidFill>
                <a:srgbClr val="000000"/>
              </a:solidFill>
              <a:latin typeface="Times New Roman"/>
            </a:endParaRPr>
          </a:p>
          <a:p>
            <a:pPr marL="270720" indent="-2707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perintendencia, mediante normas de carácter general y previo informe favorable del Banco Central, puede autorizar la realización de transacciones de valores extranjeros o de CDV, fuera de la bolsa.</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3"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os efectos del mercado de valores, se entiende que los CDV son títulos transferibles, nominativos, emitidos en Chile por un depositario de valores extranjeros, representativos de títulos homogéneos transferibles de un emisor extranjero, los que son objeto de un depósito en un depositario de valores extranjero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Que es un ADR?</a:t>
            </a:r>
            <a:endParaRPr b="0" lang="en-US" sz="3600" spc="-1" strike="noStrike">
              <a:solidFill>
                <a:srgbClr val="ffffff"/>
              </a:solidFill>
              <a:latin typeface="Tahoma"/>
            </a:endParaRPr>
          </a:p>
        </p:txBody>
      </p:sp>
      <p:sp>
        <p:nvSpPr>
          <p:cNvPr id="49" name="PlaceHolder 2"/>
          <p:cNvSpPr>
            <a:spLocks noGrp="1"/>
          </p:cNvSpPr>
          <p:nvPr>
            <p:ph/>
          </p:nvPr>
        </p:nvSpPr>
        <p:spPr>
          <a:xfrm>
            <a:off x="762120" y="1143000"/>
            <a:ext cx="7696080" cy="4952880"/>
          </a:xfrm>
          <a:prstGeom prst="rect">
            <a:avLst/>
          </a:prstGeom>
          <a:noFill/>
          <a:ln w="0">
            <a:noFill/>
          </a:ln>
        </p:spPr>
        <p:txBody>
          <a:bodyPr lIns="90000" rIns="90000" tIns="46800" bIns="46800" anchor="t">
            <a:normAutofit fontScale="98000"/>
          </a:bodyPr>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o American Depositary Receipts son certificados negociables que representan la propiedad de una o más acciones de una compañía extranjera.</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títulos se comercializan en los principales mercados de EE.UU. (NYSE, Nasdaq, AMEX) de la misma manera que otros títulos estadounidenses. </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fueron creados en 1927 para otorgarle al inversionista norteamericano la posibilidad de invertir en compañías extranjera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y los CDV sólo pueden expresarse en las monedas extranjeras que autorice el Banco Central y en dichas monedas deben transarse en el mercado nacional </a:t>
            </a:r>
            <a:endParaRPr b="0" lang="en-US" sz="2800" spc="-1" strike="noStrike">
              <a:solidFill>
                <a:srgbClr val="000000"/>
              </a:solidFill>
              <a:latin typeface="Times New Roman"/>
            </a:endParaRPr>
          </a:p>
          <a:p>
            <a:pPr marL="308520" indent="-308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y otorga a la Superintendencia el mandato de establecer, mediante normas de carácter general, la forma, condiciones, plazos y modalidades en que se llevará a cabo la oferta pública de valores extranjeros o de CDV</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VS ha dictado las Normas de Carácter General Nº 82, 87 y 88 </a:t>
            </a:r>
            <a:endParaRPr b="0" lang="en-US" sz="2800" spc="-1" strike="noStrike">
              <a:solidFill>
                <a:srgbClr val="000000"/>
              </a:solidFill>
              <a:latin typeface="Times New Roman"/>
            </a:endParaRPr>
          </a:p>
          <a:p>
            <a:pPr marL="335880" indent="-3358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n de la inscripción de acciones extranjeras, de cuotas de fondos de inversión internacional, de cuotas de fondos abiertos y de cuotas de fondos cerrados y de CDV en el Registro de Valores Extranjeros, su oferta pública en Chile, su difusión, colocación y obligaciones de inscripción</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9" name=""/>
          <p:cNvSpPr/>
          <p:nvPr/>
        </p:nvSpPr>
        <p:spPr>
          <a:xfrm>
            <a:off x="838080" y="1371600"/>
            <a:ext cx="7837560" cy="4038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ositarios </a:t>
            </a:r>
            <a:endParaRPr b="0" lang="en-US" sz="3200" spc="-1" strike="noStrike">
              <a:solidFill>
                <a:srgbClr val="000000"/>
              </a:solidFill>
              <a:latin typeface="Times New Roman"/>
            </a:endParaRPr>
          </a:p>
          <a:p>
            <a:pPr lvl="1" marL="646200" indent="-2484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ólo pueden ser depositarios de valores extranjeros los bancos, las sucursales de bancos extranjeros autorizados para operar en Chile y las demás personas jurídicas que autorice la SVS.</a:t>
            </a:r>
            <a:endParaRPr b="0" lang="en-US" sz="2800" spc="-1" strike="noStrike">
              <a:solidFill>
                <a:srgbClr val="000000"/>
              </a:solidFill>
              <a:latin typeface="Times New Roman"/>
            </a:endParaRPr>
          </a:p>
          <a:p>
            <a:pPr lvl="1" marL="646200" indent="-2484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ulo 179: deberá inscribir en un registro especial y anotar separadamente en su contabilidad estos valores con la individualización completa de la o las personas por cuenta de quien los mantiene</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1"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cripción  </a:t>
            </a:r>
            <a:endParaRPr b="0" lang="en-US" sz="3200" spc="-1" strike="noStrike">
              <a:solidFill>
                <a:srgbClr val="000000"/>
              </a:solidFill>
              <a:latin typeface="Times New Roman"/>
            </a:endParaRPr>
          </a:p>
          <a:p>
            <a:pPr lvl="1" marL="639000" indent="-245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ferta pública de valores extranjeros en Chile, o de CDV, sólo puede llevarse a cabo cuando éstos o aquéllos se inscriban en un registro público especial, denominado "Registro de Valores Extranjeros“</a:t>
            </a:r>
            <a:endParaRPr b="0" lang="en-US" sz="2800" spc="-1" strike="noStrike">
              <a:solidFill>
                <a:srgbClr val="000000"/>
              </a:solidFill>
              <a:latin typeface="Times New Roman"/>
            </a:endParaRPr>
          </a:p>
          <a:p>
            <a:pPr lvl="1" marL="639000" indent="-245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que se inscriban o los que dan origen a los CDV deben ser susceptibles de ser ofrecidos públicamente en los mercados de valores del país del respectivo emisor o en otros mercados de valores internacionales.</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3"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hazo: Se hace en casos excepcionales y graves relativos a hechos relacionados con la ley sobre tráfico de estupefacientes o con circunstancias que por su naturaleza sea inconveniente difundir públicamente.</a:t>
            </a:r>
            <a:endParaRPr b="0" lang="en-US" sz="2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ión o cancelación, casos:</a:t>
            </a:r>
            <a:endParaRPr b="0" lang="en-US" sz="28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el emisor originario de los valores no esté inscrito en la entidad supervisora o reguladora competente de su país de origen</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los valores extranjeros o los que dan origen a los CDV no sean susceptibles de ser ofrecidos públicamente en los mercados de valores del país del respectivo emisor o en otros mercados.</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 por infracción al artículo 15 de la Ley Nº18.045, en la forma y plazos ahí establec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1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resas chilenas con ADR’s</a:t>
            </a:r>
            <a:endParaRPr b="0" lang="en-US" sz="3200" spc="-1" strike="noStrike">
              <a:solidFill>
                <a:srgbClr val="ffffff"/>
              </a:solidFill>
              <a:latin typeface="Tahoma"/>
            </a:endParaRPr>
          </a:p>
        </p:txBody>
      </p:sp>
      <p:sp>
        <p:nvSpPr>
          <p:cNvPr id="9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
          <p:cNvSpPr/>
          <p:nvPr/>
        </p:nvSpPr>
        <p:spPr>
          <a:xfrm>
            <a:off x="1835280" y="2205000"/>
            <a:ext cx="5689440" cy="35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0"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1"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tos transados en acciones con ADRs Cifras en Millones de dólares (MMU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050920" y="2349360"/>
            <a:ext cx="5270760" cy="317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
          <p:cNvSpPr/>
          <p:nvPr/>
        </p:nvSpPr>
        <p:spPr>
          <a:xfrm>
            <a:off x="3124080" y="1828800"/>
            <a:ext cx="350532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6"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trimonio afuer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3429000" y="1905120"/>
            <a:ext cx="296244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quivalencia de un ADR</a:t>
            </a:r>
            <a:endParaRPr b="0" lang="en-US" sz="3600" spc="-1" strike="noStrike">
              <a:solidFill>
                <a:srgbClr val="ffffff"/>
              </a:solidFill>
              <a:latin typeface="Tahoma"/>
            </a:endParaRPr>
          </a:p>
        </p:txBody>
      </p:sp>
      <p:sp>
        <p:nvSpPr>
          <p:cNvPr id="51" name="PlaceHolder 2"/>
          <p:cNvSpPr>
            <a:spLocks noGrp="1"/>
          </p:cNvSpPr>
          <p:nvPr>
            <p:ph/>
          </p:nvPr>
        </p:nvSpPr>
        <p:spPr>
          <a:xfrm>
            <a:off x="837720" y="1371240"/>
            <a:ext cx="75438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razones prácticas a veces un ADR representa o bien una fracción de una acción de una compañía o es equivale a varias de ella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significa que el precio de un ADR en dólares no necesariamente coincide con el equivalente de la acción en la moneda extranjera que correspon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rechos del tenedor de ADRs</a:t>
            </a:r>
            <a:endParaRPr b="0" lang="en-US" sz="3600" spc="-1" strike="noStrike">
              <a:solidFill>
                <a:srgbClr val="ffffff"/>
              </a:solidFill>
              <a:latin typeface="Tahoma"/>
            </a:endParaRPr>
          </a:p>
        </p:txBody>
      </p:sp>
      <p:sp>
        <p:nvSpPr>
          <p:cNvPr id="53" name="PlaceHolder 2"/>
          <p:cNvSpPr>
            <a:spLocks noGrp="1"/>
          </p:cNvSpPr>
          <p:nvPr>
            <p:ph/>
          </p:nvPr>
        </p:nvSpPr>
        <p:spPr>
          <a:xfrm>
            <a:off x="456840" y="1143000"/>
            <a:ext cx="807732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 la compañía emisora de las acciones paga dividendos, estos serán recibidos por el banco inversionista y distribuidos proporcionalmente a los propietarios de los ADR.</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 al igual como sucede con las acciones comunes de cualquier compañía, los propietarios de ADRs están investidos del derecho de voto como accionistas de la firma que emite dichos valore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5"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a:t>
            </a:r>
            <a:r>
              <a:rPr b="0" lang="es-ES" sz="2800" spc="-1" strike="noStrike">
                <a:solidFill>
                  <a:srgbClr val="ffffff"/>
                </a:solidFill>
                <a:latin typeface="Tahoma"/>
              </a:rPr>
              <a:t> Es el método más simple para que las compañías accedan a capital extranjero, para esto la compañía emisora no requiere estar registrada en el SEC (Securities and Exchange Commission) y tampoco es necesario que lleve una contabilidad GAAP (Generally Accepted Accounting Principl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tipo de ADR es el de mayor crecimiento y dado los beneficios para los inversores no es inusual que entre un 5  a un 15% de la base de accionistas corresponda a tenedores de AD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7" name=""/>
          <p:cNvSpPr/>
          <p:nvPr/>
        </p:nvSpPr>
        <p:spPr>
          <a:xfrm>
            <a:off x="685800" y="1295280"/>
            <a:ext cx="78487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a:t>
            </a:r>
            <a:r>
              <a:rPr b="0" lang="es-ES" sz="2800" spc="-1" strike="noStrike">
                <a:solidFill>
                  <a:srgbClr val="ffffff"/>
                </a:solidFill>
                <a:latin typeface="Tahoma"/>
              </a:rPr>
              <a:t> Estos pueden ser transados en el (NASDAQ, AMEX o NYC) generan transferencias de propiedad, pero no necesariamente involucran aumentos de capita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añía emisora requier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r registrada en el SEC (Securities and Exchange Commission)</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be llevar una contabilidad GAAP (Generally Accepted Accounting Principl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9" name=""/>
          <p:cNvSpPr/>
          <p:nvPr/>
        </p:nvSpPr>
        <p:spPr>
          <a:xfrm>
            <a:off x="914400" y="1219320"/>
            <a:ext cx="746748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I:</a:t>
            </a:r>
            <a:r>
              <a:rPr b="0" lang="es-ES" sz="2800" spc="-1" strike="noStrike">
                <a:solidFill>
                  <a:srgbClr val="ffffff"/>
                </a:solidFill>
                <a:latin typeface="Tahoma"/>
              </a:rPr>
              <a:t> Estos pueden ser transados en el (NASDAQ, AMEX o NYC), son los más atractivos e involucran un aumento de capital.</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DR que más inversores norteamericanos atrae. </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l igual que el ADR Tipo II, La compañía emisora requiere estar registrada en el SEC (Securities and Exchange Commission) y es necesario que lleve una contabilidad GAAP (Generally Accepted Accounting Principles)</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ómo adquirir un ADR?</a:t>
            </a:r>
            <a:endParaRPr b="0" lang="en-US" sz="3600" spc="-1" strike="noStrike">
              <a:solidFill>
                <a:srgbClr val="ffffff"/>
              </a:solidFill>
              <a:latin typeface="Tahoma"/>
            </a:endParaRPr>
          </a:p>
        </p:txBody>
      </p:sp>
      <p:sp>
        <p:nvSpPr>
          <p:cNvPr id="61" name="PlaceHolder 2"/>
          <p:cNvSpPr>
            <a:spLocks noGrp="1"/>
          </p:cNvSpPr>
          <p:nvPr>
            <p:ph/>
          </p:nvPr>
        </p:nvSpPr>
        <p:spPr>
          <a:xfrm>
            <a:off x="685440" y="1219320"/>
            <a:ext cx="7467480" cy="45720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r norma la función de adquirir las acciones y de venderlas corre por cuenta de un banco inversionista, quien debe:</a:t>
            </a:r>
            <a:endParaRPr b="0" lang="en-US" sz="30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istrar la operación en la SEC (Comisión de valores estadounidens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ar las acciones como ADRs y valoradas en dólares.</a:t>
            </a:r>
            <a:endParaRPr b="0" lang="en-US" sz="2600" spc="-1" strike="noStrike">
              <a:solidFill>
                <a:srgbClr val="ffffff"/>
              </a:solidFill>
              <a:latin typeface="Tahoma"/>
            </a:endParaRPr>
          </a:p>
          <a:p>
            <a:pPr lvl="2" marL="1143000" indent="-228600">
              <a:spcBef>
                <a:spcPts val="5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y existen mas de 1.100 compañías extranjeras registradas en la SEC.</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3" name=""/>
          <p:cNvSpPr/>
          <p:nvPr/>
        </p:nvSpPr>
        <p:spPr>
          <a:xfrm>
            <a:off x="685800" y="12193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empresa que quiere colocar acciones en el mercado de EE.UU. debe suscribir un contrato con un agente colocador (underwriting). Quien garantiza la suscripción de casi la totalidad de la colocació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uego el banco emite los ADR.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inversionistas adquieren estos ADR, y la empresa recibe a cambio los recursos por éstos invertido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8:14:56Z</dcterms:created>
  <dc:creator>Cristian Valdes C.</dc:creator>
  <dc:description/>
  <dc:language>en-US</dc:language>
  <cp:lastModifiedBy>Jose Fernandez</cp:lastModifiedBy>
  <dcterms:modified xsi:type="dcterms:W3CDTF">2004-12-17T21:24:16Z</dcterms:modified>
  <cp:revision>12</cp:revision>
  <dc:subject/>
  <dc:title>LOS ADR  (American Depositary Receipt)</dc:title>
</cp:coreProperties>
</file>