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A2F-9DF5-494E-BB23-8220AEF4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F115-AC82-4773-B34E-D677D2239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CA67-F04E-40EA-8C21-CE76B9DA0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9995-40FD-4DBB-8723-93E1AA014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6C0-708C-4785-B472-1EA88CDB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B221-9B73-49AA-A92D-9AB7C3EF2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078D-3F68-4000-A0FE-AA86FD654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81A-7C0E-40BE-87FF-1C66919D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BCCA-7EF0-4526-A599-95756A682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16109-22CB-4B4C-8EBC-7163AE2D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6E31-339D-4323-9F28-D64F2C8A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7EB-C923-4A7C-A217-0981EFFB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397A-F2B4-40D6-B517-824B50CFA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2637000"/>
            <a:ext cx="7772400" cy="13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Times New Roman"/>
              </a:rPr>
              <a:t>GUÍA PARA EL DESARROLLO DE UN PLAN DE NEG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70520"/>
            <a:ext cx="777240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Ariel Gringaus – Octubre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nue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r el problema existente y la solución que se plant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resentar el bien o servicio que se va a producir o ven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ñalar enfoques específicos del mis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Resaltar los aspectos innov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tacar los factores fundamentales de diferenci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Indicar acciones a desarrollar para la protección de la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 u="sng">
                <a:solidFill>
                  <a:srgbClr val="3333cc"/>
                </a:solidFill>
                <a:uFillTx/>
                <a:latin typeface="Times New Roman"/>
              </a:rPr>
              <a:t>Check list sobre la idea del producto o servici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problema(s) soluciona su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e necesidad del cliente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A qué tipo de producto o servicio respond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se está ofreciendo exactament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Qué es lo innovador del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Cuáles son sus características distintivas en relación a otros productos o servici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¿Hasta qué punto nuestro producto es únic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protegeremos su exclusiv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l Equipo Direc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ducación y preparación profes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prác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ancias en el extranj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xperiencia directi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bilidades espe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Más del equip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l equipo ha trabajado conjuntamente con anterior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funciones es acorde con la experiencia ind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os fundadores conocen sus debilidades y están dispuestos a superarl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stá claro la distribución de pape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existe un objetivo comú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i la distribución de la propiedad está defini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originó la ide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iempo transcurrido desde su origen y acciones que se han llevado a cab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ómo se han integrado los diferentes miembros del equ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incipales problemas plante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ontactos e investigaciones que se han realiz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untos fue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aspectos más atractivos del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Una argumentación de su coherencia inter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Identificación de los riesgos que puedan surgir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PRODUCTO O SERVICI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simplicidad, es decir, facilidad de u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fiabilidad, es decir, que no fal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Su calidad: materiales, du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Área de producción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proceso de elaboración del producto o prestación d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tecnología aplic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terminación del coste d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scrpción de las actividades requeridas para producir el bien o prestar el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Organizar las actividades de manera secuen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stablecer los tiempos requeridos para llevar a cabo l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Tecnología emple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Facilidad para adquirir la tecnolog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ndiciones especiales para hacer uso de ella: patentes, acuer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Aspectos técnicos especiales (capacitación del personal, equipo, instalaciones,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osibilidades de copiado y protección de la mis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locidad en que se suceden las innovaciones tecnológicas en el ámbito empresarial en que se va a desarrollar nuestr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apacidad financiera de que se disp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quipos e infraestructura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Locales y ofic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aquinaria y herrami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Insta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lementos de transp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quipos para el proceso de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Aplicaciones infor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Mobil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rechos de traspaso/ Patentes y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Depósitos y fianz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Gastos de constitución y puesta en funcion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Exist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Objetivo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Ayudar al equipo promo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400" spc="-1" strike="noStrike">
                <a:solidFill>
                  <a:srgbClr val="3333cc"/>
                </a:solidFill>
                <a:latin typeface="Times New Roman"/>
              </a:rPr>
              <a:t>Interesar a posibles invers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EL MERCADO</a:t>
            </a:r>
            <a:r>
              <a:rPr b="0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tamaño tiene el mercado al que vamos a dirigir nuestro producto o servici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uál es nuestro cliente potenci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los clientes potenciales necesitan nuestro produc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legaremos a nuestros clientes potencial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Qué competencia existe en la actualida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Por qué nos diferenciamos de la competenci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ómo lograr que las personas se den cuenta de que lo necesi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¿ Cómo convencer al invers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definición d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mentación del mercado obje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análisis de la competencia exist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ventajas competit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estrategia de prec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promoción y publi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sistema de distribu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previs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Definición del mercado</a:t>
            </a:r>
            <a:r>
              <a:rPr b="1" lang="es-CL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geográfico: delimitando las zonas donde se piensa ofrecer el producto o servi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mercado objetivo: definiendo los segmentos de mercado específicos a los que nos vamos a dirig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situación del mercado: describiendo el estado actual y la posible evolución o tendencia fu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Definición clara del perfil de nuestro cliente potencial: identificando los futuros consumidores de nuestro producto o servici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sejos para estima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Partir de una base sólida utilizando cifras fácilmente verific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guir un camino lógico y que quede cl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arar las fuen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Ser creativo: si un valor es desconocido, busquemos un sustituto que se relacione con el que fal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Comprobar si el resultado es coherente y tiene sen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riterios para la segmentación de cli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Geográficos: país, zonas, comu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edad, sexo, profesión, ingresos.Estilo de vi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: uso, aplicaciones, af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: marcas, preci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1" lang="ca-ES" sz="2400" spc="-1" strike="noStrike">
                <a:solidFill>
                  <a:srgbClr val="3333cc"/>
                </a:solidFill>
                <a:latin typeface="Times New Roman"/>
              </a:rPr>
              <a:t>Para bienes de inver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Demográficos: tamaño empresa, situación, sector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Operativos: tecnología aplic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ca-ES" sz="2400" spc="-1" strike="noStrike">
                <a:solidFill>
                  <a:srgbClr val="3333cc"/>
                </a:solidFill>
                <a:latin typeface="Times New Roman"/>
              </a:rPr>
              <a:t>Comportamiento de compras.</a:t>
            </a: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Factores de ubic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Análisis de la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ompetencia direc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iferenci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3333cc"/>
                </a:solidFill>
                <a:latin typeface="Times New Roman"/>
              </a:rPr>
              <a:t>La diferenciación se puede conseguir a través de destacar en diversos aspectos como s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5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entreg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documentación técn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servicio de post ven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c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onocimientos Escenci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determinadas tecnologí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s relaciones con determinados agentes del mercado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conocimiento de un proce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acceso a un canal de distrib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Estrategia de Marke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duct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trategia de pre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romo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strategia de pla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>
                <a:solidFill>
                  <a:srgbClr val="3333cc"/>
                </a:solidFill>
                <a:latin typeface="Times New Roman"/>
              </a:rPr>
              <a:t>Previsiones de ve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debe hacer una estimación de los ingresos que podremos obtener en un horizonte de 3 a 5 añ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Hay que ser REALIS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Partes Básicas de un B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ESARROLLO DEL PLAN DE NEGOCI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4000" spc="-1" strike="noStrike">
                <a:solidFill>
                  <a:srgbClr val="3333cc"/>
                </a:solidFill>
                <a:latin typeface="Times New Roman"/>
              </a:rPr>
              <a:t>ORGANIZACIÓN Y PLAN DE TRABAJO DE DESARROLLO DEL PROYECTO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62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stribución de tareas y 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Planificación del pers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Dirección y cultura de la empres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GENERALES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os procesos operativos (funciones) de la empres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Qué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óm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Con qu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Dónde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¿En cuanto tiempo se ha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MARCO LEGAL DE LA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el número de socios que desean iniciar el negoc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 cuantía del capital so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gastos de constit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os trámites a realizar para implantarla legalm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fiscales que se deberá afron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las obligaciones laborales a las que estará suj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>
                <a:solidFill>
                  <a:srgbClr val="3333cc"/>
                </a:solidFill>
                <a:latin typeface="Times New Roman"/>
              </a:rPr>
              <a:t>las responsabilidades que se adquieren frente a terc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e en asignar tiempos, responsables, metas y recursos a cada actividad de la empres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El plan de trabajo consistirá en la expresión concreta, clara y específica de lo establecido en cada una de las áreas y se concretará en el programa de realización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ara la realización del mismo deben fijarse objetivos temporales, y debe fijarse una secuencia lógica de actu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PLAN DE TRABAJO PARA 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Pasos a seguir para el desarrollo del proyec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la idea del producto o servic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Investigar el merc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finir el proceso de pro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ignar funciones y responsabil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Ver la viabilidad global del proye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ASPECTOS ECONÓMICO FINANCIEROS</a:t>
            </a:r>
            <a:r>
              <a:rPr b="0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Determinar la inversión inicial necesar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oyecciones de estados de tesorería (normalmente tres años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Times New Roman"/>
              </a:rPr>
              <a:t>DERTERMINACIÓN DE LA INVERSIÓN INICIAL NECESA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Evaluar los elementos necesarios para desarrollar nuestra actividad y cuantificación de su co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Además de los costes citados debe ser considerado en todo caso el </a:t>
            </a:r>
            <a:r>
              <a:rPr b="0" lang="es-ES_tradnl" sz="3200" spc="-1" strike="noStrike" u="sng">
                <a:solidFill>
                  <a:srgbClr val="3333cc"/>
                </a:solidFill>
                <a:uFillTx/>
                <a:latin typeface="Times New Roman"/>
              </a:rPr>
              <a:t>capital de trabajo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¿Cuánto dinero necesito para iniciar mi actividad?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33cc"/>
                </a:solidFill>
                <a:latin typeface="Times New Roman"/>
              </a:rPr>
              <a:t>ESTUDIO DE LAS FUENTES DE FINANCIACIÓN DISPONIBLES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a vez se conoce cuál es la inversión inicial necesaria, hay que determinar las fuentes económicas de las que se obtendrán los fondos necesarios para financiar el plan de inversiones.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400" spc="-1" strike="noStrike" u="sng">
                <a:solidFill>
                  <a:srgbClr val="3333cc"/>
                </a:solidFill>
                <a:uFillTx/>
                <a:latin typeface="Times New Roman"/>
              </a:rPr>
              <a:t>Fuentes de Financi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200" spc="-1" strike="noStrike">
                <a:solidFill>
                  <a:srgbClr val="3333cc"/>
                </a:solidFill>
                <a:latin typeface="Times New Roman"/>
              </a:rPr>
              <a:t>Préstamos famili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Ayudas del Es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Hipote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Leas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réditos banc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Capital ries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Características Básic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fica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Estructur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ompren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Br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Times New Roman"/>
              </a:rPr>
              <a:t>Có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resultados de la actividad empresa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Hay que ser realista, lo cual supon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Realizar una adecuada previsión de ingresos por ven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Determinar la totalidad de costes y gastos, diferenciando los variables de los fij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Proyecciones de estados de tesor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Tomar los apuntes de Evaluación de Proyectos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el I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Ojo con las ventas a pla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comendación Fi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o engañarse a uno mis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 metas alcanz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onerse en el lugar del invers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studiar bien el mercado antes de tirarse al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mpezar a trabajar lo antes po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Areas Princip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La organ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Aspectos económico-financie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3333cc"/>
                </a:solidFill>
                <a:latin typeface="Times New Roman"/>
              </a:rPr>
              <a:t>RESUMEN EJECU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intetizar de forma breve todos aquellos aspectos claves del Plan d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recomienda hacerlo al final, cuando el Plan de Negocio ya esté acabado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Contenidos del Resúmen Ejecutiv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Breve presentación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Oportunidad (es) de mercado detect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oducto/servicio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equipo humano fundador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El modelo de nego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Mercado y el potencial de crecimiento que tie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incipales ventajas competitivas de la empre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Times New Roman"/>
              </a:rPr>
              <a:t>Previsiones de facturación de la empresa para los 3 primeros añ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Times New Roman"/>
              </a:rPr>
              <a:t>Si el RE es malo el proyecto queda afue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Un resumen ejeútivo malo es como el comienzo de una mala película en T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Se ubica al principio del Plan de Negocios como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“carta de presentación”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del mismo y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ha de estimular a</a:t>
            </a: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ca-ES" sz="3200" spc="-1" strike="noStrike" u="sng">
                <a:solidFill>
                  <a:srgbClr val="3333cc"/>
                </a:solidFill>
                <a:uFillTx/>
                <a:latin typeface="Times New Roman"/>
              </a:rPr>
              <a:t>un posible inversor a seguir leyendo e interesarse por el Plan de Negocio que se present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813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4000" spc="-1" strike="noStrike">
                <a:solidFill>
                  <a:srgbClr val="3333cc"/>
                </a:solidFill>
                <a:latin typeface="Times New Roman"/>
              </a:rPr>
              <a:t>NATURALEZA DEL PROYECTO</a:t>
            </a:r>
            <a:r>
              <a:rPr b="1" lang="es-C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El producto o servicio nuev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Presentación del equipo dire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cc"/>
                </a:solidFill>
                <a:latin typeface="Times New Roman"/>
              </a:rPr>
              <a:t>Breve historia del proye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3200" spc="-1" strike="noStrike">
                <a:solidFill>
                  <a:srgbClr val="3333cc"/>
                </a:solidFill>
                <a:latin typeface="Times New Roman"/>
              </a:rPr>
              <a:t>Valoración global del proyecto y coherencia</a:t>
            </a:r>
            <a:r>
              <a:rPr b="0" lang="es-CL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i</cp:lastModifiedBy>
  <dcterms:modified xsi:type="dcterms:W3CDTF">2003-03-17T13:27:12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33759759</vt:r8>
  </property>
  <property fmtid="{D5CDD505-2E9C-101B-9397-08002B2CF9AE}" pid="3" name="_AuthorEmail">
    <vt:lpwstr>agringaus@colegium.com</vt:lpwstr>
  </property>
  <property fmtid="{D5CDD505-2E9C-101B-9397-08002B2CF9AE}" pid="4" name="_AuthorEmailDisplayName">
    <vt:lpwstr>Ariel Gringaus Higilchuk</vt:lpwstr>
  </property>
  <property fmtid="{D5CDD505-2E9C-101B-9397-08002B2CF9AE}" pid="5" name="_EmailSubject">
    <vt:lpwstr>Charla</vt:lpwstr>
  </property>
</Properties>
</file>