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70BF-FE14-44D1-968B-CFE4766E5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BBF3-DA5F-4B55-A456-2EE267F6C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236E-E74D-4088-AEAA-C40D38878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2023-1F25-4DFF-9D4F-537B704DB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63CC-56D0-4882-AB4A-6B9D25A0D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CF8C-287A-44A2-A178-6A092C2F1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F074-B0B8-4655-BED1-2B7CA737B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A48A-6969-41AF-A162-B9DDA920E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75DD-BC87-40A6-A865-128ED8E7D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E05A-F0D2-4719-8FBB-D38812D87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0AC1-02C9-46B5-B6B2-6B01943AF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7987-E3E0-4989-A317-506D61BF5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D45E6-A1D7-4EC4-AA39-B4DA33757D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685800" y="2637000"/>
            <a:ext cx="7772400" cy="13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3333cc"/>
                </a:solidFill>
                <a:latin typeface="Times New Roman"/>
              </a:rPr>
              <a:t>GUÍA PARA EL DESARROLLO DE UN PLAN DE NEGOCI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70520"/>
            <a:ext cx="777240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Times New Roman"/>
              </a:rPr>
              <a:t>Ariel Gringaus – Octubre 20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El Producto o Servicio</a:t>
            </a: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nuev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Definir el problema existente y la solución que se plant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Presentar el bien o servicio que se va a producir o ven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Señalar enfoques específicos del mis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Resaltar los aspectos innovad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Destacar los factores fundamentales de diferenci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3333cc"/>
                </a:solidFill>
                <a:latin typeface="Times New Roman"/>
              </a:rPr>
              <a:t>Indicar acciones a desarrollar para la protección de la id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 u="sng">
                <a:solidFill>
                  <a:srgbClr val="3333cc"/>
                </a:solidFill>
                <a:uFillTx/>
                <a:latin typeface="Times New Roman"/>
              </a:rPr>
              <a:t>Check list sobre la idea del producto o servicio</a:t>
            </a: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3333cc"/>
                </a:solidFill>
                <a:latin typeface="Times New Roman"/>
              </a:rPr>
              <a:t>¿Qué problema(s) soluciona su producto o servici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3333cc"/>
                </a:solidFill>
                <a:latin typeface="Times New Roman"/>
              </a:rPr>
              <a:t>¿A que necesidad del cliente respond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3333cc"/>
                </a:solidFill>
                <a:latin typeface="Times New Roman"/>
              </a:rPr>
              <a:t>¿A qué tipo de producto o servicio respond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3333cc"/>
                </a:solidFill>
                <a:latin typeface="Times New Roman"/>
              </a:rPr>
              <a:t>¿Qué se está ofreciendo exactament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3333cc"/>
                </a:solidFill>
                <a:latin typeface="Times New Roman"/>
              </a:rPr>
              <a:t>¿Qué es lo innovador del producto o servici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3333cc"/>
                </a:solidFill>
                <a:latin typeface="Times New Roman"/>
              </a:rPr>
              <a:t>¿Cuáles son sus características distintivas en relación a otros productos o servici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3333cc"/>
                </a:solidFill>
                <a:latin typeface="Times New Roman"/>
              </a:rPr>
              <a:t>¿Hasta qué punto nuestro producto es únic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¿Cómo protegeremos su exclusivida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El Equipo Directiv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Educación y preparación profes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Experiencia práct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Estancias en el extranje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Experiencia directiv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Habilidades especi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Más del equip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Si el equipo ha trabajado conjuntamente con anterior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Si la distribución de funciones es acorde con la experiencia indic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Si los fundadores conocen sus debilidades y están dispuestos a superarl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Si está claro la distribución de pape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Si existe un objetivo comú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Si la distribución de la propiedad está defini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Breve Historia del Proyec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¿Cómo se originó la ide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Tiempo transcurrido desde su origen y acciones que se han llevado a cab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Cómo se han integrado los diferentes miembros del equip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Principales problemas plante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Contactos e investigaciones que se han realiz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3333cc"/>
                </a:solidFill>
                <a:latin typeface="Times New Roman"/>
              </a:rPr>
              <a:t>Valoración global del proyecto y coherencia</a:t>
            </a: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Los puntos fuer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Los aspectos más atractivos del mis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Una argumentación de su coherencia inter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Identificación de los riesgos que puedan surgir</a:t>
            </a: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400" spc="-1" strike="noStrike">
                <a:solidFill>
                  <a:srgbClr val="3333cc"/>
                </a:solidFill>
                <a:latin typeface="Times New Roman"/>
              </a:rPr>
              <a:t>EL PRODUCTO O SERVICIO</a:t>
            </a:r>
            <a:r>
              <a:rPr b="1" lang="es-CL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Su simplicidad, es decir, facilidad de u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Su fiabilidad, es decir, que no fal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Su calidad: materiales, dur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400" spc="-1" strike="noStrike">
                <a:solidFill>
                  <a:srgbClr val="3333cc"/>
                </a:solidFill>
                <a:latin typeface="Times New Roman"/>
              </a:rPr>
              <a:t>Área de producción</a:t>
            </a:r>
            <a:r>
              <a:rPr b="1" lang="es-CL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El proceso de elaboración del producto o prestación del servi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La tecnología aplic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La determinación del coste del producto o servi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Descrpción de las actividades requeridas para producir el bien o prestar el servi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Organizar las actividades de manera secuen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Establecer los tiempos requeridos para llevar a cabo la activ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Tecnología emplea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Facilidad para adquirir la tecnolog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Condiciones especiales para hacer uso de ella: patentes, acuer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Aspectos técnicos especiales (capacitación del personal, equipo, instalaciones, et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Posibilidades de copiado y protección de la mis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Velocidad en que se suceden las innovaciones tecnológicas en el ámbito empresarial en que se va a desarrollar nuestra activ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Capacidad financiera de que se disp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400" spc="-1" strike="noStrike">
                <a:solidFill>
                  <a:srgbClr val="3333cc"/>
                </a:solidFill>
                <a:latin typeface="Times New Roman"/>
              </a:rPr>
              <a:t>Equipos e infraestructura</a:t>
            </a:r>
            <a:r>
              <a:rPr b="1" lang="es-CL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Locales y ofici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Maquinaria y herramien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Instal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Elementos de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Equipos para el proceso de infor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Aplicaciones informát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Mobili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Derechos de traspaso/ Patentes y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Depósitos y fianz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Gastos de constitución y puesta en funcion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Existenc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Objetivos de un B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3333cc"/>
                </a:solidFill>
                <a:latin typeface="Times New Roman"/>
              </a:rPr>
              <a:t>Ayudar al equipo promo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3333cc"/>
                </a:solidFill>
                <a:latin typeface="Times New Roman"/>
              </a:rPr>
              <a:t>Interesar a posibles inverso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400" spc="-1" strike="noStrike">
                <a:solidFill>
                  <a:srgbClr val="3333cc"/>
                </a:solidFill>
                <a:latin typeface="Times New Roman"/>
              </a:rPr>
              <a:t>EL MERCADO</a:t>
            </a:r>
            <a:r>
              <a:rPr b="0" lang="es-CL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¿Qué tamaño tiene el mercado al que vamos a dirigir nuestro producto o servici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¿Cuál es nuestro cliente potencia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¿Por qué los clientes potenciales necesitan nuestro product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¿Cómo llegaremos a nuestros clientes potencial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¿Qué competencia existe en la actualida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¿Por qué nos diferenciamos de la competenci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¿Cómo lograr que las personas se den cuenta de que lo necesita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¿ Cómo convencer al inverso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la definición del merc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segmentación del mercado obje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el análisis de la competencia exist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ventajas competitiv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la estrategia de prec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la promoción y public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el sistema de distribució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las prevision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400" spc="-1" strike="noStrike">
                <a:solidFill>
                  <a:srgbClr val="3333cc"/>
                </a:solidFill>
                <a:latin typeface="Times New Roman"/>
              </a:rPr>
              <a:t>Definición del mercado</a:t>
            </a:r>
            <a:r>
              <a:rPr b="1" lang="es-CL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El mercado geográfico: delimitando las zonas donde se piensa ofrecer el producto o servi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El mercado objetivo: definiendo los segmentos de mercado específicos a los que nos vamos a dirig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La situación del mercado: describiendo el estado actual y la posible evolución o tendencia futu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Definición clara del perfil de nuestro cliente potencial: identificando los futuros consumidores de nuestro producto o servic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Consejos para estimac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Partir de una base sólida utilizando cifras fácilmente verific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Seguir un camino lógico y que quede cla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Comparar las fuen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Ser creativo: si un valor es desconocido, busquemos un sustituto que se relacione con el que fal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Comprobar si el resultado es coherente y tiene senti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333cc"/>
                </a:solidFill>
                <a:latin typeface="Times New Roman"/>
              </a:rPr>
              <a:t>Criterios para la segmentación de clien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ca-ES" sz="2400" spc="-1" strike="noStrike">
                <a:solidFill>
                  <a:srgbClr val="3333cc"/>
                </a:solidFill>
                <a:latin typeface="Times New Roman"/>
              </a:rPr>
              <a:t>Para bienes de consu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Geográficos: país, zonas, comun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Demográficos: edad, sexo, profesión, ingresos.Estilo de vi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Comportamiento: uso, aplicaciones, afi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Comportamiento de compra: marcas, precio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ca-ES" sz="2400" spc="-1" strike="noStrike">
                <a:solidFill>
                  <a:srgbClr val="3333cc"/>
                </a:solidFill>
                <a:latin typeface="Times New Roman"/>
              </a:rPr>
              <a:t>Para bienes de inver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Demográficos: tamaño empresa, situación, sector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Operativos: tecnología aplica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Comportamiento de compras.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Factores de ubic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400" spc="-1" strike="noStrike">
                <a:solidFill>
                  <a:srgbClr val="3333cc"/>
                </a:solidFill>
                <a:latin typeface="Times New Roman"/>
              </a:rPr>
              <a:t>Análisis de la competenc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la competencia direc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la diferenci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3333cc"/>
                </a:solidFill>
                <a:latin typeface="Times New Roman"/>
              </a:rPr>
              <a:t>La diferenciación se puede conseguir a través de destacar en diversos aspectos como son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554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El servicio de entreg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La documentación técnic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El servicio de post ven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La calid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Conocimientos Escenci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El conocimiento de determinadas tecnologí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Las relaciones con determinados agentes del mercado objetiv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El conocimiento de un proces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El acceso a un canal de distribu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Estrategia de Marke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Estrategia de producto</a:t>
            </a: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ca-E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trategia de prec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Estrategia de promoció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Estrategia de pla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400" spc="-1" strike="noStrike">
                <a:solidFill>
                  <a:srgbClr val="3333cc"/>
                </a:solidFill>
                <a:latin typeface="Times New Roman"/>
              </a:rPr>
              <a:t>Previsiones de vent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Se debe hacer una estimación de los ingresos que podremos obtener en un horizonte de 3 a 5 años</a:t>
            </a: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Hay que ser REALIS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Partes Básicas de un B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RESUMEN EJECUTIVO</a:t>
            </a: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DESARROLLO DEL PLAN DE NEGOCIO</a:t>
            </a: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ORGANIZACIÓN Y PLAN DE TRABAJO DE DESARROLLO DEL PROYEC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ASPECTOS ECONÓMICO-FINANCIEROS</a:t>
            </a: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000" spc="-1" strike="noStrike">
                <a:solidFill>
                  <a:srgbClr val="3333cc"/>
                </a:solidFill>
                <a:latin typeface="Times New Roman"/>
              </a:rPr>
              <a:t>ORGANIZACIÓN Y PLAN DE TRABAJO DE DESARROLLO DEL PROYECTO</a:t>
            </a: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627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Distribución de tareas y responsabil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Planificación del pers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Dirección y cultura de la empresa</a:t>
            </a: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3333cc"/>
                </a:solidFill>
                <a:latin typeface="Times New Roman"/>
              </a:rPr>
              <a:t>ASPECTOS GENERALES DE LA ORGANIZA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Los procesos operativos (funciones) de la empres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¿Qué se ha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¿Cómo se ha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¿Con que se ha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¿Dónde se ha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¿En cuanto tiempo se ha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3333cc"/>
                </a:solidFill>
                <a:latin typeface="Times New Roman"/>
              </a:rPr>
              <a:t>MARCO LEGAL DE LA ORGANIZA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el número de socios que desean iniciar el nego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la cuantía del capital so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los gastos de constitu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los trámites a realizar para implantarla legalm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las obligaciones fiscales que se deberá afron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las obligaciones laborales a las que estará suje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3333cc"/>
                </a:solidFill>
                <a:latin typeface="Times New Roman"/>
              </a:rPr>
              <a:t>las responsabilidades que se adquieren frente a terce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3333cc"/>
                </a:solidFill>
                <a:latin typeface="Times New Roman"/>
              </a:rPr>
              <a:t>PLAN DE TRABAJO PARA EL PROYEC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El plan de trabajo consiste en asignar tiempos, responsables, metas y recursos a cada actividad de la empres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El plan de trabajo consistirá en la expresión concreta, clara y específica de lo establecido en cada una de las áreas y se concretará en el programa de realización.</a:t>
            </a: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3333cc"/>
                </a:solidFill>
                <a:latin typeface="Times New Roman"/>
              </a:rPr>
              <a:t>PLAN DE TRABAJO PARA EL PROYEC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Para la realización del mismo deben fijarse objetivos temporales, y debe fijarse una secuencia lógica de actu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3333cc"/>
                </a:solidFill>
                <a:latin typeface="Times New Roman"/>
              </a:rPr>
              <a:t>PLAN DE TRABAJO PARA EL PROYECTO</a:t>
            </a:r>
            <a:r>
              <a:rPr b="1" lang="es-CL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Times New Roman"/>
              </a:rPr>
              <a:t>Pasos a seguir para el desarrollo del proyec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Definir la idea del producto o servic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Investigar el merca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Definir el proceso de produc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Asignar funciones y responsabilida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Ver la viabilidad global del proyec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3333cc"/>
                </a:solidFill>
                <a:latin typeface="Times New Roman"/>
              </a:rPr>
              <a:t>ASPECTOS ECONÓMICO FINANCIEROS</a:t>
            </a: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Determinar la inversión inicial necesari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Estudio de las fuentes de financiación disponib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Proyecciones de resultados de la actividad empresarial (normalmente tres año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Proyecciones de estados de tesorería (normalmente tres año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cc"/>
                </a:solidFill>
                <a:latin typeface="Times New Roman"/>
              </a:rPr>
              <a:t>DERTERMINACIÓN DE LA INVERSIÓN INICIAL NECESAR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Evaluar los elementos necesarios para desarrollar nuestra actividad y cuantificación de su cos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Además de los costes citados debe ser considerado en todo caso el </a:t>
            </a:r>
            <a:r>
              <a:rPr b="0" lang="es-ES_tradnl" sz="3200" spc="-1" strike="noStrike" u="sng">
                <a:solidFill>
                  <a:srgbClr val="3333cc"/>
                </a:solidFill>
                <a:uFillTx/>
                <a:latin typeface="Times New Roman"/>
              </a:rPr>
              <a:t>capital de trabajo</a:t>
            </a: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¿Cuánto dinero necesito para iniciar mi actividad?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cc"/>
                </a:solidFill>
                <a:latin typeface="Times New Roman"/>
              </a:rPr>
              <a:t>ESTUDIO DE LAS FUENTES DE FINANCIACIÓN DISPONIBLES</a:t>
            </a:r>
            <a:r>
              <a:rPr b="1" lang="es-CL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Una vez se conoce cuál es la inversión inicial necesaria, hay que determinar las fuentes económicas de las que se obtendrán los fondos necesarios para financiar el plan de inversiones.</a:t>
            </a: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400" spc="-1" strike="noStrike" u="sng">
                <a:solidFill>
                  <a:srgbClr val="3333cc"/>
                </a:solidFill>
                <a:uFillTx/>
                <a:latin typeface="Times New Roman"/>
              </a:rPr>
              <a:t>Fuentes de Financi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3333cc"/>
                </a:solidFill>
                <a:latin typeface="Times New Roman"/>
              </a:rPr>
              <a:t>Préstamos familia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Ayudas del Est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Hipote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Lea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Créditos bancar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Capital ries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Características Básic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Times New Roman"/>
              </a:rPr>
              <a:t>Efica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Times New Roman"/>
              </a:rPr>
              <a:t>Estructur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Times New Roman"/>
              </a:rPr>
              <a:t>Compren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Times New Roman"/>
              </a:rPr>
              <a:t>Bre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Times New Roman"/>
              </a:rPr>
              <a:t>Cómo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333cc"/>
                </a:solidFill>
                <a:latin typeface="Times New Roman"/>
              </a:rPr>
              <a:t>Proyecciones de resultados de la actividad empresari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Tomar los apuntes de Evaluación de Proyectos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Hay que ser realista, lo cual supon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Realizar una adecuada previsión de ingresos por vent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Determinar la totalidad de costes y gastos, diferenciando los variables de los fij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333cc"/>
                </a:solidFill>
                <a:latin typeface="Times New Roman"/>
              </a:rPr>
              <a:t>Proyecciones de estados de tesorerí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Tomar los apuntes de Evaluación de Proyectos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Ojo con el I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Ojo con las ventas a plaz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Recomendación Fi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No engañarse a uno mis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Poner metas alcanz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Ponerse en el lugar del invers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Estudiar bien el mercado antes de tirarse al agu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Empezar a trabajar lo antes po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Creerse el cu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Areas Princip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Naturaleza del proyec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Merc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El produc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La organiz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Aspectos económico-financier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RESUMEN EJECUTIV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Sintetizar de forma breve todos aquellos aspectos claves del Plan de Negoc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Se recomienda hacerlo al final, cuando el Plan de Negocio ya esté acabado</a:t>
            </a: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333cc"/>
                </a:solidFill>
                <a:latin typeface="Times New Roman"/>
              </a:rPr>
              <a:t>Contenidos del Resúmen Ejecutiv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Breve presentación de la empre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Oportunidad (es) de mercado detect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Producto/servicio de la empre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Tecnolo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El equipo humano fundador de la empre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El modelo de nego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Mercado y el potencial de crecimiento que tie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Principales ventajas competitivas de la empre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Previsiones de facturación de la empresa para los 3 primeros añ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333cc"/>
                </a:solidFill>
                <a:latin typeface="Times New Roman"/>
              </a:rPr>
              <a:t>Si el RE es malo el proyecto queda afuer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Un resumen ejeútivo malo es como el comienzo de una mala película en T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Se ubica al principio del Plan de Negocios como </a:t>
            </a:r>
            <a:r>
              <a:rPr b="0" lang="ca-ES" sz="3200" spc="-1" strike="noStrike" u="sng">
                <a:solidFill>
                  <a:srgbClr val="3333cc"/>
                </a:solidFill>
                <a:uFillTx/>
                <a:latin typeface="Times New Roman"/>
              </a:rPr>
              <a:t>“carta de presentación”</a:t>
            </a: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 del mismo y </a:t>
            </a:r>
            <a:r>
              <a:rPr b="0" lang="ca-ES" sz="3200" spc="-1" strike="noStrike" u="sng">
                <a:solidFill>
                  <a:srgbClr val="3333cc"/>
                </a:solidFill>
                <a:uFillTx/>
                <a:latin typeface="Times New Roman"/>
              </a:rPr>
              <a:t>ha de estimular a</a:t>
            </a: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a-ES" sz="3200" spc="-1" strike="noStrike" u="sng">
                <a:solidFill>
                  <a:srgbClr val="3333cc"/>
                </a:solidFill>
                <a:uFillTx/>
                <a:latin typeface="Times New Roman"/>
              </a:rPr>
              <a:t>un posible inversor a seguir leyendo e interesarse por el Plan de Negocio que se presenta</a:t>
            </a: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609120"/>
            <a:ext cx="81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3333cc"/>
                </a:solidFill>
                <a:latin typeface="Times New Roman"/>
              </a:rPr>
              <a:t>NATURALEZA DEL PROYECTO</a:t>
            </a:r>
            <a:r>
              <a:rPr b="1" lang="es-CL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El producto o servicio nuev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Presentación del equipo directi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Breve historia del proyec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Valoración global del proyecto y coherencia</a:t>
            </a: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ii</cp:lastModifiedBy>
  <dcterms:modified xsi:type="dcterms:W3CDTF">2003-03-17T13:27:12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333759759</vt:r8>
  </property>
  <property fmtid="{D5CDD505-2E9C-101B-9397-08002B2CF9AE}" pid="3" name="_AuthorEmail">
    <vt:lpwstr>agringaus@colegium.com</vt:lpwstr>
  </property>
  <property fmtid="{D5CDD505-2E9C-101B-9397-08002B2CF9AE}" pid="4" name="_AuthorEmailDisplayName">
    <vt:lpwstr>Ariel Gringaus Higilchuk</vt:lpwstr>
  </property>
  <property fmtid="{D5CDD505-2E9C-101B-9397-08002B2CF9AE}" pid="5" name="_EmailSubject">
    <vt:lpwstr>Charla</vt:lpwstr>
  </property>
</Properties>
</file>