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99C373-7DE4-4D67-AFA0-918B2B0C0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0F396A-630C-4034-B261-C71DAA98B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A9D017-E337-4CF0-BEFD-3266BF48A5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2E6152-A78F-4A97-A3FB-A1B3426425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F8D17-189F-4FC6-895C-E06010C5C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C7220-E343-46DA-9667-ED2FFC813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71D61-ACEF-4AFC-B1E7-7DDCEF8C1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8DAFF-944C-4B9A-976B-A75343256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B5F6A-FEB2-4C15-AC9E-50936F978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077BB-6E19-4D10-9D3F-8022F0898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8BCAC-CE0B-49FE-AE2B-CA6EA0D44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44E961-6005-49CB-B577-29412592E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B07E3-D460-4C4E-B469-03FEF0DB1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314FC-4C6A-4C54-930E-52598CFC0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B2FE7-D523-47F6-9C5F-257BC4D91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55A89-0052-45B4-80F1-0014BE2E0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B2FBD-4FF3-4306-BEE2-A1306517E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E796F-E5E8-4683-8F71-100DE7BC5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D44B8B-B282-4F76-A0A5-6BDF94EED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AD0F56-7504-4FAF-B4B3-5C0B77ACA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779B63-615D-4C58-9875-6064BBA8B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688991-85C7-4408-B0E0-A0A4DDFB9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75AF1-1279-42F7-B039-FAFD3D3E4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A6D6B7-AD96-44A7-B437-1CA4B03CE0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2D55-D780-423D-8211-47DFA8E6FDB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9D83-C027-47F7-9512-25831363BBB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Arial"/>
              </a:rPr>
              <a:t>ANÁLISIS DE RIESGO</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GEORGE HADWA O.</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69B</a:t>
            </a:r>
            <a:endParaRPr b="0" lang="en-US" sz="3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stCondLst>
                                            <p:cond delay="0"/>
                                          </p:stCondLst>
                                        </p:cTn>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 dur="1000">
                                          <p:stCondLst>
                                            <p:cond delay="0"/>
                                          </p:stCondLst>
                                        </p:cTn>
                                        <p:tgtEl>
                                          <p:spTgt spid="10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7" dur="1000">
                                          <p:stCondLst>
                                            <p:cond delay="0"/>
                                          </p:stCondLst>
                                        </p:cTn>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USAS PRINCIPALES DEL RIESG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º INSUFICIENTE DE INVERSIONES SIMILARES QUE PUEDAN PROPORCIONAR INFORMACIÓN PROMEDI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JUICIOS CONTENIDOS EN LOS DATOS Y SU APRECIACIÓN, QUE INDUCEN EFECTOS OPTIMISTAS O PESIMISTAS, DEPENDIENDO DE LA SUBJETIVIDAD DEL ANAL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USAS PRINCIPALES DEL RIESGO</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EN EL MEDIO ECONÓMICO EXTERNO QUE ANULAN LA EXPERIENCIA ADQUIRIDA EN EL PASADO, Y LA INTERPRETACIÓN ERRÓNEA DE LOS DATOS O LOS ERRORES EN LA APLICACIÓN DE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ARIABLES PRINCIPALES QUE DAN ORIGEN AL RIESGO</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CI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LIDAD DE MP.</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IVEL TECNOLÓGICO DE PRODUC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ALAS DE REMUNERACION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OLUCIÓN DE LOS MERCAD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VENCIA DE LOS PROVEE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ARIABLES PRINCIPALES QUE DAN ORIGEN AL RIESGO</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RIACIONES DE LA DEMAND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LÍTICAS DEL GOBIERNO CON RESPECTO AL COMERCIO EXTERI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IVIDAD REAL DE LA OPE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ECIACIÓN O DEPRECIACIÓN DE LA MONEDA DE ORI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DICIÓN DEL RIESGO</a:t>
            </a:r>
            <a:endParaRPr b="0" lang="en-US" sz="4400" spc="-1" strike="noStrike">
              <a:solidFill>
                <a:srgbClr val="000000"/>
              </a:solidFill>
              <a:latin typeface="Arial"/>
            </a:endParaRPr>
          </a:p>
        </p:txBody>
      </p:sp>
      <p:sp>
        <p:nvSpPr>
          <p:cNvPr id="133" name="PlaceHolder 2"/>
          <p:cNvSpPr>
            <a:spLocks noGrp="1"/>
          </p:cNvSpPr>
          <p:nvPr>
            <p:ph/>
          </p:nvPr>
        </p:nvSpPr>
        <p:spPr>
          <a:xfrm>
            <a:off x="324000" y="1628640"/>
            <a:ext cx="8362800" cy="26640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VIACIÓN ESTÁNDA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Xk : FLUJO DE CAJA DE LA POSIBILIDAD 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k : PROBABILIDAD DE OCURRENCIA</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XE : VALOR ESPERADO DE LA DISTRIBUCIÓN DE    </a:t>
            </a:r>
            <a:r>
              <a:rPr b="0" lang="es-ES" sz="2000" spc="-1" strike="noStrike">
                <a:solidFill>
                  <a:srgbClr val="000000"/>
                </a:solidFill>
                <a:latin typeface="Arial"/>
              </a:rPr>
              <a:t>	</a:t>
            </a:r>
            <a:r>
              <a:rPr b="0" lang="es-ES" sz="2000" spc="-1" strike="noStrike">
                <a:solidFill>
                  <a:srgbClr val="000000"/>
                </a:solidFill>
                <a:latin typeface="Arial"/>
              </a:rPr>
              <a:t>PROBABILIDADES DE LOS FLUJOS DE CAJA</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XE = </a:t>
            </a:r>
            <a:r>
              <a:rPr b="0" lang="el-GR" sz="2000" spc="-1" strike="noStrike">
                <a:solidFill>
                  <a:srgbClr val="000000"/>
                </a:solidFill>
                <a:latin typeface="Arial"/>
                <a:ea typeface="Arial"/>
              </a:rPr>
              <a:t>Σ</a:t>
            </a:r>
            <a:r>
              <a:rPr b="0" lang="es-ES" sz="2000" spc="-1" strike="noStrike">
                <a:solidFill>
                  <a:srgbClr val="000000"/>
                </a:solidFill>
                <a:latin typeface="Arial"/>
                <a:ea typeface="Arial"/>
              </a:rPr>
              <a:t> </a:t>
            </a:r>
            <a:r>
              <a:rPr b="0" lang="es-ES" sz="2000" spc="-1" strike="noStrike">
                <a:solidFill>
                  <a:srgbClr val="000000"/>
                </a:solidFill>
                <a:latin typeface="Arial"/>
              </a:rPr>
              <a:t>Xk . Pk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biLevel thresh="50000"/>
          </a:blip>
          <a:stretch/>
        </p:blipFill>
        <p:spPr>
          <a:xfrm>
            <a:off x="755640" y="4797360"/>
            <a:ext cx="6912000" cy="1254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PARACIÓN DE PROYECTOS</a:t>
            </a: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UTILIZA EL COEFICIENTE VARIACIÓN C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V MIDE LA DISPERSIÓN RELATIV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JOR PROYECTO  </a:t>
            </a:r>
            <a:r>
              <a:rPr b="0" lang="es-ES" sz="2800" spc="-1" strike="noStrike">
                <a:solidFill>
                  <a:srgbClr val="000000"/>
                </a:solidFill>
                <a:latin typeface="Arial"/>
                <a:ea typeface="Arial"/>
              </a:rPr>
              <a:t>→  ↓C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CV = </a:t>
            </a:r>
            <a:r>
              <a:rPr b="0" lang="el-GR" sz="2800" spc="-1" strike="noStrike">
                <a:solidFill>
                  <a:srgbClr val="000000"/>
                </a:solidFill>
                <a:latin typeface="Arial"/>
                <a:ea typeface="Arial"/>
              </a:rPr>
              <a:t>σ</a:t>
            </a:r>
            <a:r>
              <a:rPr b="0" lang="es-ES" sz="2800" spc="-1" strike="noStrike">
                <a:solidFill>
                  <a:srgbClr val="000000"/>
                </a:solidFill>
                <a:latin typeface="Arial"/>
                <a:ea typeface="Arial"/>
              </a:rPr>
              <a:t>/X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TODOLOGÍAS PARA TRATAR EL RIESGO</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CRITERIO SUBJETIVO.</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VALOR PRESENTE NETO ESPERADO.</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 LA PROBABILIDAD DE PÉRDIDA EN LA ACEPTACIÓN.</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 LA TASA INCREMENTADA POR EL RIESGO.</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ODO DEL CRITERIO SUBJETIVO</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LOS MÁS COMÚNMENTE UTILIZAD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BASA EN CONSIDERACIONES DE CARÁCTER INFORMAL DE QUIEN TOMA LA DECIS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ORPORA EL RIESGO EN BASE A LA APRECIACIÓN PERSONAL DE QUIEN TOMA LA DEC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L VALOR PRESENTE NETO ESPERADO (VPNE)</a:t>
            </a:r>
            <a:endParaRPr b="0" lang="en-US" sz="4000" spc="-1" strike="noStrike">
              <a:solidFill>
                <a:srgbClr val="000000"/>
              </a:solidFill>
              <a:latin typeface="Arial"/>
            </a:endParaRPr>
          </a:p>
        </p:txBody>
      </p:sp>
      <p:sp>
        <p:nvSpPr>
          <p:cNvPr id="142" name="PlaceHolder 2"/>
          <p:cNvSpPr>
            <a:spLocks noGrp="1"/>
          </p:cNvSpPr>
          <p:nvPr>
            <p:ph/>
          </p:nvPr>
        </p:nvSpPr>
        <p:spPr>
          <a:xfrm>
            <a:off x="395280" y="2565360"/>
            <a:ext cx="8291520" cy="3301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VALOR PRESENTE NETO ESPERADO ES EL MÁS USADO PORQUE PERMITE INCORPORAR EN FORMA DIRECTA EL RIESGO A LA INCERTIDUMB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L VALOR PRESENTE NETO ESPERADO (VPNE)</a:t>
            </a:r>
            <a:endParaRPr b="0" lang="en-US" sz="4000" spc="-1" strike="noStrike">
              <a:solidFill>
                <a:srgbClr val="000000"/>
              </a:solidFill>
              <a:latin typeface="Arial"/>
            </a:endParaRPr>
          </a:p>
        </p:txBody>
      </p:sp>
      <p:sp>
        <p:nvSpPr>
          <p:cNvPr id="144" name="PlaceHolder 2"/>
          <p:cNvSpPr>
            <a:spLocks noGrp="1"/>
          </p:cNvSpPr>
          <p:nvPr>
            <p:ph/>
          </p:nvPr>
        </p:nvSpPr>
        <p:spPr>
          <a:xfrm>
            <a:off x="468000" y="2491920"/>
            <a:ext cx="8218440" cy="337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VPNE = </a:t>
            </a:r>
            <a:r>
              <a:rPr b="1" lang="el-GR" sz="2800" spc="-1" strike="noStrike">
                <a:solidFill>
                  <a:srgbClr val="000000"/>
                </a:solidFill>
                <a:latin typeface="Arial"/>
                <a:ea typeface="Arial"/>
              </a:rPr>
              <a:t>Σ</a:t>
            </a:r>
            <a:r>
              <a:rPr b="1" lang="es-ES" sz="2800" spc="-1" strike="noStrike">
                <a:solidFill>
                  <a:srgbClr val="000000"/>
                </a:solidFill>
                <a:latin typeface="Arial"/>
              </a:rPr>
              <a:t>n XEk / (1 + i)^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ND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PNE = VALOR PRESENTE NETO ESPERADO.</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XEk = VALOR ESPERADO EN EL PERIODO k.</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 TASA EFECTIVA PARA EL PERÍODO.</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  = NÚMERO TOTAL DE PERIOD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GENDA</a:t>
            </a:r>
            <a:endParaRPr b="0" lang="en-US" sz="4400" spc="-1" strike="noStrike">
              <a:solidFill>
                <a:srgbClr val="000000"/>
              </a:solidFill>
              <a:latin typeface="Arial"/>
            </a:endParaRPr>
          </a:p>
        </p:txBody>
      </p:sp>
      <p:sp>
        <p:nvSpPr>
          <p:cNvPr id="109" name="PlaceHolder 2"/>
          <p:cNvSpPr>
            <a:spLocks noGrp="1"/>
          </p:cNvSpPr>
          <p:nvPr>
            <p:ph/>
          </p:nvPr>
        </p:nvSpPr>
        <p:spPr>
          <a:xfrm>
            <a:off x="324000" y="1628280"/>
            <a:ext cx="830088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IESGO / INCERTIDUMB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ALA EN EL GRADO DE CERTEZ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ENARIOS POS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IESGO (DEFINICIÓN, CLASIFICACIÓN, CAUSAS, VARIABLES EN JUEGO,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ARACIÓN DE PROYECT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TODOLOGÍAS PARA TRATAR EL RIESG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LUSI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PROBABILIDAD DE PÉRDIDA EN LA ACEPTACIÓN</a:t>
            </a:r>
            <a:endParaRPr b="0" lang="en-US" sz="4000" spc="-1" strike="noStrike">
              <a:solidFill>
                <a:srgbClr val="000000"/>
              </a:solidFill>
              <a:latin typeface="Arial"/>
            </a:endParaRPr>
          </a:p>
        </p:txBody>
      </p:sp>
      <p:sp>
        <p:nvSpPr>
          <p:cNvPr id="146" name="PlaceHolder 2"/>
          <p:cNvSpPr>
            <a:spLocks noGrp="1"/>
          </p:cNvSpPr>
          <p:nvPr>
            <p:ph/>
          </p:nvPr>
        </p:nvSpPr>
        <p:spPr>
          <a:xfrm>
            <a:off x="324000" y="2421000"/>
            <a:ext cx="8362800" cy="396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STE EN HALLAR LA PROBABILIDAD DEL QUE EL VPNE RESULTE MENOR QUE CERO Y POR LO TANTO QUE HAYA PÉRDI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MÉTODO ES NECESARIO QUE SE CALCULE LA DESVIACIÓN ESTÁNDAR DE TODO EL PROYECTO Y QUE SE NORMALICEN LOS RESULTADOS PARA PODERLE APLICAR LA CURVA NORMAL Y DE ESTA FORMA AVERIGUAR EL ÁREA QUE CORRESPONDE A UNA ABCISA MENOR DE C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PROBABILIDAD DE PÉRDIDA EN LA ACEPTACIÓN</a:t>
            </a:r>
            <a:endParaRPr b="0" lang="en-US" sz="4000" spc="-1" strike="noStrike">
              <a:solidFill>
                <a:srgbClr val="000000"/>
              </a:solidFill>
              <a:latin typeface="Arial"/>
            </a:endParaRPr>
          </a:p>
        </p:txBody>
      </p:sp>
      <p:sp>
        <p:nvSpPr>
          <p:cNvPr id="148" name="PlaceHolder 2"/>
          <p:cNvSpPr>
            <a:spLocks noGrp="1"/>
          </p:cNvSpPr>
          <p:nvPr>
            <p:ph/>
          </p:nvPr>
        </p:nvSpPr>
        <p:spPr>
          <a:xfrm>
            <a:off x="395280" y="2349360"/>
            <a:ext cx="4100400" cy="4104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ESVIACIÓN ESTÁNDAR EN ESTE MÉTODO, DEPENDE DE LAS DESVIACIONES DE LOS FLUJOS DE CAJA DE CADA PERIODO Y PUEDE SER CALCULADA POR LA SIGUIENTE FÓRMUL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σ</a:t>
            </a:r>
            <a:r>
              <a:rPr b="0" lang="es-ES" sz="1600" spc="-1" strike="noStrike">
                <a:solidFill>
                  <a:srgbClr val="000000"/>
                </a:solidFill>
                <a:latin typeface="Arial"/>
                <a:ea typeface="Arial"/>
              </a:rPr>
              <a:t>p</a:t>
            </a:r>
            <a:r>
              <a:rPr b="0" lang="es-ES" sz="1600" spc="-1" strike="noStrike">
                <a:solidFill>
                  <a:srgbClr val="000000"/>
                </a:solidFill>
                <a:latin typeface="Arial"/>
              </a:rPr>
              <a:t>  = DESVIACIÓN ESTÁNDAR DE </a:t>
            </a:r>
            <a:r>
              <a:rPr b="0" lang="es-ES" sz="1600" spc="-1" strike="noStrike">
                <a:solidFill>
                  <a:srgbClr val="000000"/>
                </a:solidFill>
                <a:latin typeface="Arial"/>
              </a:rPr>
              <a:t>	</a:t>
            </a:r>
            <a:r>
              <a:rPr b="0" lang="es-ES" sz="1600" spc="-1" strike="noStrike">
                <a:solidFill>
                  <a:srgbClr val="000000"/>
                </a:solidFill>
                <a:latin typeface="Arial"/>
              </a:rPr>
              <a:t>TODO EL PROYECTO.</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k  = DESVIACIÓN ESTÁNDAR DEL </a:t>
            </a:r>
            <a:r>
              <a:rPr b="0" lang="es-ES" sz="1600" spc="-1" strike="noStrike">
                <a:solidFill>
                  <a:srgbClr val="000000"/>
                </a:solidFill>
                <a:latin typeface="Arial"/>
              </a:rPr>
              <a:t>	</a:t>
            </a:r>
            <a:r>
              <a:rPr b="0" lang="es-ES" sz="1600" spc="-1" strike="noStrike">
                <a:solidFill>
                  <a:srgbClr val="000000"/>
                </a:solidFill>
                <a:latin typeface="Arial"/>
              </a:rPr>
              <a:t>FLUJO DE CAJA DEL PERIODO </a:t>
            </a:r>
            <a:r>
              <a:rPr b="0" lang="es-ES" sz="1600" spc="-1" strike="noStrike">
                <a:solidFill>
                  <a:srgbClr val="000000"/>
                </a:solidFill>
                <a:latin typeface="Arial"/>
              </a:rPr>
              <a:t>	</a:t>
            </a:r>
            <a:r>
              <a:rPr b="0" lang="es-ES" sz="1600" spc="-1" strike="noStrike">
                <a:solidFill>
                  <a:srgbClr val="000000"/>
                </a:solidFill>
                <a:latin typeface="Arial"/>
              </a:rPr>
              <a:t>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 = NÚMERO DE PERIODO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 TASA DE INTERÉ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9" name="" descr=""/>
          <p:cNvPicPr/>
          <p:nvPr/>
        </p:nvPicPr>
        <p:blipFill>
          <a:blip r:embed="rId1">
            <a:biLevel thresh="50000"/>
          </a:blip>
          <a:stretch/>
        </p:blipFill>
        <p:spPr>
          <a:xfrm>
            <a:off x="4140360" y="3429000"/>
            <a:ext cx="467964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1" name="PlaceHolder 2"/>
          <p:cNvSpPr>
            <a:spLocks noGrp="1"/>
          </p:cNvSpPr>
          <p:nvPr>
            <p:ph/>
          </p:nvPr>
        </p:nvSpPr>
        <p:spPr>
          <a:xfrm>
            <a:off x="324000" y="2491920"/>
            <a:ext cx="8362800" cy="3816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LLAMADO MÉTODO DE LA TASA AJUSTADA AL RIESG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VALUAR EL PROYECTO CON UNA TASA QUE DEBE SER IGUAL A LA TASA LIBRE DE RIESGO MÁS LA TASA PROPIA DE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3" name="PlaceHolder 2"/>
          <p:cNvSpPr>
            <a:spLocks noGrp="1"/>
          </p:cNvSpPr>
          <p:nvPr>
            <p:ph/>
          </p:nvPr>
        </p:nvSpPr>
        <p:spPr>
          <a:xfrm>
            <a:off x="395280" y="2421000"/>
            <a:ext cx="8291520" cy="396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RIESGO  →  ↑ TASA  (CASTIGO A LA RENTABILIDAD DEL PROYEC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TASA LIBRE DE RIESGO PUEDE SER LA TASA QUE SE UTILIZARÍA EN EL PROYECTO CUANDO HAY CERTEZA Y LA TASA PROPIA DE RIESGO ES EL RECARGO QUE DEBE HACERSE POR LA EXISTENCIA MISMA DEL RIES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5" name="PlaceHolder 2"/>
          <p:cNvSpPr>
            <a:spLocks noGrp="1"/>
          </p:cNvSpPr>
          <p:nvPr>
            <p:ph/>
          </p:nvPr>
        </p:nvSpPr>
        <p:spPr>
          <a:xfrm>
            <a:off x="395280" y="2420640"/>
            <a:ext cx="8291520" cy="344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 = i1 + i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N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 = TASA AJUSTADA AL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1= TASA LIBRE DE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2= TASA DE RIESG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7" name="PlaceHolder 2"/>
          <p:cNvSpPr>
            <a:spLocks noGrp="1"/>
          </p:cNvSpPr>
          <p:nvPr>
            <p:ph/>
          </p:nvPr>
        </p:nvSpPr>
        <p:spPr>
          <a:xfrm>
            <a:off x="468000" y="2420640"/>
            <a:ext cx="8218440" cy="3446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2 TAMBIÉN SE DENOMINA PRIMA POR RIESGO. ÉSTA ES LA TASA QUE EXIGE EL INVERSIONISTA PARA COMPENSAR UNA INVERSIÓN CON RETORNOS INCIER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DE ESTE MÉTODO: DETERMINAR i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RIESGO SE DEFINE LA VARIABILIDAD DE LOS FLUJOS DE CAJA REALES RESPECTO A LOS ESTIMA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MEDICIÓN SE REALIZA OBTENIENDO LA DESVIACIÓN ESTÁNDAR DE LA DISTRIBUCIÓN DE PROBABILIDADES DE LOS POSIBLES FLUJOS DE C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61" name="PlaceHolder 2"/>
          <p:cNvSpPr>
            <a:spLocks noGrp="1"/>
          </p:cNvSpPr>
          <p:nvPr>
            <p:ph/>
          </p:nvPr>
        </p:nvSpPr>
        <p:spPr>
          <a:xfrm>
            <a:off x="395280" y="1557360"/>
            <a:ext cx="829152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EFICIENTE DE VARIACIÓN ES UNA UNIDAD DE MEDIDA RELATIVA DEL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DIVERSOS ENFOQUES PARA LA EVALUACIÓN DE PROYECTOS RIESGOSOS. EL MÁS USADO ES EL MÉTODO DEL CRITERIO SUBJETIVO, PERO SON LOS MÉTODOS PROBABILÍSTICOS LOS MÁS ADECUADOS CONCEPTUALMENTE AUNQUE SUBSISTE EN ELLOS EL PROBLEMA DE CALCULAR UNA PROBABILIDAD DE OCURRENCIA QUE SEA CONFIA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Arial"/>
              </a:rPr>
              <a:t>FIN</a:t>
            </a:r>
            <a:endParaRPr b="0" lang="en-US" sz="96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 E INCERTIDUMBR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REFIEREN A SITUACIONES FUTU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ES EN EL DESARROLLO DE TODO 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E UNA SITUACIÓN DONDE LA INFORMACIÓN ES DE NATURALEZA ALEATORIA, EN QUE SE ASOCIA UNA ESTRATEGIA A UN CONJUNTO DE RESULTADOS POSIBLES, CADA UNO DE LOS CUALES TIENE ASIGNADA UNA PROB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CERTIDUMBR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IZA UNA SITUACIÓN DONDE LOS POSIBLES RESULTADOS DE UNA ESTRATEGIA NO SON CONOCIDOS Y, EN CONSECUENCIA, SUS PROBABILIDADES DE OCURRENCIA NO SON CUANTIFIC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CALA EN EL GRADO DE CERTEZA</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SEA DISMINUIR LA INCERTIDUMBRE CON RESPECTO A LOS RESULTADOS FINALES </a:t>
            </a:r>
            <a:r>
              <a:rPr b="0" lang="es-ES" sz="3200" spc="-1" strike="noStrike">
                <a:solidFill>
                  <a:srgbClr val="000000"/>
                </a:solidFill>
                <a:latin typeface="Arial"/>
                <a:ea typeface="Arial"/>
              </a:rPr>
              <a:t>→ COMPRAR CERTIDUMB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ea typeface="Arial"/>
              </a:rPr>
              <a:t>INCERTIDUMBRE→RIESGO→CONOCIMIENTO CIER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CENARIOS POSIBLE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ONOMÍA EN PROSPERIDAD </a:t>
            </a:r>
            <a:r>
              <a:rPr b="0" lang="es-ES" sz="2800" spc="-1" strike="noStrike">
                <a:solidFill>
                  <a:srgbClr val="000000"/>
                </a:solidFill>
                <a:latin typeface="Arial"/>
                <a:ea typeface="Arial"/>
              </a:rPr>
              <a:t>→ PRONÓSTICO OPTIMISTA (LA MEJOR ESTIM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CONOMÍA NORMAL → PRONÓSTICO REALISTA (LA ESTIMACIÓN MÁS PROBAB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CONOMÍA EN REPRESIÓN → PRONÓSTICO PESIMISTA (LA PEOR ESTIM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 DE UN PROYEC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RIABILIDAD DE LOS FLUJOS DE CAJA REALES RESPECTO A LOS ESTIM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a:solidFill>
                  <a:srgbClr val="000000"/>
                </a:solidFill>
                <a:latin typeface="Arial"/>
                <a:ea typeface="Arial"/>
              </a:rPr>
              <a:t>VARIABILIDAD   →   ↑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IFICACIÓN DEL RIESGO</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DEFECTOS O VACÍOS CONTRACTUA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ERRORES EN LA ADMINISTRACIÓN U OPERACIÓN DE LA PROPIA ORGANIZ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FACTORE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rge Lara</cp:lastModifiedBy>
  <dcterms:modified xsi:type="dcterms:W3CDTF">2004-10-25T19:00:27Z</dcterms:modified>
  <cp:revision>10</cp:revision>
  <dc:subject/>
  <dc:title>PowerPoint Presentation</dc:title>
</cp:coreProperties>
</file>