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165DB0-C33B-4B88-820B-F8806F709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C1DB18-8651-407E-82E9-EDB312180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646388-1441-49B9-945D-AA11DA0716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8A7DFA-5555-4E31-B675-747D740EA9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54553-73A8-4730-9F76-77F960F1F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D3466-53E5-4F45-96C1-000F5EE7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E6465-5C01-4E5F-A232-234899556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623D7-72B3-4118-9402-90C5C5879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E504C-A011-4B1F-B7C3-5931CBB70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76D7E-9C07-4548-A3EF-D0D965BB6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30DC8-8C86-43D1-BF59-92A56683E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D189FA-EA14-4034-91F7-4F8C2B053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A6B49-15EC-4124-BD43-A7F994BBB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431E0-1CD0-4741-8D5B-F713520C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BABCF-6256-45E2-B885-A6439E8DB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A0937-898C-446D-A644-2505B1CFA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2A5B2-4F1A-4B96-A8D6-B38CC3FA8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54387D-77BF-43D5-8FE8-F92BEF45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DCAA1-D40D-47EA-ADC7-B3DB4B4D2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852B5-C8F4-49FF-9CF6-4A127D172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FAD0E-4538-4684-9D98-F95A10D67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B8B21A-8E15-4A43-A115-200B5F479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EA95B-F66B-4CED-A65D-D223E471E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F5D46-11DB-4314-8A3A-D9F22883A0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4A6D-46CE-46B1-BE73-DFC7D7A2977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4C2-20CF-4A32-A588-D0405E368B2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Arial"/>
              </a:rPr>
              <a:t>ANÁLISIS DE RIESGO</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GEORGE HADWA O.</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69B</a:t>
            </a:r>
            <a:endParaRPr b="0" lang="en-US" sz="3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stCondLst>
                                            <p:cond delay="0"/>
                                          </p:stCondLst>
                                        </p:cTn>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2" dur="1000">
                                          <p:stCondLst>
                                            <p:cond delay="0"/>
                                          </p:stCondLst>
                                        </p:cTn>
                                        <p:tgtEl>
                                          <p:spTgt spid="10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7" dur="1000">
                                          <p:stCondLst>
                                            <p:cond delay="0"/>
                                          </p:stCondLst>
                                        </p:cTn>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º INSUFICIENTE DE INVERSIONES SIMILARES QUE PUEDAN PROPORCIONAR INFORMACIÓN PROMEDI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JUICIOS CONTENIDOS EN LOS DATOS Y SU APRECIACIÓN, QUE INDUCEN EFECTOS OPTIMISTAS O PESIMISTAS, DEPENDIENDO DE LA SUBJETIVIDAD DEL ANAL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USAS PRINCIPALES DEL RIESGO</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EN EL MEDIO ECONÓMICO EXTERNO QUE ANULAN LA EXPERIENCIA ADQUIRIDA EN EL PASADO, Y LA INTERPRETACIÓN ERRÓNEA DE LOS DATOS O LOS ERRORES EN LA APLICACIÓN DE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CI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LIDAD DE MP.</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IVEL TECNOLÓGICO DE PRODUC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ALAS DE REMUNERACION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OLUCIÓN DE LOS MERC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VENCIA DE LOS PROVEE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VARIABLES PRINCIPALES QUE DAN ORIGEN AL RIESGO</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CIONES DE LA DEMAND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LÍTICAS DEL GOBIERNO CON RESPECTO AL COMERCIO EXTERI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IVIDAD REAL DE LA OP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ECIACIÓN O DEPRECIACIÓN DE LA MONEDA DE ORI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DICIÓN DEL RIESGO</a:t>
            </a:r>
            <a:endParaRPr b="0" lang="en-US" sz="4400" spc="-1" strike="noStrike">
              <a:solidFill>
                <a:srgbClr val="000000"/>
              </a:solidFill>
              <a:latin typeface="Arial"/>
            </a:endParaRPr>
          </a:p>
        </p:txBody>
      </p:sp>
      <p:sp>
        <p:nvSpPr>
          <p:cNvPr id="133" name="PlaceHolder 2"/>
          <p:cNvSpPr>
            <a:spLocks noGrp="1"/>
          </p:cNvSpPr>
          <p:nvPr>
            <p:ph/>
          </p:nvPr>
        </p:nvSpPr>
        <p:spPr>
          <a:xfrm>
            <a:off x="324000" y="1628640"/>
            <a:ext cx="8362800" cy="26640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VIACIÓN ESTÁNDA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k : FLUJO DE CAJA DE LA POSIBILIDAD k</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k : PROBABILIDAD DE OCURRENCI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XE : VALOR ESPERADO DE LA DISTRIBUCIÓN DE    </a:t>
            </a:r>
            <a:r>
              <a:rPr b="0" lang="es-ES" sz="2000" spc="-1" strike="noStrike">
                <a:solidFill>
                  <a:srgbClr val="000000"/>
                </a:solidFill>
                <a:latin typeface="Arial"/>
              </a:rPr>
              <a:t>	</a:t>
            </a:r>
            <a:r>
              <a:rPr b="0" lang="es-ES" sz="2000" spc="-1" strike="noStrike">
                <a:solidFill>
                  <a:srgbClr val="000000"/>
                </a:solidFill>
                <a:latin typeface="Arial"/>
              </a:rPr>
              <a:t>PROBABILIDADES DE LOS FLUJOS DE CAJA</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XE = </a:t>
            </a:r>
            <a:r>
              <a:rPr b="0" lang="el-GR" sz="2000" spc="-1" strike="noStrike">
                <a:solidFill>
                  <a:srgbClr val="000000"/>
                </a:solidFill>
                <a:latin typeface="Arial"/>
                <a:ea typeface="Arial"/>
              </a:rPr>
              <a:t>Σ</a:t>
            </a:r>
            <a:r>
              <a:rPr b="0" lang="es-ES" sz="2000" spc="-1" strike="noStrike">
                <a:solidFill>
                  <a:srgbClr val="000000"/>
                </a:solidFill>
                <a:latin typeface="Arial"/>
                <a:ea typeface="Arial"/>
              </a:rPr>
              <a:t> </a:t>
            </a:r>
            <a:r>
              <a:rPr b="0" lang="es-ES" sz="2000" spc="-1" strike="noStrike">
                <a:solidFill>
                  <a:srgbClr val="000000"/>
                </a:solidFill>
                <a:latin typeface="Arial"/>
              </a:rPr>
              <a:t>Xk . Pk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biLevel thresh="50000"/>
          </a:blip>
          <a:stretch/>
        </p:blipFill>
        <p:spPr>
          <a:xfrm>
            <a:off x="755640" y="4797360"/>
            <a:ext cx="6912000" cy="125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PARACIÓN DE PROYECTOS</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UTILIZA EL COEFICIENTE VARIACIÓN C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V MIDE LA DISPERSIÓN RELATIV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JOR PROYECTO  </a:t>
            </a:r>
            <a:r>
              <a:rPr b="0" lang="es-ES" sz="2800" spc="-1" strike="noStrike">
                <a:solidFill>
                  <a:srgbClr val="000000"/>
                </a:solidFill>
                <a:latin typeface="Arial"/>
                <a:ea typeface="Arial"/>
              </a:rPr>
              <a:t>→  ↓C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CV = </a:t>
            </a:r>
            <a:r>
              <a:rPr b="0" lang="el-GR" sz="2800" spc="-1" strike="noStrike">
                <a:solidFill>
                  <a:srgbClr val="000000"/>
                </a:solidFill>
                <a:latin typeface="Arial"/>
                <a:ea typeface="Arial"/>
              </a:rPr>
              <a:t>σ</a:t>
            </a:r>
            <a:r>
              <a:rPr b="0" lang="es-ES" sz="2800" spc="-1" strike="noStrike">
                <a:solidFill>
                  <a:srgbClr val="000000"/>
                </a:solidFill>
                <a:latin typeface="Arial"/>
                <a:ea typeface="Arial"/>
              </a:rPr>
              <a:t>/X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TODOLOGÍAS PARA TRATAR EL RIESGO</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CRITERIO SUBJETIV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PROBABILIDAD DE PÉRDIDA EN LA ACEPTACIÓN.</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 LA TASA INCREMENTADA POR EL RIESGO.</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ODO DEL CRITERIO SUBJETIVO</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LOS MÁS COMÚNMENTE UTILIZAD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BASA EN CONSIDERACIONES DE CARÁCTER INFORMAL DE QUIEN TOMA LA DECIS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RPORA EL RIESGO EN BASE A LA APRECIACIÓN PERSONAL DE QUIEN TOMA LA DEC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2" name="PlaceHolder 2"/>
          <p:cNvSpPr>
            <a:spLocks noGrp="1"/>
          </p:cNvSpPr>
          <p:nvPr>
            <p:ph/>
          </p:nvPr>
        </p:nvSpPr>
        <p:spPr>
          <a:xfrm>
            <a:off x="395280" y="2565360"/>
            <a:ext cx="8291520" cy="3301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ÉTODO DEL VALOR PRESENTE NETO ESPERADO ES EL MÁS USADO PORQUE PERMITE INCORPORAR EN FORMA DIRECTA EL RIESGO A LA INCERTIDUMBR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L VALOR PRESENTE NETO ESPERADO (VPNE)</a:t>
            </a:r>
            <a:endParaRPr b="0" lang="en-US" sz="4000" spc="-1" strike="noStrike">
              <a:solidFill>
                <a:srgbClr val="000000"/>
              </a:solidFill>
              <a:latin typeface="Arial"/>
            </a:endParaRPr>
          </a:p>
        </p:txBody>
      </p:sp>
      <p:sp>
        <p:nvSpPr>
          <p:cNvPr id="144" name="PlaceHolder 2"/>
          <p:cNvSpPr>
            <a:spLocks noGrp="1"/>
          </p:cNvSpPr>
          <p:nvPr>
            <p:ph/>
          </p:nvPr>
        </p:nvSpPr>
        <p:spPr>
          <a:xfrm>
            <a:off x="468000" y="2491920"/>
            <a:ext cx="8218440" cy="337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PNE = </a:t>
            </a:r>
            <a:r>
              <a:rPr b="1" lang="el-GR" sz="2800" spc="-1" strike="noStrike">
                <a:solidFill>
                  <a:srgbClr val="000000"/>
                </a:solidFill>
                <a:latin typeface="Arial"/>
                <a:ea typeface="Arial"/>
              </a:rPr>
              <a:t>Σ</a:t>
            </a:r>
            <a:r>
              <a:rPr b="1" lang="es-ES" sz="2800" spc="-1" strike="noStrike">
                <a:solidFill>
                  <a:srgbClr val="000000"/>
                </a:solidFill>
                <a:latin typeface="Arial"/>
              </a:rPr>
              <a:t>n XEk / (1 + i)^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PNE = VALOR PRESENTE NETO ESPERA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XEk = VALOR ESPERADO EN EL PERIODO k.</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 TASA EFECTIVA PARA EL PERÍODO.</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  = NÚMERO TOTAL DE PERIOD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ENDA</a:t>
            </a:r>
            <a:endParaRPr b="0" lang="en-US" sz="4400" spc="-1" strike="noStrike">
              <a:solidFill>
                <a:srgbClr val="000000"/>
              </a:solidFill>
              <a:latin typeface="Arial"/>
            </a:endParaRPr>
          </a:p>
        </p:txBody>
      </p:sp>
      <p:sp>
        <p:nvSpPr>
          <p:cNvPr id="109" name="PlaceHolder 2"/>
          <p:cNvSpPr>
            <a:spLocks noGrp="1"/>
          </p:cNvSpPr>
          <p:nvPr>
            <p:ph/>
          </p:nvPr>
        </p:nvSpPr>
        <p:spPr>
          <a:xfrm>
            <a:off x="324000" y="1628280"/>
            <a:ext cx="830088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 INCERTIDUMB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ALA EN EL GRADO DE CERTEZ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ENARIOS POS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IESGO (DEFINICIÓN, CLASIFICACIÓN, CAUSAS, VARIABLES EN JUEGO, MEDI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ARACIÓN DE PROYECT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LOGÍAS PARA TRATAR EL RIESG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LUS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6" name="PlaceHolder 2"/>
          <p:cNvSpPr>
            <a:spLocks noGrp="1"/>
          </p:cNvSpPr>
          <p:nvPr>
            <p:ph/>
          </p:nvPr>
        </p:nvSpPr>
        <p:spPr>
          <a:xfrm>
            <a:off x="324000" y="2421000"/>
            <a:ext cx="8362800" cy="396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ISTE EN HALLAR LA PROBABILIDAD DEL QUE EL VPNE RESULTE MENOR QUE CERO Y POR LO TANTO QUE HAYA PÉRDI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MÉTODO ES NECESARIO QUE SE CALCULE LA DESVIACIÓN ESTÁNDAR DE TODO EL PROYECTO Y QUE SE NORMALICEN LOS RESULTADOS PARA PODERLE APLICAR LA CURVA NORMAL Y DE ESTA FORMA AVERIGUAR EL ÁREA QUE CORRESPONDE A UNA ABCISA MENOR DE C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PROBABILIDAD DE PÉRDIDA EN LA ACEPTACIÓN</a:t>
            </a:r>
            <a:endParaRPr b="0" lang="en-US" sz="4000" spc="-1" strike="noStrike">
              <a:solidFill>
                <a:srgbClr val="000000"/>
              </a:solidFill>
              <a:latin typeface="Arial"/>
            </a:endParaRPr>
          </a:p>
        </p:txBody>
      </p:sp>
      <p:sp>
        <p:nvSpPr>
          <p:cNvPr id="148" name="PlaceHolder 2"/>
          <p:cNvSpPr>
            <a:spLocks noGrp="1"/>
          </p:cNvSpPr>
          <p:nvPr>
            <p:ph/>
          </p:nvPr>
        </p:nvSpPr>
        <p:spPr>
          <a:xfrm>
            <a:off x="395280" y="2349360"/>
            <a:ext cx="4100400" cy="4104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ESVIACIÓN ESTÁNDAR EN ESTE MÉTODO, DEPENDE DE LAS DESVIACIONES DE LOS FLUJOS DE CAJA DE CADA PERIODO Y PUEDE SER CALCULADA POR LA SIGUIENTE FÓRMUL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σ</a:t>
            </a:r>
            <a:r>
              <a:rPr b="0" lang="es-ES" sz="1600" spc="-1" strike="noStrike">
                <a:solidFill>
                  <a:srgbClr val="000000"/>
                </a:solidFill>
                <a:latin typeface="Arial"/>
                <a:ea typeface="Arial"/>
              </a:rPr>
              <a:t>p</a:t>
            </a:r>
            <a:r>
              <a:rPr b="0" lang="es-ES" sz="1600" spc="-1" strike="noStrike">
                <a:solidFill>
                  <a:srgbClr val="000000"/>
                </a:solidFill>
                <a:latin typeface="Arial"/>
              </a:rPr>
              <a:t>  = DESVIACIÓN ESTÁNDAR DE </a:t>
            </a:r>
            <a:r>
              <a:rPr b="0" lang="es-ES" sz="1600" spc="-1" strike="noStrike">
                <a:solidFill>
                  <a:srgbClr val="000000"/>
                </a:solidFill>
                <a:latin typeface="Arial"/>
              </a:rPr>
              <a:t>	</a:t>
            </a:r>
            <a:r>
              <a:rPr b="0" lang="es-ES" sz="1600" spc="-1" strike="noStrike">
                <a:solidFill>
                  <a:srgbClr val="000000"/>
                </a:solidFill>
                <a:latin typeface="Arial"/>
              </a:rPr>
              <a:t>TODO EL PROYECTO.</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k  = DESVIACIÓN ESTÁNDAR DEL </a:t>
            </a:r>
            <a:r>
              <a:rPr b="0" lang="es-ES" sz="1600" spc="-1" strike="noStrike">
                <a:solidFill>
                  <a:srgbClr val="000000"/>
                </a:solidFill>
                <a:latin typeface="Arial"/>
              </a:rPr>
              <a:t>	</a:t>
            </a:r>
            <a:r>
              <a:rPr b="0" lang="es-ES" sz="1600" spc="-1" strike="noStrike">
                <a:solidFill>
                  <a:srgbClr val="000000"/>
                </a:solidFill>
                <a:latin typeface="Arial"/>
              </a:rPr>
              <a:t>FLUJO DE CAJA DEL PERIODO </a:t>
            </a:r>
            <a:r>
              <a:rPr b="0" lang="es-ES" sz="1600" spc="-1" strike="noStrike">
                <a:solidFill>
                  <a:srgbClr val="000000"/>
                </a:solidFill>
                <a:latin typeface="Arial"/>
              </a:rPr>
              <a:t>	</a:t>
            </a:r>
            <a:r>
              <a:rPr b="0" lang="es-ES" sz="1600" spc="-1" strike="noStrike">
                <a:solidFill>
                  <a:srgbClr val="000000"/>
                </a:solidFill>
                <a:latin typeface="Arial"/>
              </a:rPr>
              <a:t>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 = NÚMERO DE PERIODO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 TASA DE INTERÉ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9" name="" descr=""/>
          <p:cNvPicPr/>
          <p:nvPr/>
        </p:nvPicPr>
        <p:blipFill>
          <a:blip r:embed="rId1">
            <a:biLevel thresh="50000"/>
          </a:blip>
          <a:stretch/>
        </p:blipFill>
        <p:spPr>
          <a:xfrm>
            <a:off x="4140360" y="3429000"/>
            <a:ext cx="4679640" cy="12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1" name="PlaceHolder 2"/>
          <p:cNvSpPr>
            <a:spLocks noGrp="1"/>
          </p:cNvSpPr>
          <p:nvPr>
            <p:ph/>
          </p:nvPr>
        </p:nvSpPr>
        <p:spPr>
          <a:xfrm>
            <a:off x="324000" y="2491920"/>
            <a:ext cx="8362800" cy="3816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LLAMADO MÉTODO DE LA TASA AJUSTADA AL RIES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VALUAR EL PROYECTO CON UNA TASA QUE DEBE SER IGUAL A LA TASA LIBRE DE RIESGO MÁS LA TASA PROPIA DE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3" name="PlaceHolder 2"/>
          <p:cNvSpPr>
            <a:spLocks noGrp="1"/>
          </p:cNvSpPr>
          <p:nvPr>
            <p:ph/>
          </p:nvPr>
        </p:nvSpPr>
        <p:spPr>
          <a:xfrm>
            <a:off x="395280" y="2421000"/>
            <a:ext cx="829152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s-ES" sz="2800" spc="-1" strike="noStrike">
                <a:solidFill>
                  <a:srgbClr val="000000"/>
                </a:solidFill>
                <a:latin typeface="Arial"/>
                <a:ea typeface="Arial"/>
              </a:rPr>
              <a:t>RIESGO  →  ↑ TASA  (CASTIGO A LA RENTABILIDAD DEL PROYEC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TASA LIBRE DE RIESGO PUEDE SER LA TASA QUE SE UTILIZARÍA EN EL PROYECTO CUANDO HAY CERTEZA Y LA TASA PROPIA DE RIESGO ES EL RECARGO QUE DEBE HACERSE POR LA EXISTENCIA MISMA DEL RIES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5" name="PlaceHolder 2"/>
          <p:cNvSpPr>
            <a:spLocks noGrp="1"/>
          </p:cNvSpPr>
          <p:nvPr>
            <p:ph/>
          </p:nvPr>
        </p:nvSpPr>
        <p:spPr>
          <a:xfrm>
            <a:off x="395280" y="2420640"/>
            <a:ext cx="8291520" cy="344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 = i1 + i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N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 = TASA AJUSTADA A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1= TASA LIBRE DE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i2= TASA DE RIESG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000000"/>
                </a:solidFill>
                <a:latin typeface="Arial"/>
              </a:rPr>
              <a:t>MÉTODO DE LA TASA INCREMENTADA POR EL RIESGO</a:t>
            </a:r>
            <a:endParaRPr b="0" lang="en-US" sz="4000" spc="-1" strike="noStrike">
              <a:solidFill>
                <a:srgbClr val="000000"/>
              </a:solidFill>
              <a:latin typeface="Arial"/>
            </a:endParaRPr>
          </a:p>
        </p:txBody>
      </p:sp>
      <p:sp>
        <p:nvSpPr>
          <p:cNvPr id="157" name="PlaceHolder 2"/>
          <p:cNvSpPr>
            <a:spLocks noGrp="1"/>
          </p:cNvSpPr>
          <p:nvPr>
            <p:ph/>
          </p:nvPr>
        </p:nvSpPr>
        <p:spPr>
          <a:xfrm>
            <a:off x="468000" y="2420640"/>
            <a:ext cx="8218440" cy="3446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2 TAMBIÉN SE DENOMINA PRIMA POR RIESGO. ÉSTA ES LA TASA QUE EXIGE EL INVERSIONISTA PARA COMPENSAR UNA INVERSIÓN CON RETORNOS INCIER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DE ESTE MÉTODO: DETERMINAR i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RIESGO SE DEFINE LA VARIABILIDAD DE LOS FLUJOS DE CAJA REALES RESPECTO A LOS ESTIM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MEDICIÓN SE REALIZA OBTENIENDO LA DESVIACIÓN ESTÁNDAR DE LA DISTRIBUCIÓN DE PROBABILIDADES DE LOS POSIBLES FLUJOS DE C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161" name="PlaceHolder 2"/>
          <p:cNvSpPr>
            <a:spLocks noGrp="1"/>
          </p:cNvSpPr>
          <p:nvPr>
            <p:ph/>
          </p:nvPr>
        </p:nvSpPr>
        <p:spPr>
          <a:xfrm>
            <a:off x="395280" y="1557360"/>
            <a:ext cx="829152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EFICIENTE DE VARIACIÓN ES UNA UNIDAD DE MEDIDA RELATIVA DEL RIES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DIVERSOS ENFOQUES PARA LA EVALUACIÓN DE PROYECTOS RIESGOSOS. EL MÁS USADO ES EL MÉTODO DEL CRITERIO SUBJETIVO, PERO SON LOS MÉTODOS PROBABILÍSTICOS LOS MÁS ADECUADOS CONCEPTUALMENTE AUNQUE SUBSISTE EN ELLOS EL PROBLEMA DE CALCULAR UNA PROBABILIDAD DE OCURRENCIA QUE SEA CONFI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Arial"/>
              </a:rPr>
              <a:t>FIN</a:t>
            </a:r>
            <a:endParaRPr b="0" lang="en-US" sz="96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E INCERTIDUMBRE</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REFIEREN A SITUACIONES FUTU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ES EN EL DESARROLLO DE TODO 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E UNA SITUACIÓN DONDE LA INFORMACIÓN ES DE NATURALEZA ALEATORIA, EN QUE SE ASOCIA UNA ESTRATEGIA A UN CONJUNTO DE RESULTADOS POSIBLES, CADA UNO DE LOS CUALES TIENE ASIGNADA UNA PROB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CERTIDUMBRE</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IZA UNA SITUACIÓN DONDE LOS POSIBLES RESULTADOS DE UNA ESTRATEGIA NO SON CONOCIDOS Y, EN CONSECUENCIA, SUS PROBABILIDADES DE OCURRENCIA NO SON CUANTIFIC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ALA EN EL GRADO DE CERTEZA</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SEA DISMINUIR LA INCERTIDUMBRE CON RESPECTO A LOS RESULTADOS FINALES </a:t>
            </a:r>
            <a:r>
              <a:rPr b="0" lang="es-ES" sz="3200" spc="-1" strike="noStrike">
                <a:solidFill>
                  <a:srgbClr val="000000"/>
                </a:solidFill>
                <a:latin typeface="Arial"/>
                <a:ea typeface="Arial"/>
              </a:rPr>
              <a:t>→ COMPRAR CERTIDUMB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7d"/>
                </a:solidFill>
                <a:latin typeface="Arial"/>
                <a:ea typeface="Arial"/>
              </a:rPr>
              <a:t>INCERTIDUMBRE→RIESGO→CONOCIMIENTO CIER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CENARIOS POSIBLE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ONOMÍA EN PROSPERIDAD </a:t>
            </a:r>
            <a:r>
              <a:rPr b="0" lang="es-ES" sz="2800" spc="-1" strike="noStrike">
                <a:solidFill>
                  <a:srgbClr val="000000"/>
                </a:solidFill>
                <a:latin typeface="Arial"/>
                <a:ea typeface="Arial"/>
              </a:rPr>
              <a:t>→ PRONÓSTICO OPTIMISTA (LA MEJOR ESTIM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NORMAL → PRONÓSTICO REALISTA (LA ESTIMACIÓN MÁS PROB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CONOMÍA EN REPRESIÓN → PRONÓSTICO PESIMISTA (LA PEOR ESTIM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IESGO DE UN PROYECTO</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ARIABILIDAD DE LOS FLUJOS DE CAJA REALES RESPECTO A LOS ESTIMAD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 </a:t>
            </a:r>
            <a:r>
              <a:rPr b="0" lang="es-ES" sz="3200" spc="-1" strike="noStrike">
                <a:solidFill>
                  <a:srgbClr val="000000"/>
                </a:solidFill>
                <a:latin typeface="Arial"/>
                <a:ea typeface="Arial"/>
              </a:rPr>
              <a:t>VARIABILIDAD   →   ↑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IFICACIÓN DEL RIESGO</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DEFECTOS O VACÍOS CONTRACTUA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ERRORES EN LA ADMINISTRACIÓN U OPERACIÓN DE LA PROPIA ORGANIZ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RIVADOS DE FACTORE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rge Lara</cp:lastModifiedBy>
  <dcterms:modified xsi:type="dcterms:W3CDTF">2004-10-25T19:00:27Z</dcterms:modified>
  <cp:revision>10</cp:revision>
  <dc:subject/>
  <dc:title>PowerPoint Presentation</dc:title>
</cp:coreProperties>
</file>