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F80-DF75-4350-BE34-DB097EA3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FE0-AB17-437C-8B38-8E12914A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CB2-19ED-4041-969C-D93C0386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ABF-5CDC-45BD-8260-F658021B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894-6A05-4B87-AA45-CED3AAB4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F1C-47B8-4526-8506-767428E2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2E9-F142-47CB-87A0-7CF4264B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1B8-6C5C-4C77-B106-0836145C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6D9-D2BB-4C9B-9A0B-49DCC360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09F-40F2-4765-851A-9D3E48C5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707-F983-4676-AACD-D3AB667F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BD4-E5DF-4712-A94E-2B890F1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DC18-3646-4CA7-933C-E3FCB9EB1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Jorge Lara</cp:lastModifiedBy>
  <dcterms:modified xsi:type="dcterms:W3CDTF">2004-09-23T15:37:39Z</dcterms:modified>
  <cp:revision>82</cp:revision>
  <dc:subject/>
  <dc:title>Arbol lógico</dc:title>
</cp:coreProperties>
</file>