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7CE-3E28-4E90-8ED6-D0EE13AB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919-10B6-4E36-9C4F-112EEE10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B81-8A9B-469A-B02C-6BF2AEE7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D1D-36E0-4286-900F-C9634D9E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399-28A2-490A-A1AB-CCD6F9F6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565-D317-4661-AC87-9767C4E4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11C-74D1-4D49-9454-D121E241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92E-9679-476E-97AF-4160E8F0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77D-D759-4861-A7CC-84C0241E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F54-DDA7-44D6-B696-2B86308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15B-6C21-4708-8FC1-60665365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204-E44F-48FC-8655-88A9FEA8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4554-A47E-434F-AAF4-A38D22BB0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 y adquieran nuevos cuando necesario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Jorge Lara</cp:lastModifiedBy>
  <dcterms:modified xsi:type="dcterms:W3CDTF">2004-08-05T19:35:34Z</dcterms:modified>
  <cp:revision>79</cp:revision>
  <dc:subject/>
  <dc:title>Arbol lógico</dc:title>
</cp:coreProperties>
</file>