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B0E-758F-41B1-A4D4-EF32B4E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B4F-2260-4B9C-801E-B367FF0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EFF-EBC6-4482-B8D0-4E70ED3C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406-D682-42D1-889B-2E79FDDE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514-BF63-4B3B-BB61-BBC9FAF0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8E7-A391-4EE8-AD1D-9112AF29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CEE-2736-4C16-9632-F2F4C2FB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B02-7CCD-4A0A-BDB6-40EEF240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8D0-9C27-4937-8E1C-8815E2C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FD1-C1F7-4CAC-8188-9303D91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3A9-8C6F-4E47-AA73-F03D304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EFD-519A-4352-BA07-67F487E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895-3FEB-4F2F-925D-A10C9A035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 y adquieran nuevos cuando necesario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8-05T19:35:34Z</dcterms:modified>
  <cp:revision>79</cp:revision>
  <dc:subject/>
  <dc:title>Arbol lógico</dc:title>
</cp:coreProperties>
</file>