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98800" y="-360"/>
            <a:ext cx="29433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01680" y="692280"/>
            <a:ext cx="4516560" cy="33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82720" y="4309920"/>
            <a:ext cx="507672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21280"/>
            <a:ext cx="29433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98800" y="8621280"/>
            <a:ext cx="29433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D2B5-477F-436F-87F5-849EBBE5E0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7400" y="68256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30" name=""/>
          <p:cNvSpPr/>
          <p:nvPr/>
        </p:nvSpPr>
        <p:spPr>
          <a:xfrm>
            <a:off x="762120" y="4400640"/>
            <a:ext cx="52545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 nueva tendencia mundial indica que la sociedad se vuelve cada  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 exigente no 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 con las grandes empresas multinacionales sino con las instituciones e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fianza hacia las empresas disminuye progresivamente, mientras que el nivel de transparencia que nos exigen es cada vez may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sotros creemos que l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ca 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para recuperar la confianza es involucrarnos con los distintos grupos de in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 que representan los intereses de los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licos 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 divers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01680" y="6922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2720" y="4309920"/>
            <a:ext cx="507672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75% de los entrevistados dijeron haber adoptado prácticas de negocio sustentables. Por tres razones princip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talecer la reputación (9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 Competitiva (7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ducción de Costos (73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5% de los entrevistadosno han adoptado prácticas de RSE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no existencia de un caso de negocios claro (8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alta de interés de los stakeholders claves (6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alta de compromiso de la gerencia (53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2% no han incorporado las oportunidades y riesgos asociados a la sustentabilidad en sus estrategias de negocios o proyectos, evaluación procesos de inversión. Aún cuando la mayoria de estas compañías mencionan la reputación como el principal factor para adoptar estrategias de sustentabilidad, solo un tercio evalúa formalmente los riesgos y oportunidades ligadas a 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01680" y="6922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82720" y="4309920"/>
            <a:ext cx="5076720" cy="40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las 140 empresas, 72% están incluidas en Fortune 1000 compan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75% de los entrevistados dijeron haber adoptado prácticas de negocio sustentables. Por tres razones princip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talecer la reputación (9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 Competitiva (7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ducción de Costos (73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5% de los entrevistadosno han adoptado prácticas de RSE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no existencia de un caso de negocios claro (8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alta de interés de los stakeholders claves (6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alta de compromiso de la gerencia (53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2% no han incorporado las oportunidades y riesgos asociados a la sustentabilidad en sus estrategias de negocios o proyectos, evaluación procesos de inversión. Aún cuando la mayoria de estas compañías mencionan la reputación como el principal factor para adoptar estrategias de sustentabilidad, solo un tercio evalúa formalmente los riesgos y oportunidades ligadas a 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las compañías que actualmente estan elaborando un reporte, el 55% ha seguido los lineamientos del GRI y el 29% ha realizado una verificación exter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89% cree que en los próximos 5 años la tendencia será a un mayor enfasis en la sustentabilidad que ho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199-409E-4F34-AD67-2ED9FA67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27C-8BBF-424A-BB99-40338C38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47F-B8A2-4EFF-910B-A4351D78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11B-F5AF-463F-B00B-8EF58350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6CF-7F42-4422-BC16-16B122AD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AF1-83AC-477A-BFD9-A3371CE5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E1F-802C-4B2E-A241-BFAD9D61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170-EF24-4ED9-962A-69384E72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D4D-BDA5-4A66-A24C-0AB67837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56C-0357-461C-AA26-9C8E1643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109-095D-4798-9557-EC5C3878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D3F-68C4-402F-B164-B58EE0EE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6A86-7542-4739-9695-0A998ADA84A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29528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3000" y="2819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60042"/>
                </a:solidFill>
                <a:latin typeface="Arial"/>
              </a:rPr>
              <a:t>Reporte Social Empresa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914480" y="2749680"/>
            <a:ext cx="5315040" cy="1341360"/>
            <a:chOff x="1914480" y="2749680"/>
            <a:chExt cx="5315040" cy="1341360"/>
          </a:xfrm>
        </p:grpSpPr>
        <p:sp>
          <p:nvSpPr>
            <p:cNvPr id="52" name=""/>
            <p:cNvSpPr/>
            <p:nvPr/>
          </p:nvSpPr>
          <p:spPr>
            <a:xfrm>
              <a:off x="1914480" y="2749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914480" y="2749680"/>
              <a:ext cx="5315040" cy="1341360"/>
              <a:chOff x="1914480" y="2749680"/>
              <a:chExt cx="5315040" cy="1341360"/>
            </a:xfrm>
          </p:grpSpPr>
          <p:sp>
            <p:nvSpPr>
              <p:cNvPr id="54" name=""/>
              <p:cNvSpPr/>
              <p:nvPr/>
            </p:nvSpPr>
            <p:spPr>
              <a:xfrm>
                <a:off x="1914480" y="2749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914480" y="2749680"/>
                <a:ext cx="5315040" cy="13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" sz="8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" sz="6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"/>
          <p:cNvSpPr/>
          <p:nvPr/>
        </p:nvSpPr>
        <p:spPr>
          <a:xfrm>
            <a:off x="6172200" y="4343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Beatriz Calder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9718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0000"/>
                </a:solidFill>
                <a:latin typeface="Arial"/>
              </a:rPr>
              <a:t>¿A quién le import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81080" y="76212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akeholders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680" y="2895480"/>
            <a:ext cx="189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c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22880" y="2646360"/>
            <a:ext cx="180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267080"/>
            <a:ext cx="2438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19760" y="5313240"/>
            <a:ext cx="202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75720" y="4017960"/>
            <a:ext cx="219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3581280"/>
            <a:ext cx="2197080" cy="1359000"/>
          </a:xfrm>
          <a:custGeom>
            <a:avLst/>
            <a:gdLst>
              <a:gd name="textAreaLeft" fmla="*/ 501480 w 2197080"/>
              <a:gd name="textAreaRight" fmla="*/ 1695600 w 2197080"/>
              <a:gd name="textAreaTop" fmla="*/ 310320 h 1359000"/>
              <a:gd name="textAreaBottom" fmla="*/ 104868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ffffff"/>
              </a:gs>
              <a:gs pos="100000">
                <a:srgbClr val="0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3300"/>
                </a:solidFill>
                <a:latin typeface="Arial Black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rot="20760000">
            <a:off x="3351600" y="4419360"/>
            <a:ext cx="368280" cy="63360"/>
          </a:xfrm>
          <a:prstGeom prst="rightArrow">
            <a:avLst>
              <a:gd name="adj1" fmla="val 50000"/>
              <a:gd name="adj2" fmla="val 29065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3860000">
            <a:off x="3320640" y="3472560"/>
            <a:ext cx="444600" cy="63720"/>
          </a:xfrm>
          <a:prstGeom prst="rightArrow">
            <a:avLst>
              <a:gd name="adj1" fmla="val 50000"/>
              <a:gd name="adj2" fmla="val 34890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7400000">
            <a:off x="4692240" y="3320640"/>
            <a:ext cx="444600" cy="63720"/>
          </a:xfrm>
          <a:prstGeom prst="rightArrow">
            <a:avLst>
              <a:gd name="adj1" fmla="val 50000"/>
              <a:gd name="adj2" fmla="val 34890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45160" y="4197240"/>
            <a:ext cx="444600" cy="63720"/>
          </a:xfrm>
          <a:prstGeom prst="rightArrow">
            <a:avLst>
              <a:gd name="adj1" fmla="val 50000"/>
              <a:gd name="adj2" fmla="val 35097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rot="15480000">
            <a:off x="4424760" y="5187600"/>
            <a:ext cx="368280" cy="63360"/>
          </a:xfrm>
          <a:prstGeom prst="rightArrow">
            <a:avLst>
              <a:gd name="adj1" fmla="val 50000"/>
              <a:gd name="adj2" fmla="val 29065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59800" y="1752480"/>
            <a:ext cx="135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obi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06720" y="2158920"/>
            <a:ext cx="179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dios de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77400" y="5435640"/>
            <a:ext cx="176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8240" y="5029200"/>
            <a:ext cx="1357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ru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ligi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7160" y="2209680"/>
            <a:ext cx="1499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82640" y="2978280"/>
            <a:ext cx="181620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362320" y="4724280"/>
            <a:ext cx="12063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9160" y="2139840"/>
            <a:ext cx="673200" cy="143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403960" y="2749680"/>
            <a:ext cx="1536480" cy="11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4280" y="4730760"/>
            <a:ext cx="143496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4120" y="6248520"/>
            <a:ext cx="3156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akeholders Secund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867280"/>
            <a:ext cx="358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akeholders Prim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867280"/>
            <a:ext cx="3657600" cy="7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92880" y="2997360"/>
            <a:ext cx="1327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tivist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340240" y="3270240"/>
            <a:ext cx="18925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65530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Fuente: Boston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rot="1140000">
            <a:off x="3198600" y="2325240"/>
            <a:ext cx="2950920" cy="628560"/>
          </a:xfrm>
          <a:prstGeom prst="rightArrow">
            <a:avLst>
              <a:gd name="adj1" fmla="val 50000"/>
              <a:gd name="adj2" fmla="val 137256"/>
            </a:avLst>
          </a:prstGeom>
          <a:solidFill>
            <a:srgbClr val="ffffff"/>
          </a:solidFill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8840" y="1600200"/>
            <a:ext cx="8420040" cy="3604680"/>
            <a:chOff x="618840" y="1600200"/>
            <a:chExt cx="8420040" cy="3604680"/>
          </a:xfrm>
        </p:grpSpPr>
        <p:sp>
          <p:nvSpPr>
            <p:cNvPr id="139" name=""/>
            <p:cNvSpPr/>
            <p:nvPr/>
          </p:nvSpPr>
          <p:spPr>
            <a:xfrm>
              <a:off x="707400" y="1600200"/>
              <a:ext cx="6580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85920" y="1835280"/>
              <a:ext cx="7021080" cy="2922480"/>
            </a:xfrm>
            <a:custGeom>
              <a:avLst/>
              <a:gdLst/>
              <a:ahLst/>
              <a:rect l="l" t="t" r="r" b="b"/>
              <a:pathLst>
                <a:path w="4423" h="1841">
                  <a:moveTo>
                    <a:pt x="0" y="0"/>
                  </a:moveTo>
                  <a:lnTo>
                    <a:pt x="0" y="1840"/>
                  </a:lnTo>
                  <a:lnTo>
                    <a:pt x="4422" y="18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9960" y="1927080"/>
              <a:ext cx="6673680" cy="2195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8840" y="4681440"/>
              <a:ext cx="7084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20880" y="4815000"/>
              <a:ext cx="6580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165240" y="2753640"/>
              <a:ext cx="154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nfianz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87480" y="4764240"/>
              <a:ext cx="2122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"/>
                  <a:ea typeface="Times New Roman"/>
                </a:rPr>
                <a:t>Transparenci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897680" y="3208320"/>
              <a:ext cx="1141200" cy="912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215720" y="1940040"/>
            <a:ext cx="8050680" cy="1755720"/>
            <a:chOff x="1215720" y="1940040"/>
            <a:chExt cx="8050680" cy="1755720"/>
          </a:xfrm>
        </p:grpSpPr>
        <p:sp>
          <p:nvSpPr>
            <p:cNvPr id="148" name=""/>
            <p:cNvSpPr/>
            <p:nvPr/>
          </p:nvSpPr>
          <p:spPr>
            <a:xfrm>
              <a:off x="1215720" y="1940040"/>
              <a:ext cx="1359000" cy="4125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1" i="1" lang="en-US" sz="21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 creo</a:t>
              </a: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07280" y="2654280"/>
              <a:ext cx="1733760" cy="4125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1" i="1" lang="en-US" sz="21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xplícame</a:t>
              </a: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48040" y="3283200"/>
              <a:ext cx="1893960" cy="4125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1" i="1" lang="en-US" sz="21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uéstrame</a:t>
              </a: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10440" y="3281400"/>
              <a:ext cx="2055960" cy="3974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nvolúcrame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Nueva Tendencia Mund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6340320"/>
            <a:ext cx="472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Fuente: Presentación Carolina Lucaroni- Shell Reporting Juni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Por qué hacerl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greg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menta el atractivo de cara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 las relaciones con los grupos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 efectividad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17524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6668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365760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62485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51055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1752480"/>
            <a:ext cx="335268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ce costos productos de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minuye el riesgo   de publicidad ad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1752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29718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01040" y="0"/>
            <a:ext cx="75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omo medir el valor real de una empres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518148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uanta riqueza y bienestar genera para las sociedades en las que o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4480" y="1981080"/>
            <a:ext cx="172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or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2895480"/>
            <a:ext cx="228600" cy="2057400"/>
          </a:xfrm>
          <a:prstGeom prst="downArrow">
            <a:avLst>
              <a:gd name="adj1" fmla="val 50000"/>
              <a:gd name="adj2" fmla="val 2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200400" y="990720"/>
            <a:ext cx="3011760" cy="3812400"/>
            <a:chOff x="3200400" y="990720"/>
            <a:chExt cx="3011760" cy="3812400"/>
          </a:xfrm>
        </p:grpSpPr>
        <p:sp>
          <p:nvSpPr>
            <p:cNvPr id="169" name=""/>
            <p:cNvSpPr/>
            <p:nvPr/>
          </p:nvSpPr>
          <p:spPr>
            <a:xfrm>
              <a:off x="3355200" y="990720"/>
              <a:ext cx="285696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mpacto Económ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2680" y="4343400"/>
              <a:ext cx="2819520" cy="459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mpacto     Soc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52680" y="2514600"/>
              <a:ext cx="2819520" cy="45972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mpacto Ambi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00400" y="990720"/>
              <a:ext cx="152280" cy="38098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324480" y="838080"/>
            <a:ext cx="2514600" cy="946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esempeño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versión en I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versión en 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tribución en impu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2057400"/>
            <a:ext cx="2666880" cy="158580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sumo de energía y ag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misiones de gases de efecto invernad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siduos sólidos y líq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nejo de impactos ambien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versión ambi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809880"/>
            <a:ext cx="2666880" cy="26514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Generación de empleo directo e indir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ibertad de aso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guridad y salud lab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apacitación y edu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iversidad y no discrimi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erechos 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mpacto en comun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robidad y Lob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mpacto de productos y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ortes de Sustentabil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parentando el valor de un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18200" y="1371600"/>
            <a:ext cx="4886640" cy="459720"/>
            <a:chOff x="2518200" y="1371600"/>
            <a:chExt cx="4886640" cy="459720"/>
          </a:xfrm>
        </p:grpSpPr>
        <p:sp>
          <p:nvSpPr>
            <p:cNvPr id="179" name=""/>
            <p:cNvSpPr/>
            <p:nvPr/>
          </p:nvSpPr>
          <p:spPr>
            <a:xfrm>
              <a:off x="2518200" y="1371600"/>
              <a:ext cx="1686600" cy="459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conóm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70880" y="1371600"/>
              <a:ext cx="1533960" cy="4597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mbi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90400" y="1371600"/>
              <a:ext cx="1690920" cy="459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ocial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828800" y="2514600"/>
            <a:ext cx="69501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ncipi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evancia, veracidad, claridad, comparabilidad, periodicidad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erific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3824280"/>
            <a:ext cx="70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mb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05120" y="3938760"/>
            <a:ext cx="5180400" cy="2805840"/>
            <a:chOff x="1905120" y="3938760"/>
            <a:chExt cx="5180400" cy="2805840"/>
          </a:xfrm>
        </p:grpSpPr>
        <p:sp>
          <p:nvSpPr>
            <p:cNvPr id="185" name=""/>
            <p:cNvSpPr/>
            <p:nvPr/>
          </p:nvSpPr>
          <p:spPr>
            <a:xfrm>
              <a:off x="1905120" y="6224400"/>
              <a:ext cx="113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Desarrol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Económ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15160" y="3938760"/>
              <a:ext cx="1188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80"/>
                  </a:solidFill>
                  <a:latin typeface="Arial"/>
                </a:rPr>
                <a:t>Desempeñ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80"/>
                  </a:solidFill>
                  <a:latin typeface="Arial"/>
                </a:rPr>
                <a:t>Ambie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4548240"/>
              <a:ext cx="2819520" cy="19044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1840" y="6148440"/>
              <a:ext cx="91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Impact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So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39680" y="5315040"/>
              <a:ext cx="1688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Report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Sustenta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29718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0000"/>
                </a:solidFill>
                <a:latin typeface="Arial"/>
              </a:rPr>
              <a:t>Principales Model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1219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Arial"/>
              </a:rPr>
              <a:t>Global Reporting Initiative (GR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2057400"/>
            <a:ext cx="6858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 acuerdo internacional, elaborado con visión de largo plazo en el que han participado múltiples actores mundi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misión es elaborar y difundir la Guía para la Elaboración de Memorias de Sustentabilidad, aplicable globalmente y de manera voluntaria por organizaciones que deseen informar sobre los aspectos económicos, medioambientales y sociales de sus actividades, productos y serv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www.globalreporting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1219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Arial"/>
              </a:rPr>
              <a:t>AA 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2057400"/>
            <a:ext cx="6858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elo introducido en 1999 por Institute of Social and Ethical Accountability, con el ánimo de ayudar a las empresas a entender y mejorar su desempeño ético y social, describiendo la forma de identificar temas claves y posteriormente reportarlos para ser audi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www.accountability.org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1219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Arial"/>
              </a:rPr>
              <a:t>I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2057400"/>
            <a:ext cx="6858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1997, el sociólogo Herber de Souza del Instituto Ibase logró concitar la atención de los empresarios brasileros sobre la importancia y necesidad de convertir el balance social de las empresas en un modelo único y simple. En él predominan los datos que puedan ser expresados en valores financieros o en forma cuanti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www.ibase.org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743200"/>
            <a:ext cx="586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Arial"/>
              </a:rPr>
              <a:t>¿Qué son los Reportes Sociales</a:t>
            </a:r>
            <a:r>
              <a:rPr b="1" lang="es-MX" sz="4000" spc="-1" strike="noStrike">
                <a:solidFill>
                  <a:srgbClr val="cc3300"/>
                </a:solidFill>
                <a:latin typeface="Arial"/>
              </a:rPr>
              <a:t> Empresariales</a:t>
            </a:r>
            <a:r>
              <a:rPr b="1" lang="es-ES" sz="40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9718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0000"/>
                </a:solidFill>
                <a:latin typeface="Arial"/>
              </a:rPr>
              <a:t>Modelo Bás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716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Estructura Básica de un Re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1371600"/>
            <a:ext cx="5562360" cy="1905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6840" y="1371600"/>
            <a:ext cx="5337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 Mensaje del Presi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 Perfil de la Empr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 Sector de la Econom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 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 Principios y 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 Estructura y Funciona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)  Gobierno Cor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3429000"/>
            <a:ext cx="5562360" cy="289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3962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3429000"/>
            <a:ext cx="556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arte I -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716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Estructura Básica del Re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1828800"/>
            <a:ext cx="6896160" cy="546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1905120"/>
            <a:ext cx="75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arte II -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787804"/>
              </a:buClr>
              <a:buFont typeface="Arial"/>
              <a:buAutoNum type="alphaLcParenR" startAt="2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álogo con los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787804"/>
              </a:buClr>
              <a:buFont typeface="Arial"/>
              <a:buAutoNum type="alphaLcParenR" startAt="2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787804"/>
              </a:buClr>
              <a:buFont typeface="Arial"/>
              <a:buAutoNum type="alphaLcParenR" startAt="3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dores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787804"/>
              </a:buClr>
              <a:buFont typeface="Arial"/>
              <a:buAutoNum type="alphaLcParenR" startAt="3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1)  Indicadores de Desempeñ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2)  Indicadores de Desempeñ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3)  Indicadores de Desempeño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295280" y="0"/>
            <a:ext cx="784872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ementos Claves del Re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Desempeño: Económico - Medioambiental -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15238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00"/>
                </a:solidFill>
                <a:latin typeface="Arial"/>
              </a:rPr>
              <a:t>Desempeño Económico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Este capítulo se debe centrar en los impactos económicos de la empresa en sus stakeholders y en los sistemas locales, nacionales y glob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31399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00"/>
                </a:solidFill>
                <a:latin typeface="Arial"/>
              </a:rPr>
              <a:t>Desempeño Medioambiental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El foco de éste título debe ser sobre los impactos de la operación de la empresa en los sistemas naturales, incluyendo los ecosistemas, la tierra y el agu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4800600"/>
            <a:ext cx="7848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00"/>
                </a:solidFill>
                <a:latin typeface="Arial"/>
              </a:rPr>
              <a:t>Desempeño Social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El énfasis de éste capítulo debe ser sobre los impactos de la empresa en los sistemas sociales en los cuales opera, incluyendo los impactos en sus stakeholders y en sus activos intangibles como la reput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0"/>
            <a:ext cx="586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Ejercicio Grup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514600"/>
            <a:ext cx="7391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Qué modelo de reporte utiliz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Qué le llamó más la atención? ¿Por qu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676520"/>
            <a:ext cx="7086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El Reporte Social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(conocido también como Reporte de Sustentabilidad)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a memoria que la empresa publica anualmente dando cuenta de los proyectos, beneficios y acciones sociales dirigidas a los empleados, inversionistas, analistas de mercado, accionistas y a la comunidad. Es un instrumento estratégico para avalar, difundir y multiplicar el ejercicio de la R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510552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</a:t>
            </a:r>
            <a:r>
              <a:rPr b="1" lang="ar-SA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 función principal es hacer pública la RSE, construyendo mayores vínculos entre la empresa, la sociedad y el medioambiente.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1676520"/>
            <a:ext cx="3657600" cy="312408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4876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952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iple Bottom Line: Reporte de Triple Línea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200400"/>
            <a:ext cx="2209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a50021"/>
                </a:solidFill>
                <a:latin typeface="Arial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2286000"/>
            <a:ext cx="236232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3886200"/>
            <a:ext cx="6858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2286000"/>
            <a:ext cx="12193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27432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a50021"/>
                </a:solidFill>
                <a:latin typeface="Arial"/>
              </a:rPr>
              <a:t>SOCIE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038480"/>
            <a:ext cx="2209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a50021"/>
                </a:solidFill>
                <a:latin typeface="Arial"/>
              </a:rPr>
              <a:t>MEDIO AMB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44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Típica Visión Empres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2057400"/>
            <a:ext cx="2743200" cy="320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2895480"/>
            <a:ext cx="18288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3581280"/>
            <a:ext cx="914400" cy="152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40384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Arial"/>
              </a:rPr>
              <a:t>Economía Suste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29718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50021"/>
                </a:solidFill>
                <a:latin typeface="Arial"/>
              </a:rPr>
              <a:t>Sociedad Suste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2133720"/>
            <a:ext cx="2514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50021"/>
                </a:solidFill>
                <a:latin typeface="Arial"/>
              </a:rPr>
              <a:t>Medio Ambiente Suste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144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Visión Suste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743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3300"/>
                </a:solidFill>
                <a:latin typeface="Arial"/>
              </a:rPr>
              <a:t>Contexto Interna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lgunas Cifras y antecedent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514600"/>
            <a:ext cx="381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La tendencia apunta a una importancia cada día mayor de la “sustentabilidad” como factor clave para la reputación y el éxito de las empres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gráficos%20encuestas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1973160" cy="2819520"/>
          </a:xfrm>
          <a:prstGeom prst="rect">
            <a:avLst/>
          </a:prstGeom>
          <a:ln w="0">
            <a:noFill/>
          </a:ln>
        </p:spPr>
      </p:pic>
      <p:pic>
        <p:nvPicPr>
          <p:cNvPr id="94" name="estudios%201" descr=""/>
          <p:cNvPicPr/>
          <p:nvPr/>
        </p:nvPicPr>
        <p:blipFill>
          <a:blip r:embed="rId2"/>
          <a:stretch/>
        </p:blipFill>
        <p:spPr>
          <a:xfrm>
            <a:off x="6477120" y="4038480"/>
            <a:ext cx="2361960" cy="205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914400"/>
            <a:ext cx="40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P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0000"/>
                </a:solidFill>
                <a:latin typeface="Arial"/>
              </a:rPr>
              <a:t>2002 Sustainability Survey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2514600"/>
            <a:ext cx="7315200" cy="361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73%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os encuestados elabora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32%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planean hacer reportes de sustentabilidad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41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las compañías que han elaborado reportes, el </a:t>
            </a:r>
            <a:r>
              <a:rPr b="1" lang="es-MX" sz="2000" spc="-1" strike="noStrike">
                <a:solidFill>
                  <a:srgbClr val="cc3300"/>
                </a:solidFill>
                <a:latin typeface="Arial"/>
              </a:rPr>
              <a:t>55% ha seguido los lineamientos del GRI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y 29% ha realizado una verificación exter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cc3300"/>
                </a:solidFill>
                <a:latin typeface="Arial"/>
              </a:rPr>
              <a:t>89%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ree que en los próximos 5 años aumentará el énfasis hacia incorporar la sustentabilidad en los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cc3300"/>
                </a:solidFill>
                <a:latin typeface="Arial"/>
              </a:rPr>
              <a:t>3 de cada 4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72%) no han incorporado las oportunidades y riesgos asociados a la sustentabilidad en sus estrategias de negocios o proyectos, evaluación procesos de invers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37160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914400"/>
            <a:ext cx="336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Investigació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 140 empresas con base en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US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(72% incluidas en el Fortune 1000 compan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lgunas Cifras y antecedent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9810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Encuesta CEO´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Ciudadanía Corpor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6668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685800"/>
            <a:ext cx="4114800" cy="59461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Enero de 2002 el </a:t>
            </a:r>
            <a:r>
              <a:rPr b="1" i="1" lang="es-ES" sz="2400" spc="-1" strike="noStrike">
                <a:solidFill>
                  <a:srgbClr val="3333cc"/>
                </a:solidFill>
                <a:latin typeface="Arial"/>
              </a:rPr>
              <a:t>World Economic Forum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realizó una encuesta a los CEOs de las compañías ubicadas en 16 países, entre los principales hallazgos se encuentran el que el 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48% de los encuestados ha publicado alguna forma de report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sobre sus actividades sociales y/o medioambientales  y que el 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77% utiliza la web para comunicar dichas a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lgunas Cifras y antecedent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19:56:04Z</dcterms:created>
  <dc:creator>Maria Jose Fuentelaba</dc:creator>
  <dc:description/>
  <dc:language>en-US</dc:language>
  <cp:lastModifiedBy>Beatriz Calderón</cp:lastModifiedBy>
  <dcterms:modified xsi:type="dcterms:W3CDTF">2004-10-21T23:33:25Z</dcterms:modified>
  <cp:revision>128</cp:revision>
  <dc:subject/>
  <dc:title>Presentación de PowerPoint</dc:title>
</cp:coreProperties>
</file>