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A73-3D78-423B-80EF-86DB535C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FAC-E9DC-4382-BA2B-8B673C0A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B91-04BD-400E-B697-BA77DBD0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D1C-1EFA-4924-B080-262E5427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8BBB-0670-4049-B1E7-13946D96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A1F9-E647-4746-96B4-5D7AFC5C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5935-1E04-422C-A8F6-F6002548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FE16-25ED-46AC-BA94-926A1CB8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7557-80C9-4DA3-B77C-DDEE307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938B-F6D9-488C-A6DD-988C8B55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A914-68F8-4691-A92D-7CAAC46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0A5-6168-4D6D-96B7-F80EB834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740A-70F5-492D-A240-F6979DBA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310-1CD4-449A-81DE-482CED3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E7F6-F8A7-46F8-B707-FE6E1D39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48D2-0541-4FD3-8DA9-BD61CFE5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C2CC-144F-41F1-A236-3BB1E133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7A8-B72A-4FB7-B16F-AF03562A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903-99EA-489A-8B85-6C6C6AA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25E-170C-495E-AF4B-644796BE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AC9-4C6D-47B4-AAE6-303E9E32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3E7-6B56-4946-9001-FCC9462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A69-99E2-4CE4-91A8-EBFCD3E9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149-B2D0-4E79-814D-7BE7938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2F8E-B191-4AED-8582-33159393DDD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AE0-394B-4454-BDD2-1C5B85F6116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86104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66"/>
                </a:solidFill>
                <a:latin typeface="Arial"/>
              </a:rPr>
              <a:t>CLASE 4: ACERCANDO LA EMPRESA A LA COMUNIDA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432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99"/>
                </a:solidFill>
                <a:latin typeface="Arial"/>
              </a:rPr>
              <a:t>Profesores: Beatriz Calder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99"/>
                </a:solidFill>
                <a:latin typeface="Arial"/>
              </a:rPr>
              <a:t>                </a:t>
            </a:r>
            <a:r>
              <a:rPr b="1" lang="es-ES_tradnl" sz="3200" spc="-1" strike="noStrike">
                <a:solidFill>
                  <a:srgbClr val="00ff99"/>
                </a:solidFill>
                <a:latin typeface="Arial"/>
              </a:rPr>
              <a:t>Andrés Naz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304920" y="1295280"/>
          <a:ext cx="861048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6104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380880" y="22860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66"/>
                </a:solidFill>
                <a:latin typeface="Arial"/>
              </a:rPr>
              <a:t>PREOCUPACIÓN POR LA COMUNIDA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65530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La Segu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Arial"/>
              </a:rPr>
              <a:t>PROYECTOS QUE APOYAN A LA COMUN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80880" y="1371600"/>
            <a:ext cx="8286840" cy="5388120"/>
            <a:chOff x="380880" y="1371600"/>
            <a:chExt cx="8286840" cy="5388120"/>
          </a:xfrm>
        </p:grpSpPr>
        <p:pic>
          <p:nvPicPr>
            <p:cNvPr id="289" name="bike" descr=""/>
            <p:cNvPicPr/>
            <p:nvPr/>
          </p:nvPicPr>
          <p:blipFill>
            <a:blip r:embed="rId1"/>
            <a:stretch/>
          </p:blipFill>
          <p:spPr>
            <a:xfrm>
              <a:off x="3429000" y="5181480"/>
              <a:ext cx="77760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leaves" descr=""/>
            <p:cNvPicPr/>
            <p:nvPr/>
          </p:nvPicPr>
          <p:blipFill>
            <a:blip r:embed="rId2"/>
            <a:stretch/>
          </p:blipFill>
          <p:spPr>
            <a:xfrm>
              <a:off x="4190760" y="5181480"/>
              <a:ext cx="777960" cy="105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1" name=""/>
            <p:cNvGrpSpPr/>
            <p:nvPr/>
          </p:nvGrpSpPr>
          <p:grpSpPr>
            <a:xfrm>
              <a:off x="380880" y="1371600"/>
              <a:ext cx="8286840" cy="5388120"/>
              <a:chOff x="380880" y="1371600"/>
              <a:chExt cx="8286840" cy="5388120"/>
            </a:xfrm>
          </p:grpSpPr>
          <p:pic>
            <p:nvPicPr>
              <p:cNvPr id="292" name="ejecutivo.mundo.manos.empresa" descr=""/>
              <p:cNvPicPr/>
              <p:nvPr/>
            </p:nvPicPr>
            <p:blipFill>
              <a:blip r:embed="rId3"/>
              <a:stretch/>
            </p:blipFill>
            <p:spPr>
              <a:xfrm>
                <a:off x="5568840" y="1371600"/>
                <a:ext cx="3098880" cy="35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boy" descr=""/>
              <p:cNvPicPr/>
              <p:nvPr/>
            </p:nvPicPr>
            <p:blipFill>
              <a:blip r:embed="rId4"/>
              <a:stretch/>
            </p:blipFill>
            <p:spPr>
              <a:xfrm>
                <a:off x="4952880" y="5181480"/>
                <a:ext cx="77796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bussiness%20impact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5181480"/>
                <a:ext cx="77796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legs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6760" y="5181480"/>
                <a:ext cx="77796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man" descr=""/>
              <p:cNvPicPr/>
              <p:nvPr/>
            </p:nvPicPr>
            <p:blipFill>
              <a:blip r:embed="rId7"/>
              <a:stretch/>
            </p:blipFill>
            <p:spPr>
              <a:xfrm>
                <a:off x="5715000" y="5181480"/>
                <a:ext cx="7776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comunidad%201" descr=""/>
              <p:cNvPicPr/>
              <p:nvPr/>
            </p:nvPicPr>
            <p:blipFill>
              <a:blip r:embed="rId8"/>
              <a:stretch/>
            </p:blipFill>
            <p:spPr>
              <a:xfrm>
                <a:off x="380880" y="3657600"/>
                <a:ext cx="4572000" cy="11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ninos%20trabajando%20en%20computador" descr=""/>
              <p:cNvPicPr/>
              <p:nvPr/>
            </p:nvPicPr>
            <p:blipFill>
              <a:blip r:embed="rId9"/>
              <a:stretch/>
            </p:blipFill>
            <p:spPr>
              <a:xfrm>
                <a:off x="1676160" y="1371600"/>
                <a:ext cx="3454560" cy="186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niños%20escribiendo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5800" y="4876920"/>
                <a:ext cx="2311200" cy="1882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El Compromiso Empresarial hacia la Comun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1" lang="es-VE" sz="4000" spc="-1" strike="noStrike">
                <a:solidFill>
                  <a:srgbClr val="ffff66"/>
                </a:solidFill>
                <a:latin typeface="Verdana"/>
              </a:rPr>
              <a:t>Maximizar la contribución de la Empresa a la Comunidad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1" lang="es-VE" sz="4000" spc="-1" strike="noStrike">
                <a:solidFill>
                  <a:srgbClr val="ffff66"/>
                </a:solidFill>
                <a:latin typeface="Verdana"/>
              </a:rPr>
              <a:t>Minimizar los impactos adverso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839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Relación Empresa - Comun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¿Qué Características deben tener los programas sociales para lograr el doble beneficio empresa - comunid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3429000"/>
            <a:ext cx="8534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Aporte real a necesidades concretas (compromiso, cobertura, etc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Ligado a las estrategias y negocio de la empre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Continuo en el ti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Marketing Social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¿Qué puede hacer la empresa para incentivar el trabajo con la comunida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57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Entregar información sobre organismos que requieren volu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Otorgar tiempo libre para el desarrollo de estas activ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Proporcionar apoyo financi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Incentivar a los trabajadores a hacer don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Reconocer a los trabajadores que participen en estas activ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¿Qué puede hacer la empresa para incentivar el trabajo con la comunida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57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Facilitar el uso de las insta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Incorporar a proveedores y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Unir esfuerzos con otras empre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Hacer un compromiso con las instituciones de car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Crear programas de trabajo - estu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Adoptar un proyecto hacia la comun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ff99"/>
                </a:solidFill>
                <a:latin typeface="Arial"/>
                <a:ea typeface="Arial"/>
              </a:rPr>
              <a:t>Caminos para Realizar la Elección del Proyec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Buscar una concordancia entre el negocio y el área de interés social. Ej: Medio ambiente, niños, familia, pobreza, empleo, educación, salud, discapacitados, infraestructura, comunidad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Realizar un Análisis de Mercado (ver las necesidades concretas  de la comunida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Ver cuáles son las áreas “sensibles” para los Trabajadores, Accionistas y Líderes Corpora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Historial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Selección de Proyec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Cobertura ¿Un proyecto Nacional o Loc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ocal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ue beneficie a la comunidad en donde la empresa opera Ej: construcción de “plazas”, centros deportivos, consultorios, etc. (Shell-“Programa Manos Unidas”; CMPC-“Parque Ecológico”);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Nacional ó Temático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tomar un “tema” de interés nacional y desarrollar un proyecto que puede ser aplicado a comunidades específicas.  Ej: Banco Santiago-Mediaguas 2000;  Bellsouth-Niños y Deserción Escolar; Córpora Tresmontes-Obesidad infan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Definición de Proyec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Involucramiento: Hasta que nivel se van a involucrar los participantes y que tareas van a realiz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Periodos y plaz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Presupuesto: Valorizar activos tangibles e intang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6960" y="1523520"/>
            <a:ext cx="88390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300" spc="-1" strike="noStrike">
                <a:solidFill>
                  <a:srgbClr val="ffff66"/>
                </a:solidFill>
                <a:latin typeface="Arial"/>
              </a:rPr>
              <a:t>¿ Que es la Responsabilidad Social Empresarial ?</a:t>
            </a:r>
            <a:endParaRPr b="0" lang="en-US" sz="53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5800" y="3429000"/>
            <a:ext cx="8001000" cy="1192320"/>
            <a:chOff x="685800" y="3429000"/>
            <a:chExt cx="8001000" cy="1192320"/>
          </a:xfrm>
        </p:grpSpPr>
        <p:sp>
          <p:nvSpPr>
            <p:cNvPr id="215" name=""/>
            <p:cNvSpPr/>
            <p:nvPr/>
          </p:nvSpPr>
          <p:spPr>
            <a:xfrm>
              <a:off x="685800" y="342900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99ff99"/>
                  </a:solidFill>
                  <a:latin typeface="Arial"/>
                </a:rPr>
                <a:t>Es una visión de los negocios, que integra el respeto por los valores éticos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" y="379584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99ff99"/>
                  </a:solidFill>
                  <a:latin typeface="Arial"/>
                </a:rPr>
                <a:t>                                                     </a:t>
              </a:r>
              <a:r>
                <a:rPr b="0" lang="es-ES_tradnl" sz="2400" spc="-1" strike="noStrike">
                  <a:solidFill>
                    <a:srgbClr val="99ff99"/>
                  </a:solidFill>
                  <a:latin typeface="Arial"/>
                </a:rPr>
                <a:t>y el medio ambiente, en el contexto de sus operaciones diaria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33880" y="3800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99ff99"/>
                  </a:solidFill>
                  <a:latin typeface="Arial"/>
                </a:rPr>
                <a:t>las perso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0" y="4190760"/>
            <a:ext cx="8991720" cy="2044800"/>
            <a:chOff x="0" y="4190760"/>
            <a:chExt cx="8991720" cy="2044800"/>
          </a:xfrm>
        </p:grpSpPr>
        <p:sp>
          <p:nvSpPr>
            <p:cNvPr id="219" name=""/>
            <p:cNvSpPr/>
            <p:nvPr/>
          </p:nvSpPr>
          <p:spPr>
            <a:xfrm>
              <a:off x="0" y="5867280"/>
              <a:ext cx="89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ff99"/>
                  </a:solidFill>
                  <a:latin typeface="Arial"/>
                </a:rPr>
                <a:t>Clientes, Accionistas, Inversionistas, Trabajadores, Proveedores y la Comun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4190760"/>
              <a:ext cx="2743200" cy="1600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315200" y="6229440"/>
            <a:ext cx="16002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28840" y="37958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Definición de Proyec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Definir indicadores de éxito ligado a las m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Definir Socios y Alianzas estratég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Plan de Marketing Social: Definir las comunicaciones internas y exter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Sistema de Contr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Ningún proyecto está listo sólo con ponerse en funcionamiento. Es fundamental contar con un sistema que controle y asegure que las actividades y procedimientos establecidos se realicen de la manera deseada, contribuyendo a alcanzar los objetivos iniciales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  <a:ea typeface="Arial"/>
              </a:rPr>
              <a:t>¿Cuál será el impa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A nivel de los benefici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A nivel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A nivel de la opinión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  <a:ea typeface="Arial"/>
              </a:rPr>
              <a:t>Identificar los Benef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  <a:ea typeface="Arial"/>
              </a:rPr>
              <a:t>¿Se justifica el desarrollo d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Evaluación de Resultados y Redefinición del Proyec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  <a:ea typeface="Arial"/>
              </a:rPr>
              <a:t>Es importante aprender de los errores realizados y mejorarlos.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Aspectos Importantes a Consider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tivación” y “Liderazgo” desde el interior de la organ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mpromiso” de al menos un grupo definido de personas al interior de la organ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yecto de carácter único que refleje la motivación existente en la organ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yecto social acorde con el aporte que la Empresa será capaz de entregar. “No puedo correr el riesgo de invadir en vez de ayudar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Aspectos Importantes a Consider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legir un proyecto que se ajuste a la motivación y capacidad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motivación prematura de los volun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la empresa considere el proyecto como parte integral de su organ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se genere un compromiso perdurable entre ambas organiz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Beneficios para la Empre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Mejorar su imagen y posicionamiento ante la comun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Mayor lealtad de marca, fidelización de clientes y aumento en las ven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Mejora el clima y mística  laboral. Crea unidad en el pers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Desarrollar oportunidades de negoc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Hacer el Bi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Beneficios para la Comun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Impulsa el desarrollo del s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Capac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Crea consciencia y es más fácil requerir ayu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Genera interés en el desarrollo 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Mejora la calidad de v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Crea cohesión en la comun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Responsabilidad Social Empresari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La empresa los necesita a todos para desarrollar sus actividades, es por eso que debe buscar los beneficios para cada uno de los grupos de interé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67040" y="210492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09880" y="3429000"/>
            <a:ext cx="4419360" cy="3048120"/>
            <a:chOff x="3809880" y="3429000"/>
            <a:chExt cx="4419360" cy="3048120"/>
          </a:xfrm>
        </p:grpSpPr>
        <p:grpSp>
          <p:nvGrpSpPr>
            <p:cNvPr id="227" name=""/>
            <p:cNvGrpSpPr/>
            <p:nvPr/>
          </p:nvGrpSpPr>
          <p:grpSpPr>
            <a:xfrm>
              <a:off x="5508720" y="4728600"/>
              <a:ext cx="1010160" cy="582840"/>
              <a:chOff x="5508720" y="4728600"/>
              <a:chExt cx="1010160" cy="582840"/>
            </a:xfrm>
          </p:grpSpPr>
          <p:sp>
            <p:nvSpPr>
              <p:cNvPr id="228" name=""/>
              <p:cNvSpPr/>
              <p:nvPr/>
            </p:nvSpPr>
            <p:spPr>
              <a:xfrm>
                <a:off x="5508720" y="4728600"/>
                <a:ext cx="1010160" cy="582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46240" y="4909680"/>
                <a:ext cx="71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Empres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809880" y="4415040"/>
              <a:ext cx="1009800" cy="582840"/>
              <a:chOff x="3809880" y="4415040"/>
              <a:chExt cx="1009800" cy="582840"/>
            </a:xfrm>
          </p:grpSpPr>
          <p:sp>
            <p:nvSpPr>
              <p:cNvPr id="231" name=""/>
              <p:cNvSpPr/>
              <p:nvPr/>
            </p:nvSpPr>
            <p:spPr>
              <a:xfrm>
                <a:off x="3809880" y="4415040"/>
                <a:ext cx="1009800" cy="582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35440" y="4572000"/>
                <a:ext cx="947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ff"/>
                    </a:solidFill>
                    <a:latin typeface="Times New Roman"/>
                  </a:rPr>
                  <a:t>Proveedore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656760" y="3652920"/>
              <a:ext cx="1010160" cy="582840"/>
              <a:chOff x="6656760" y="3652920"/>
              <a:chExt cx="1010160" cy="582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656760" y="3652920"/>
                <a:ext cx="1010160" cy="582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10040" y="3818160"/>
                <a:ext cx="87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Client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957560" y="3429000"/>
              <a:ext cx="1010160" cy="582480"/>
              <a:chOff x="4957560" y="3429000"/>
              <a:chExt cx="1010160" cy="582480"/>
            </a:xfrm>
          </p:grpSpPr>
          <p:sp>
            <p:nvSpPr>
              <p:cNvPr id="237" name=""/>
              <p:cNvSpPr/>
              <p:nvPr/>
            </p:nvSpPr>
            <p:spPr>
              <a:xfrm>
                <a:off x="4957560" y="3429000"/>
                <a:ext cx="1010160" cy="582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32080" y="3600360"/>
                <a:ext cx="874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ff"/>
                    </a:solidFill>
                    <a:latin typeface="Times New Roman"/>
                  </a:rPr>
                  <a:t>Accionista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7207920" y="5446080"/>
              <a:ext cx="1021320" cy="582480"/>
              <a:chOff x="7207920" y="5446080"/>
              <a:chExt cx="1021320" cy="582480"/>
            </a:xfrm>
          </p:grpSpPr>
          <p:sp>
            <p:nvSpPr>
              <p:cNvPr id="240" name=""/>
              <p:cNvSpPr/>
              <p:nvPr/>
            </p:nvSpPr>
            <p:spPr>
              <a:xfrm>
                <a:off x="7207920" y="5446080"/>
                <a:ext cx="1010160" cy="582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18000" y="5614920"/>
                <a:ext cx="1011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ff"/>
                    </a:solidFill>
                    <a:latin typeface="Times New Roman"/>
                  </a:rPr>
                  <a:t>Trabajadore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039920" y="5535720"/>
              <a:ext cx="1055160" cy="582840"/>
              <a:chOff x="4039920" y="5535720"/>
              <a:chExt cx="1055160" cy="582840"/>
            </a:xfrm>
          </p:grpSpPr>
          <p:sp>
            <p:nvSpPr>
              <p:cNvPr id="243" name=""/>
              <p:cNvSpPr/>
              <p:nvPr/>
            </p:nvSpPr>
            <p:spPr>
              <a:xfrm>
                <a:off x="4064400" y="5535720"/>
                <a:ext cx="1010160" cy="582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039920" y="5689800"/>
                <a:ext cx="10551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ff"/>
                    </a:solidFill>
                    <a:latin typeface="Times New Roman"/>
                  </a:rPr>
                  <a:t>Inversionista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245" name=""/>
            <p:cNvCxnSpPr>
              <a:stCxn id="244" idx="3"/>
              <a:endCxn id="228" idx="3"/>
            </p:cNvCxnSpPr>
            <p:nvPr/>
          </p:nvCxnSpPr>
          <p:spPr>
            <a:xfrm flipV="1">
              <a:off x="5095440" y="5225760"/>
              <a:ext cx="562320" cy="580680"/>
            </a:xfrm>
            <a:prstGeom prst="curvedConnector2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6" name=""/>
            <p:cNvCxnSpPr>
              <a:stCxn id="231" idx="6"/>
              <a:endCxn id="228" idx="2"/>
            </p:cNvCxnSpPr>
            <p:nvPr/>
          </p:nvCxnSpPr>
          <p:spPr>
            <a:xfrm>
              <a:off x="4819320" y="4705920"/>
              <a:ext cx="689400" cy="314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7" name=""/>
            <p:cNvCxnSpPr>
              <a:stCxn id="237" idx="4"/>
              <a:endCxn id="228" idx="0"/>
            </p:cNvCxnSpPr>
            <p:nvPr/>
          </p:nvCxnSpPr>
          <p:spPr>
            <a:xfrm flipH="1" rot="16200000">
              <a:off x="5379840" y="4094280"/>
              <a:ext cx="717840" cy="551520"/>
            </a:xfrm>
            <a:prstGeom prst="curvedConnector5">
              <a:avLst>
                <a:gd name="adj1" fmla="val 49974"/>
                <a:gd name="adj2" fmla="val 49967"/>
                <a:gd name="adj3" fmla="val 49974"/>
              </a:avLst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8" name=""/>
            <p:cNvCxnSpPr>
              <a:stCxn id="234" idx="3"/>
              <a:endCxn id="228" idx="7"/>
            </p:cNvCxnSpPr>
            <p:nvPr/>
          </p:nvCxnSpPr>
          <p:spPr>
            <a:xfrm rot="5400000">
              <a:off x="6255720" y="4263840"/>
              <a:ext cx="663120" cy="435240"/>
            </a:xfrm>
            <a:prstGeom prst="curvedConnector5">
              <a:avLst>
                <a:gd name="adj1" fmla="val 49972"/>
                <a:gd name="adj2" fmla="val 50000"/>
                <a:gd name="adj3" fmla="val 49972"/>
              </a:avLst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9" name=""/>
            <p:cNvCxnSpPr>
              <a:stCxn id="240" idx="1"/>
              <a:endCxn id="228" idx="6"/>
            </p:cNvCxnSpPr>
            <p:nvPr/>
          </p:nvCxnSpPr>
          <p:spPr>
            <a:xfrm flipV="1" rot="16200000">
              <a:off x="6681600" y="4856400"/>
              <a:ext cx="511200" cy="837720"/>
            </a:xfrm>
            <a:prstGeom prst="curvedConnector2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5738400" y="5894280"/>
              <a:ext cx="1055160" cy="582840"/>
              <a:chOff x="5738400" y="5894280"/>
              <a:chExt cx="1055160" cy="582840"/>
            </a:xfrm>
          </p:grpSpPr>
          <p:sp>
            <p:nvSpPr>
              <p:cNvPr id="251" name=""/>
              <p:cNvSpPr/>
              <p:nvPr/>
            </p:nvSpPr>
            <p:spPr>
              <a:xfrm>
                <a:off x="5763960" y="5894280"/>
                <a:ext cx="1010160" cy="582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38400" y="6046560"/>
                <a:ext cx="10551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ff"/>
                    </a:solidFill>
                    <a:latin typeface="Times New Roman"/>
                  </a:rPr>
                  <a:t>Comunidad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51" idx="0"/>
              <a:endCxn id="228" idx="5"/>
            </p:cNvCxnSpPr>
            <p:nvPr/>
          </p:nvCxnSpPr>
          <p:spPr>
            <a:xfrm flipH="1" flipV="1" rot="5400000">
              <a:off x="5985720" y="5509080"/>
              <a:ext cx="668160" cy="101880"/>
            </a:xfrm>
            <a:prstGeom prst="curvedConnector5">
              <a:avLst>
                <a:gd name="adj1" fmla="val 43611"/>
                <a:gd name="adj2" fmla="val 50000"/>
                <a:gd name="adj3" fmla="val 43611"/>
              </a:avLst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780000" y="2852640"/>
            <a:ext cx="1584000" cy="1432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2708280"/>
            <a:ext cx="2133720" cy="1752480"/>
          </a:xfrm>
          <a:prstGeom prst="rightArrow">
            <a:avLst>
              <a:gd name="adj1" fmla="val 50000"/>
              <a:gd name="adj2" fmla="val 30439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 Demi"/>
              </a:rPr>
              <a:t>Ca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 Demi"/>
              </a:rPr>
              <a:t>Hum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3492720" y="739440"/>
            <a:ext cx="2133360" cy="1752480"/>
          </a:xfrm>
          <a:prstGeom prst="rightArrow">
            <a:avLst>
              <a:gd name="adj1" fmla="val 50000"/>
              <a:gd name="adj2" fmla="val 30433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 Demi"/>
              </a:rPr>
              <a:t>Ca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Berlin Sans FB Demi"/>
              </a:rPr>
              <a:t>Financi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30680" y="2684520"/>
            <a:ext cx="2210040" cy="1752480"/>
          </a:xfrm>
          <a:prstGeom prst="leftArrow">
            <a:avLst>
              <a:gd name="adj1" fmla="val 50000"/>
              <a:gd name="adj2" fmla="val 31527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Berlin Sans FB Demi"/>
              </a:rPr>
              <a:t>Ca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Berlin Sans FB Demi"/>
              </a:rPr>
              <a:t>Pro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2400">
            <a:off x="3492360" y="4654080"/>
            <a:ext cx="2133720" cy="1752480"/>
          </a:xfrm>
          <a:prstGeom prst="rightArrow">
            <a:avLst>
              <a:gd name="adj1" fmla="val 50000"/>
              <a:gd name="adj2" fmla="val 30439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 Demi"/>
              </a:rPr>
              <a:t>Ca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 Demi"/>
              </a:rPr>
              <a:t>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32680" y="577800"/>
            <a:ext cx="2084400" cy="1338480"/>
          </a:xfrm>
          <a:prstGeom prst="borderCallout2">
            <a:avLst>
              <a:gd name="adj1" fmla="val 18750"/>
              <a:gd name="adj2" fmla="val -8333"/>
              <a:gd name="adj3" fmla="val 8541"/>
              <a:gd name="adj4" fmla="val -30462"/>
              <a:gd name="adj5" fmla="val 72833"/>
              <a:gd name="adj6" fmla="val -58263"/>
            </a:avLst>
          </a:prstGeom>
          <a:solidFill>
            <a:srgbClr val="99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Poca o ninguna capacidad de consu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Concentración de merc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04000" y="5300640"/>
            <a:ext cx="2089080" cy="1224000"/>
          </a:xfrm>
          <a:prstGeom prst="borderCallout2">
            <a:avLst>
              <a:gd name="adj1" fmla="val 18750"/>
              <a:gd name="adj2" fmla="val -8333"/>
              <a:gd name="adj3" fmla="val 9337"/>
              <a:gd name="adj4" fmla="val -6990"/>
              <a:gd name="adj5" fmla="val -104148"/>
              <a:gd name="adj6" fmla="val -10560"/>
            </a:avLst>
          </a:prstGeom>
          <a:solidFill>
            <a:srgbClr val="99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Ruralidad acentu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Poco o sin acceso a servicios bás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5229360"/>
            <a:ext cx="2016000" cy="107928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136930"/>
              <a:gd name="adj5" fmla="val 33384"/>
              <a:gd name="adj6" fmla="val 171416"/>
            </a:avLst>
          </a:prstGeom>
          <a:solidFill>
            <a:srgbClr val="99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Viol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No redes-alian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9400" y="1700280"/>
            <a:ext cx="1974600" cy="1297080"/>
          </a:xfrm>
          <a:prstGeom prst="borderCallout2">
            <a:avLst>
              <a:gd name="adj1" fmla="val 18750"/>
              <a:gd name="adj2" fmla="val -8333"/>
              <a:gd name="adj3" fmla="val 8814"/>
              <a:gd name="adj4" fmla="val 116398"/>
              <a:gd name="adj5" fmla="val 111138"/>
              <a:gd name="adj6" fmla="val 129421"/>
            </a:avLst>
          </a:prstGeom>
          <a:solidFill>
            <a:srgbClr val="99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Desnutr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Berlin Sans FB Demi"/>
              </a:rPr>
              <a:t>Poca calificación y especi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480" y="114480"/>
            <a:ext cx="3771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99"/>
                </a:solidFill>
                <a:latin typeface="Berlin Sans FB Demi"/>
              </a:rPr>
              <a:t>Relación Empresa - Comunida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Inversión Soci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66"/>
                </a:solidFill>
                <a:latin typeface="Tahoma"/>
              </a:rPr>
              <a:t>Para una empresa la asignación de recursos en proyectos sociales no debería constitutir un gasto sino una </a:t>
            </a:r>
            <a:r>
              <a:rPr b="1" lang="es-AR" sz="2400" spc="-1" strike="noStrike">
                <a:solidFill>
                  <a:srgbClr val="99ff99"/>
                </a:solidFill>
                <a:latin typeface="Tahoma"/>
              </a:rPr>
              <a:t>INVERSIÓN RENTABLE</a:t>
            </a:r>
            <a:r>
              <a:rPr b="1" lang="es-AR" sz="2400" spc="-1" strike="noStrike">
                <a:solidFill>
                  <a:srgbClr val="ffff66"/>
                </a:solidFill>
                <a:latin typeface="Tahoma"/>
              </a:rPr>
              <a:t>, porque una sociedad sana y con un grado razonable de equilibrio social  y económico es la mejor garantía para asegurar la supervivenci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¿Por qué Hablamos de Inversión Social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Porque ello constituye una relación empresa -comunidad que supone la extensión de los criterios empresariales al campo social, quitando así la faz caritativa (asistencialista) para otorgarle otra más ligada al </a:t>
            </a:r>
            <a:r>
              <a:rPr b="1" lang="es-ES" sz="2800" spc="-1" strike="noStrike">
                <a:solidFill>
                  <a:srgbClr val="99ff99"/>
                </a:solidFill>
                <a:latin typeface="Tahoma"/>
              </a:rPr>
              <a:t>desarrollo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 y a la </a:t>
            </a:r>
            <a:r>
              <a:rPr b="1" lang="es-ES" sz="2800" spc="-1" strike="noStrike">
                <a:solidFill>
                  <a:srgbClr val="99ff99"/>
                </a:solidFill>
                <a:latin typeface="Tahoma"/>
              </a:rPr>
              <a:t>sustentabilidad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 de los proyectos, alcanzando  beneficios para la comunidad y para l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Relación Empresa - Comun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¿Qué espera la empresa de las comunidades en las que está insert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305400" y="3497400"/>
            <a:ext cx="1524240" cy="846000"/>
            <a:chOff x="6305400" y="3497400"/>
            <a:chExt cx="1524240" cy="846000"/>
          </a:xfrm>
        </p:grpSpPr>
        <p:sp>
          <p:nvSpPr>
            <p:cNvPr id="271" name=""/>
            <p:cNvSpPr/>
            <p:nvPr/>
          </p:nvSpPr>
          <p:spPr>
            <a:xfrm>
              <a:off x="6305400" y="3497400"/>
              <a:ext cx="1524240" cy="84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13120" y="37602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Empr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5486400"/>
            <a:ext cx="1592280" cy="838080"/>
            <a:chOff x="3962520" y="5486400"/>
            <a:chExt cx="1592280" cy="838080"/>
          </a:xfrm>
        </p:grpSpPr>
        <p:sp>
          <p:nvSpPr>
            <p:cNvPr id="274" name=""/>
            <p:cNvSpPr/>
            <p:nvPr/>
          </p:nvSpPr>
          <p:spPr>
            <a:xfrm>
              <a:off x="4001400" y="5486400"/>
              <a:ext cx="1524240" cy="838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62520" y="5705280"/>
              <a:ext cx="15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mun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76" name=""/>
          <p:cNvCxnSpPr>
            <a:stCxn id="274" idx="0"/>
            <a:endCxn id="271" idx="4"/>
          </p:cNvCxnSpPr>
          <p:nvPr/>
        </p:nvCxnSpPr>
        <p:spPr>
          <a:xfrm flipH="1" flipV="1" rot="5400000">
            <a:off x="5344200" y="3762720"/>
            <a:ext cx="1143720" cy="230400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380880" y="2819520"/>
            <a:ext cx="838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No tener oposición para desarrollar sus actividades produc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Participación labo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Confian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Servic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Relación Empresa - Comun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¿Qué espera la comunidad de las empresa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8195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66"/>
                </a:solidFill>
                <a:latin typeface="Times New Roman"/>
              </a:rPr>
              <a:t>Cumplimiento de todas las normas (contaminación, ruidos, urbanismo, etc.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66"/>
                </a:solidFill>
                <a:latin typeface="Times New Roman"/>
              </a:rPr>
              <a:t>Que desarrollen conocimientos y tecnologías, haciendo un correcto uso de est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66"/>
                </a:solidFill>
                <a:latin typeface="Times New Roman"/>
              </a:rPr>
              <a:t>Impuest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66"/>
                </a:solidFill>
                <a:latin typeface="Times New Roman"/>
              </a:rPr>
              <a:t>Que de trabaj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66"/>
                </a:solidFill>
                <a:latin typeface="Times New Roman"/>
              </a:rPr>
              <a:t>Que sea un buen vecino y apoye iniciativas de bien comú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20:28:11Z</dcterms:created>
  <dc:creator>Andrés Nazar Massuh</dc:creator>
  <dc:description/>
  <dc:language>en-US</dc:language>
  <cp:lastModifiedBy>.</cp:lastModifiedBy>
  <dcterms:modified xsi:type="dcterms:W3CDTF">2004-03-23T00:10:19Z</dcterms:modified>
  <cp:revision>273</cp:revision>
  <dc:subject/>
  <dc:title>clase 1</dc:title>
</cp:coreProperties>
</file>