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E0D-18BA-4D13-AB82-D3411DB2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F20-9128-4726-BEB8-76CF637A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9C4B-3CC3-49B0-8A78-DF950722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595-F0B0-4F17-9050-B0B80534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462-2A6C-46DD-9791-7DE9C95C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C2FA-2BD0-4C68-B8C3-F96BDDDA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AA2E-22AD-40CE-A106-7F5BF789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5D5-536B-4109-A6C2-2FF2D79D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C116-2A9F-49DD-AA68-4480B8EE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7337-03ED-4F8C-9262-E57CD5CD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88BD-B0D3-42B5-BA1F-663FF9B6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765-0BDF-4DC9-B5A4-64CF0D31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3AC9-06B0-486B-80C6-B30DC3B97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964720" cy="21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99"/>
                </a:solidFill>
                <a:latin typeface="Arial Black"/>
              </a:rPr>
              <a:t>LA REGULACIÓN </a:t>
            </a:r>
            <a:br>
              <a:rPr sz="4800"/>
            </a:br>
            <a:r>
              <a:rPr b="0" lang="es-CL" sz="4800" spc="-1" strike="noStrike">
                <a:solidFill>
                  <a:srgbClr val="000099"/>
                </a:solidFill>
                <a:latin typeface="Arial Black"/>
              </a:rPr>
              <a:t>DE LA </a:t>
            </a:r>
            <a:br>
              <a:rPr sz="4800"/>
            </a:br>
            <a:r>
              <a:rPr b="0" lang="es-CL" sz="4800" spc="-1" strike="noStrike">
                <a:solidFill>
                  <a:srgbClr val="000099"/>
                </a:solidFill>
                <a:latin typeface="Arial Black"/>
              </a:rPr>
              <a:t>ACTIVIDAD ECONÓM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97800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antiago, 12 de noviembre de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fesora: Alejandra Miz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ositor: Alejandro Ferr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de 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Fundamentos de la intervención del Estado en la Economí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políticas redistribu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corrección de desequilibr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líticas de subsidios sect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reg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La regulación del Estado: su justificación y sus lí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as fallas del merc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 imperf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ene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terna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s de trans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imetrías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as fallas del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planteamientos de la escuela positiva o el cuestionamiento a los méritos del regul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iesgo de cap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asimetrías de información en contra del reg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en controla o gobierna al regulador? ¿A qué señales respon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tonomía o dependencia política del reg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81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¿Cómo medir la calidad de la regul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pertin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osto efectividad de la 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adecuación a los estándares inter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ficiencia del mercado regulado y la satisfacción de los consum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1320" indent="-4813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La autor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ajas posibles de la autor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diciones para su aplicación exitosa y efic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dudas acerca de la autorregulación y su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álisis de c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9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5. La regulación de la libre compe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96720" indent="-4532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Porqué propiciar la libre competenc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 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 co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institucionalidad de la libre competencia en Ch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Tribunal de Defensa de la Libre Compet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El DL. 211de 19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bate de actualidad (pasado y futuro): ¿Cómo discernir si una fusión es contraria a la libre competenc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nálisis de mercados relev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dices de concentra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cia de barreras de ent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asticidad de la dem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cia de bienes sustitu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pacidad de monitoreo y sanción ex post de abusos de posición domin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6200" y="1628640"/>
            <a:ext cx="849780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6.- Los desafíos futuros de la 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ciliar la seguridad jurídica con la adaptabilidad oportuna y riguro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rmonizar la regulación administrativa y la resolución oportuna de conflictos regulatorios mediante resoluciones judiciales especializadas y oportu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autonomía de los reguladores ... Y una contrapartida necesaria, más accountability y procesos de selección con alta preeminencia técn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globalización de la regulación: ¿Cuánta soberanía pierde (y debe perder) el regulador local frente a los estándares internacion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7.- Algunas lecciones apr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.- La regulación y el fin de la guerra fría: una buena síntesis para el armisticio final entre el Estado y el Mer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.- Es mejor regular ex ante... después es casi im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.- No subestimar el lobby:.. y por tanto refuerce su capacidad y autonomía para hacer vale el bien comú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.- Si las decisiones del regulador son cuestionadas judicialmente, y los tribunales fallan tarde y mal, la regulación previa será inú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.- OJO con la costo efectividad: El regulador suele ver los beneficios, y los regulados el costo. La importancia del diálogo y comprensión recípro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.- La desconfianza público-privado aún nos pena... Y afecta fuertemente la tarea del regul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7.- ¿Y dónde está el indicador de desempeño del regulad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8.- El mercado no siempre tiene la razón. Para muestra, un par de casos de seguridad social: seguro catastrófico y rentas vitali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964720" cy="21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0eaec"/>
                </a:solidFill>
                <a:latin typeface="Arial Black"/>
              </a:rPr>
              <a:t>LA REGULACIÓN </a:t>
            </a:r>
            <a:br>
              <a:rPr sz="4800"/>
            </a:br>
            <a:r>
              <a:rPr b="0" lang="es-CL" sz="4800" spc="-1" strike="noStrike">
                <a:solidFill>
                  <a:srgbClr val="d0eaec"/>
                </a:solidFill>
                <a:latin typeface="Arial Black"/>
              </a:rPr>
              <a:t>DE LA </a:t>
            </a:r>
            <a:br>
              <a:rPr sz="4800"/>
            </a:br>
            <a:r>
              <a:rPr b="0" lang="es-CL" sz="4800" spc="-1" strike="noStrike">
                <a:solidFill>
                  <a:srgbClr val="d0eaec"/>
                </a:solidFill>
                <a:latin typeface="Arial Black"/>
              </a:rPr>
              <a:t>ACTIVIDAD ECONÓM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43200" y="397800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UCHAS GRA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20:08:06Z</dcterms:created>
  <dc:creator>Alejandro Ferreiro Y</dc:creator>
  <dc:description/>
  <dc:language>en-US</dc:language>
  <cp:lastModifiedBy>José Inostroza</cp:lastModifiedBy>
  <dcterms:modified xsi:type="dcterms:W3CDTF">2004-11-11T20:08:15Z</dcterms:modified>
  <cp:revision>41</cp:revision>
  <dc:subject/>
  <dc:title>La regulación de las empres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03833229</vt:r8>
  </property>
  <property fmtid="{D5CDD505-2E9C-101B-9397-08002B2CF9AE}" pid="3" name="_AuthorEmail">
    <vt:lpwstr>aferreiro@svs.cl</vt:lpwstr>
  </property>
  <property fmtid="{D5CDD505-2E9C-101B-9397-08002B2CF9AE}" pid="4" name="_AuthorEmailDisplayName">
    <vt:lpwstr>Ferreiro Yazigi Alejandro</vt:lpwstr>
  </property>
  <property fmtid="{D5CDD505-2E9C-101B-9397-08002B2CF9AE}" pid="5" name="_EmailSubject">
    <vt:lpwstr>clase de mañana</vt:lpwstr>
  </property>
  <property fmtid="{D5CDD505-2E9C-101B-9397-08002B2CF9AE}" pid="6" name="_ReviewingToolsShownOnce">
    <vt:lpwstr/>
  </property>
</Properties>
</file>