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EAB-0416-4265-9471-C8D41951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CC4-33DB-451E-AED8-936C00B4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986-E7AD-444E-BA3C-D4C93E9D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8E3-D75F-4CE1-9C5A-CAFCA1A1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A9D-6242-4935-B981-1DCAFA40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381-E0B0-48FD-8F91-6B4EC4C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24F-B38C-41DC-8B59-CEA37570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C21-46D2-4063-83BA-2D41E620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008-C472-4CC7-A6AB-E6C94601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97C-5DCA-41E8-BC57-460C106A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1A6-F322-4E4C-9136-7F7B31D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F90-B7E3-4377-8858-8164106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A2D6-DFCF-44DA-A85B-1D929E916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000099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antiago, 12 de noviembre d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esora: Alejandra Miz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tor: Alejandro Ferr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de 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Fundamentos de la intervención del Estado en la Economí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políticas redistribu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cción de desequilib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líticas de subsidios sec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g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La regulación del Estado: su justificación y sus lí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mer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etencia im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de trans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s fallas del 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lanteamientos de la escuela positiva o el cuestionamiento a los méritos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riesgo de cap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asimetrías de información en contr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en controla o gobierna al regulador? ¿A qué señales respo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nomía o dependencia política del regu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¿Cómo medir la calidad de la regul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tin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osto efectividad de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adecuación a los estándar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ficiencia del mercado regulado y la satisfacción de los consum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-4813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La autor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s posibles de la autor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diciones para su aplicación exitosa y ef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dudas acerca de la autorregulación y su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álisis de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9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5. La regulación de la libr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96720" indent="-4532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Porqué propiciar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 co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institucionalidad de la libre competencia en Ch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Tribunal de Defensa de la Libre 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 El DL. 211de 19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63560" indent="-5180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bate de actualidad (pasado y futuro): ¿Cómo discernir si una fusión es contraria a la libre competenc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álisis de mercad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dices de concentra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arreras de 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asticidad de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 de bienes sustit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247840" indent="-4320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 de monitoreo y sanción ex post de abusos de posición domin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66"/>
                </a:solidFill>
                <a:latin typeface="Arial Black"/>
              </a:rPr>
              <a:t>Síntes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6200" y="1628640"/>
            <a:ext cx="8497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6.- Los desafíos futuros de la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iliar la seguridad jurídica con la adaptabilidad oportuna y riguro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monizar la regulación administrativa y la resolución oportuna de conflictos regulatorios mediante resoluciones judiciales especializadas y oportu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autonomía de los reguladores ... Y una contrapartida necesaria, más accountability y procesos de selección con alta preeminencia téc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globalización de la regulación: ¿Cuánta soberanía pierde (y debe perder) el regulador local frente a los estándares internacion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7.- Algunas lecciones aprend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- La regulación y el fin de la guerra fría: una buena síntesis para el armisticio final entre el Estado y el Mer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- Es mejor regular ex ante... después es casi im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- No subestimar el lobby:.. y por tanto refuerce su capacidad y autonomía para hacer vale el bien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.- Si las decisiones del regulador son cuestionadas judicialmente, y los tribunales fallan tarde y mal, la regulación previa será inú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.- OJO con la costo efectividad: El regulador suele ver los beneficios, y los regulados el costo. La importancia del diálogo y comprensión recípro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.- La desconfianza público-privado aún nos pena... Y afecta fuertemente la tarea del regu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7.- ¿Y dónde está el indicador de desempeño del regulad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.- El mercado no siempre tiene la razón. Para muestra, un par de casos de seguridad social: seguro catastrófico y rentas vitalic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ff"/>
            </a:gs>
            <a:gs pos="50000">
              <a:srgbClr val="d0eaec"/>
            </a:gs>
            <a:gs pos="100000">
              <a:srgbClr val="a1a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896472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LA REGULACIÓN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DE LA </a:t>
            </a:r>
            <a:br>
              <a:rPr sz="4800"/>
            </a:br>
            <a:r>
              <a:rPr b="0" lang="es-CL" sz="4800" spc="-1" strike="noStrike">
                <a:solidFill>
                  <a:srgbClr val="d0eaec"/>
                </a:solidFill>
                <a:latin typeface="Arial Black"/>
              </a:rPr>
              <a:t>ACTIVIDAD ECONÓM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43200" y="397800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20:08:06Z</dcterms:created>
  <dc:creator>Alejandro Ferreiro Y</dc:creator>
  <dc:description/>
  <dc:language>en-US</dc:language>
  <cp:lastModifiedBy>José Inostroza</cp:lastModifiedBy>
  <dcterms:modified xsi:type="dcterms:W3CDTF">2004-11-11T20:08:15Z</dcterms:modified>
  <cp:revision>41</cp:revision>
  <dc:subject/>
  <dc:title>La regulación de las empres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3833229</vt:r8>
  </property>
  <property fmtid="{D5CDD505-2E9C-101B-9397-08002B2CF9AE}" pid="3" name="_AuthorEmail">
    <vt:lpwstr>aferreiro@svs.cl</vt:lpwstr>
  </property>
  <property fmtid="{D5CDD505-2E9C-101B-9397-08002B2CF9AE}" pid="4" name="_AuthorEmailDisplayName">
    <vt:lpwstr>Ferreiro Yazigi Alejandro</vt:lpwstr>
  </property>
  <property fmtid="{D5CDD505-2E9C-101B-9397-08002B2CF9AE}" pid="5" name="_EmailSubject">
    <vt:lpwstr>clase de mañana</vt:lpwstr>
  </property>
  <property fmtid="{D5CDD505-2E9C-101B-9397-08002B2CF9AE}" pid="6" name="_ReviewingToolsShownOnce">
    <vt:lpwstr/>
  </property>
</Properties>
</file>