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D17E-1C4A-40DD-B747-7F4152CDB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9B6F-C2F5-4EB3-BCC3-614BEE23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108E-59FD-4634-BFF4-0832D10EA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8CC3-3DFF-46B0-89E6-9789B9249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E683-6BE6-4C0C-AB61-4D7BEEFA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CD71-2697-42BC-8F62-400761A1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8611-84D9-4AD0-A4DF-620FCE32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7039-8016-49A9-8E1E-5ABBCDBE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F695-02D5-4AFB-8659-C0CC46B8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0BA4-39F0-43CD-B6AE-A2126510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8D64-A5C8-4519-8CCA-D4725201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F7DB-5282-479D-BE77-33A3F595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2520-AABF-42D2-8D81-ADCB7951AC1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22560" y="1628640"/>
            <a:ext cx="6121440" cy="28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CAMBIO CULTUR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11280" y="434988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ALGUNAS TENDENCIAS ACTU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35280" y="1989000"/>
            <a:ext cx="640872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44000" y="5516640"/>
            <a:ext cx="53316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640" y="4035600"/>
            <a:ext cx="70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Transitamos de los colectivos a los individuos y de la historia a la biografí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0200" y="1484280"/>
            <a:ext cx="734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¿CUÁL ES EL EJE Y MOTOR DE LA SOCIEDA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3284640"/>
            <a:ext cx="698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1484280"/>
            <a:ext cx="79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¿QUÉ ES VERDAD, QUÉ ILUSIÓN O FALSA PROMES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3440" y="4137120"/>
            <a:ext cx="719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asamos de la palabra a la experiencia y de la adhesión a la evaluació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58920" y="335772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58920" y="1341360"/>
            <a:ext cx="756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¿CUAL ES EL TAMAÑO DE MI MUNDO Y EL LARGO DE MI VID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74920" y="3645000"/>
            <a:ext cx="727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85840" y="4307040"/>
            <a:ext cx="78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El tiempo y el espacio significativo se nos contra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6720" y="3213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1484280"/>
            <a:ext cx="68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¿CUÁL ES NUESTRA HUELLA EN EL MU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3860640"/>
            <a:ext cx="63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articipamos cada vez más para incidir cada vez men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5080" y="3213000"/>
            <a:ext cx="719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148428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¿QUÉ PASA CON LAS IDENTIDADES PERSONA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3860640"/>
            <a:ext cx="69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El cuerpo de mujer, el camino propio de los jóvenes y el desconcierto masculin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32000" y="1628640"/>
            <a:ext cx="72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¿QUÉ NOS MANTIENE JUNT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24000" y="3213000"/>
            <a:ext cx="57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0920" y="4076640"/>
            <a:ext cx="60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La reducción del miedo a las diferenci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87280" y="177336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EL DESAFÍO CULTURA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79640" y="299736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3933720"/>
            <a:ext cx="63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Buscar nuevas formas de acoplar persona y socied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3:14:25Z</dcterms:created>
  <dc:creator>MSIERRA</dc:creator>
  <dc:description/>
  <dc:language>en-US</dc:language>
  <cp:lastModifiedBy>Dii</cp:lastModifiedBy>
  <dcterms:modified xsi:type="dcterms:W3CDTF">2004-09-24T15:56:56Z</dcterms:modified>
  <cp:revision>10</cp:revision>
  <dc:subject/>
  <dc:title>Diapositiva 1</dc:title>
</cp:coreProperties>
</file>